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1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0A92-F246-4FDF-A7E6-F0D5DF207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or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ganizes information under categories and subcategories using columns and 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BD45-7062-45FB-9C4D-B9232070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F90-96B2-4BF3-9F66-DBBB90A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6FB-1F57-4055-BE33-C9079EF3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925-10BB-4FC1-A5A0-A01858EA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761-9731-4D2B-9AC7-AF3F3DFD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901-8686-4F75-B0BB-07A0E9E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9AD-DB20-463B-A0BE-C0EF868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10A-B19F-4380-9827-4B2518B3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0D7-E12C-4C8C-866A-CE19A57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F87-595C-4601-86EF-93BFA0F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8DB-BBF4-4F22-A324-2A385424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74D-4D0F-46ED-88DA-177FF35B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400440"/>
            <a:ext cx="3124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Toronto District School Board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E50F-2191-4D50-BC5B-06F1510BF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ge 3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cessing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Success  @ Your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uide for Secondar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371840" y="463680"/>
            <a:ext cx="4502160" cy="5790960"/>
            <a:chOff x="4371840" y="463680"/>
            <a:chExt cx="4502160" cy="57909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371840" y="463680"/>
              <a:ext cx="450216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495680" y="609480"/>
              <a:ext cx="4267440" cy="54864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rpose of the site is clearly st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onsors of the site are clearly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tended audience of the site is cl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is free of bias and stereoty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vertising does not influence th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54800" y="304812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4" name="" descr=""/>
          <p:cNvPicPr/>
          <p:nvPr/>
        </p:nvPicPr>
        <p:blipFill>
          <a:blip r:embed="rId1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  <p:grpSp>
        <p:nvGrpSpPr>
          <p:cNvPr id="1965" name=""/>
          <p:cNvGrpSpPr/>
          <p:nvPr/>
        </p:nvGrpSpPr>
        <p:grpSpPr>
          <a:xfrm>
            <a:off x="152280" y="1752480"/>
            <a:ext cx="1482480" cy="1217520"/>
            <a:chOff x="152280" y="1752480"/>
            <a:chExt cx="1482480" cy="1217520"/>
          </a:xfrm>
        </p:grpSpPr>
        <p:grpSp>
          <p:nvGrpSpPr>
            <p:cNvPr id="1966" name=""/>
            <p:cNvGrpSpPr/>
            <p:nvPr/>
          </p:nvGrpSpPr>
          <p:grpSpPr>
            <a:xfrm>
              <a:off x="152280" y="1752480"/>
              <a:ext cx="1482480" cy="1217520"/>
              <a:chOff x="152280" y="1752480"/>
              <a:chExt cx="1482480" cy="1217520"/>
            </a:xfrm>
          </p:grpSpPr>
          <p:sp>
            <p:nvSpPr>
              <p:cNvPr id="1967" name=""/>
              <p:cNvSpPr/>
              <p:nvPr/>
            </p:nvSpPr>
            <p:spPr>
              <a:xfrm>
                <a:off x="152280" y="2341440"/>
                <a:ext cx="451800" cy="61920"/>
              </a:xfrm>
              <a:custGeom>
                <a:avLst/>
                <a:gdLst/>
                <a:ahLst/>
                <a:rect l="l" t="t" r="r" b="b"/>
                <a:pathLst>
                  <a:path w="455" h="50">
                    <a:moveTo>
                      <a:pt x="0" y="0"/>
                    </a:moveTo>
                    <a:lnTo>
                      <a:pt x="455" y="0"/>
                    </a:lnTo>
                    <a:lnTo>
                      <a:pt x="415" y="50"/>
                    </a:lnTo>
                    <a:lnTo>
                      <a:pt x="4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52280" y="2341440"/>
                <a:ext cx="451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564480" y="2341440"/>
                <a:ext cx="396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191520" y="2403360"/>
                <a:ext cx="372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 flipV="1">
                <a:off x="152280" y="2341440"/>
                <a:ext cx="396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52280" y="234144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182240" y="2341440"/>
                <a:ext cx="452520" cy="61920"/>
              </a:xfrm>
              <a:custGeom>
                <a:avLst/>
                <a:gdLst/>
                <a:ahLst/>
                <a:rect l="l" t="t" r="r" b="b"/>
                <a:pathLst>
                  <a:path w="456" h="50">
                    <a:moveTo>
                      <a:pt x="0" y="0"/>
                    </a:moveTo>
                    <a:lnTo>
                      <a:pt x="456" y="0"/>
                    </a:lnTo>
                    <a:lnTo>
                      <a:pt x="415" y="50"/>
                    </a:lnTo>
                    <a:lnTo>
                      <a:pt x="4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182240" y="2341440"/>
                <a:ext cx="452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1594440" y="2341440"/>
                <a:ext cx="4032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1222920" y="2403360"/>
                <a:ext cx="371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 flipV="1">
                <a:off x="1182240" y="2341440"/>
                <a:ext cx="4032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182240" y="234144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63280" y="1752480"/>
                <a:ext cx="58320" cy="968760"/>
              </a:xfrm>
              <a:prstGeom prst="rect">
                <a:avLst/>
              </a:prstGeom>
              <a:solidFill>
                <a:srgbClr val="ff85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61440" y="1860840"/>
                <a:ext cx="1061640" cy="32040"/>
              </a:xfrm>
              <a:prstGeom prst="rect">
                <a:avLst/>
              </a:prstGeom>
              <a:solidFill>
                <a:srgbClr val="ff85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839520" y="2709720"/>
                <a:ext cx="108000" cy="7956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20" y="0"/>
                    </a:moveTo>
                    <a:lnTo>
                      <a:pt x="88" y="0"/>
                    </a:lnTo>
                    <a:lnTo>
                      <a:pt x="92" y="0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2" y="7"/>
                    </a:lnTo>
                    <a:lnTo>
                      <a:pt x="106" y="10"/>
                    </a:lnTo>
                    <a:lnTo>
                      <a:pt x="106" y="14"/>
                    </a:lnTo>
                    <a:lnTo>
                      <a:pt x="109" y="14"/>
                    </a:lnTo>
                    <a:lnTo>
                      <a:pt x="109" y="18"/>
                    </a:lnTo>
                    <a:lnTo>
                      <a:pt x="109" y="2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6" y="55"/>
                    </a:lnTo>
                    <a:lnTo>
                      <a:pt x="106" y="58"/>
                    </a:lnTo>
                    <a:lnTo>
                      <a:pt x="102" y="58"/>
                    </a:lnTo>
                    <a:lnTo>
                      <a:pt x="99" y="61"/>
                    </a:lnTo>
                    <a:lnTo>
                      <a:pt x="96" y="64"/>
                    </a:lnTo>
                    <a:lnTo>
                      <a:pt x="92" y="64"/>
                    </a:lnTo>
                    <a:lnTo>
                      <a:pt x="88" y="64"/>
                    </a:lnTo>
                    <a:lnTo>
                      <a:pt x="20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9" y="61"/>
                    </a:lnTo>
                    <a:lnTo>
                      <a:pt x="6" y="61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59320" y="2709720"/>
                <a:ext cx="6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926640" y="270972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930960" y="2709720"/>
                <a:ext cx="3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93492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937800" y="271512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940680" y="271872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945000" y="272232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945000" y="27273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947880" y="272736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947880" y="27324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947880" y="2736000"/>
                <a:ext cx="72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947880" y="27648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947880" y="27684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945000" y="277236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945000" y="27784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>
                <a:off x="940320" y="278208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>
                <a:off x="937800" y="27820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934920" y="27856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930600" y="278964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926280" y="278964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>
                <a:off x="858960" y="2789640"/>
                <a:ext cx="6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>
                <a:off x="856440" y="27896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>
                <a:off x="851040" y="278964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848520" y="27856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>
                <a:off x="845640" y="27856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845640" y="27820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>
                <a:off x="842400" y="2782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839520" y="27784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839520" y="2772000"/>
                <a:ext cx="10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839520" y="27684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839520" y="27648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839520" y="2735640"/>
                <a:ext cx="108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839520" y="27324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V="1">
                <a:off x="839520" y="272736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839520" y="27223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839520" y="27223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842400" y="27187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842400" y="2718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845640" y="271512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84564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84852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851400" y="27097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851400" y="27097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856440" y="2709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859320" y="2709720"/>
                <a:ext cx="1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805680" y="2778480"/>
                <a:ext cx="175680" cy="44280"/>
              </a:xfrm>
              <a:custGeom>
                <a:avLst/>
                <a:gdLst/>
                <a:ahLst/>
                <a:rect l="l" t="t" r="r" b="b"/>
                <a:pathLst>
                  <a:path w="177" h="36">
                    <a:moveTo>
                      <a:pt x="14" y="0"/>
                    </a:moveTo>
                    <a:lnTo>
                      <a:pt x="163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1" y="3"/>
                    </a:lnTo>
                    <a:lnTo>
                      <a:pt x="174" y="3"/>
                    </a:lnTo>
                    <a:lnTo>
                      <a:pt x="174" y="6"/>
                    </a:lnTo>
                    <a:lnTo>
                      <a:pt x="174" y="9"/>
                    </a:lnTo>
                    <a:lnTo>
                      <a:pt x="177" y="9"/>
                    </a:lnTo>
                    <a:lnTo>
                      <a:pt x="177" y="12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4" y="27"/>
                    </a:lnTo>
                    <a:lnTo>
                      <a:pt x="174" y="30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6"/>
                    </a:lnTo>
                    <a:lnTo>
                      <a:pt x="168" y="36"/>
                    </a:lnTo>
                    <a:lnTo>
                      <a:pt x="163" y="36"/>
                    </a:lnTo>
                    <a:lnTo>
                      <a:pt x="14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819720" y="2778480"/>
                <a:ext cx="147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967680" y="277848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972720" y="27784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975600" y="277848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975600" y="2782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978480" y="27820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978480" y="27856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978480" y="27896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981720" y="278964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981720" y="2793600"/>
                <a:ext cx="72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981720" y="280692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H="1">
                <a:off x="978480" y="28119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978480" y="281196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978480" y="281592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>
                <a:off x="975600" y="28195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975600" y="28195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97272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>
                <a:off x="967320" y="28231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>
                <a:off x="819360" y="2823120"/>
                <a:ext cx="147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H="1">
                <a:off x="814320" y="28231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H="1">
                <a:off x="81180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80856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808560" y="28195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H="1" flipV="1">
                <a:off x="805680" y="281592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805680" y="281196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805680" y="28069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805680" y="2793240"/>
                <a:ext cx="10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805680" y="278964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805680" y="278568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805680" y="27820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808560" y="27784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11800" y="27784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14680" y="277848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819720" y="27784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94440" y="2819520"/>
                <a:ext cx="395280" cy="149040"/>
              </a:xfrm>
              <a:custGeom>
                <a:avLst/>
                <a:gdLst/>
                <a:ahLst/>
                <a:rect l="l" t="t" r="r" b="b"/>
                <a:pathLst>
                  <a:path w="398" h="120">
                    <a:moveTo>
                      <a:pt x="99" y="0"/>
                    </a:moveTo>
                    <a:lnTo>
                      <a:pt x="298" y="0"/>
                    </a:lnTo>
                    <a:lnTo>
                      <a:pt x="398" y="90"/>
                    </a:lnTo>
                    <a:lnTo>
                      <a:pt x="398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92720" y="2819520"/>
                <a:ext cx="197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990360" y="2819520"/>
                <a:ext cx="99000" cy="11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089720" y="2931480"/>
                <a:ext cx="108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H="1">
                <a:off x="694440" y="2968920"/>
                <a:ext cx="395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694440" y="2931120"/>
                <a:ext cx="108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94440" y="2819160"/>
                <a:ext cx="98280" cy="11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92720" y="28195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172080" y="1888920"/>
                <a:ext cx="20340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75480" y="1889280"/>
                <a:ext cx="20844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68840" y="2352600"/>
                <a:ext cx="415080" cy="21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81080" y="2357640"/>
                <a:ext cx="52200" cy="4212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0" y="0"/>
                    </a:moveTo>
                    <a:lnTo>
                      <a:pt x="36" y="0"/>
                    </a:lnTo>
                    <a:lnTo>
                      <a:pt x="53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181080" y="2357640"/>
                <a:ext cx="352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16360" y="2357640"/>
                <a:ext cx="1656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H="1">
                <a:off x="203760" y="2399760"/>
                <a:ext cx="295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 flipV="1">
                <a:off x="180720" y="2357280"/>
                <a:ext cx="2268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81080" y="235764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1202040" y="1888920"/>
                <a:ext cx="20448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406520" y="1889280"/>
                <a:ext cx="20844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199160" y="2352600"/>
                <a:ext cx="415800" cy="21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212120" y="2357640"/>
                <a:ext cx="53280" cy="4212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0"/>
                    </a:moveTo>
                    <a:lnTo>
                      <a:pt x="37" y="0"/>
                    </a:lnTo>
                    <a:lnTo>
                      <a:pt x="54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212120" y="2357640"/>
                <a:ext cx="363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248840" y="2357640"/>
                <a:ext cx="1656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H="1">
                <a:off x="1234440" y="2399760"/>
                <a:ext cx="3060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 flipV="1">
                <a:off x="1211760" y="2357280"/>
                <a:ext cx="2268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212120" y="235764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876240" y="1763640"/>
                <a:ext cx="15840" cy="951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72600" y="1879200"/>
                <a:ext cx="10407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862560" y="1889280"/>
                <a:ext cx="58320" cy="3600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9"/>
                    </a:lnTo>
                    <a:lnTo>
                      <a:pt x="59" y="12"/>
                    </a:lnTo>
                    <a:lnTo>
                      <a:pt x="56" y="20"/>
                    </a:lnTo>
                    <a:lnTo>
                      <a:pt x="50" y="23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3" y="23"/>
                    </a:lnTo>
                    <a:lnTo>
                      <a:pt x="6" y="20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920880" y="1889280"/>
                <a:ext cx="7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920880" y="190044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918000" y="190440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911880" y="191412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903600" y="1918080"/>
                <a:ext cx="75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>
                <a:off x="897840" y="192168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892080" y="192528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>
                <a:off x="889200" y="19252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 flipV="1">
                <a:off x="882000" y="192168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874800" y="191808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 flipV="1">
                <a:off x="867960" y="191412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865440" y="19040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 flipV="1">
                <a:off x="86256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V="1">
                <a:off x="862560" y="1888920"/>
                <a:ext cx="7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862560" y="1889280"/>
                <a:ext cx="58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920880" y="18892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52440" y="1845720"/>
                <a:ext cx="42480" cy="583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0"/>
                    </a:moveTo>
                    <a:lnTo>
                      <a:pt x="26" y="0"/>
                    </a:lnTo>
                    <a:lnTo>
                      <a:pt x="29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0" y="3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7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7548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7836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81600" y="184572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8628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8952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9240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95280" y="1863360"/>
                <a:ext cx="7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95280" y="1868040"/>
                <a:ext cx="72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95280" y="18756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95280" y="18792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92400" y="18831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89520" y="1886760"/>
                <a:ext cx="28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386280" y="18968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381240" y="1896840"/>
                <a:ext cx="46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37836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>
                <a:off x="37548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flipV="1">
                <a:off x="369360" y="190044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>
                <a:off x="36648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flipV="1">
                <a:off x="361080" y="1896840"/>
                <a:ext cx="46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358560" y="18968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flipV="1">
                <a:off x="355680" y="1886760"/>
                <a:ext cx="28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flipV="1">
                <a:off x="352440" y="18831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352440" y="18792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V="1">
                <a:off x="352440" y="18756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V="1">
                <a:off x="352440" y="1867680"/>
                <a:ext cx="108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V="1">
                <a:off x="352440" y="1863000"/>
                <a:ext cx="10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V="1">
                <a:off x="35244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V="1">
                <a:off x="35568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5856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V="1">
                <a:off x="361440" y="184536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6648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369360" y="184572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75480" y="18457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60720" y="1850400"/>
                <a:ext cx="11880" cy="4608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9" y="0"/>
                    </a:moveTo>
                    <a:lnTo>
                      <a:pt x="6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6" y="34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366480" y="185040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363600" y="185436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63600" y="1858320"/>
                <a:ext cx="72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360720" y="18633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60720" y="1863360"/>
                <a:ext cx="72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60720" y="1868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60720" y="18716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60720" y="18756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60720" y="18792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60720" y="18831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63600" y="188316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63600" y="18892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6480" y="18928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6936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>
                <a:off x="36936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369360" y="18928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369360" y="18892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H="1">
                <a:off x="366480" y="188928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66480" y="1882800"/>
                <a:ext cx="10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366480" y="18792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V="1">
                <a:off x="366480" y="18756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366480" y="18716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366480" y="18680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66480" y="18680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V="1">
                <a:off x="369360" y="1863000"/>
                <a:ext cx="108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152280" y="1830960"/>
              <a:ext cx="1482480" cy="1135080"/>
              <a:chOff x="152280" y="1830960"/>
              <a:chExt cx="1482480" cy="1135080"/>
            </a:xfrm>
          </p:grpSpPr>
          <p:sp>
            <p:nvSpPr>
              <p:cNvPr id="2168" name=""/>
              <p:cNvSpPr/>
              <p:nvPr/>
            </p:nvSpPr>
            <p:spPr>
              <a:xfrm flipV="1">
                <a:off x="369360" y="185832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369360" y="1854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V="1">
                <a:off x="369360" y="18504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69360" y="1850400"/>
                <a:ext cx="10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1387800" y="18457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0" y="0"/>
                    </a:moveTo>
                    <a:lnTo>
                      <a:pt x="26" y="0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4" y="14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44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3" y="44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9" y="44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407600" y="184572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1413720" y="1845720"/>
                <a:ext cx="39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1417680" y="185040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1420560" y="185040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42452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427760" y="1858320"/>
                <a:ext cx="36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431360" y="1863360"/>
                <a:ext cx="10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431360" y="18716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1431360" y="18756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1431360" y="1879200"/>
                <a:ext cx="10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>
                <a:off x="1427760" y="1886760"/>
                <a:ext cx="36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>
                <a:off x="1424520" y="18928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>
                <a:off x="1420200" y="189684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>
                <a:off x="141768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>
                <a:off x="1413360" y="190044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>
                <a:off x="1407600" y="190404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>
                <a:off x="1404720" y="19040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 flipV="1">
                <a:off x="140184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flipH="1">
                <a:off x="1396440" y="190044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H="1" flipV="1">
                <a:off x="1393920" y="18968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H="1" flipV="1">
                <a:off x="1391040" y="18928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H="1" flipV="1">
                <a:off x="1387800" y="188640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V="1">
                <a:off x="1387800" y="1879200"/>
                <a:ext cx="10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1387800" y="18756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V="1">
                <a:off x="1387800" y="187164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>
                <a:off x="1387800" y="1863000"/>
                <a:ext cx="10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138780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V="1">
                <a:off x="139104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139392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1396800" y="185040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1401840" y="1845360"/>
                <a:ext cx="28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40472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407600" y="18457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393920" y="185436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10" y="0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3" y="28"/>
                    </a:lnTo>
                    <a:lnTo>
                      <a:pt x="6" y="31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0" y="34"/>
                    </a:lnTo>
                    <a:lnTo>
                      <a:pt x="10" y="31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>
                <a:off x="1399320" y="185436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399680" y="1854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>
                <a:off x="1396800" y="185832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396800" y="185832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>
                <a:off x="1393920" y="1861920"/>
                <a:ext cx="28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393920" y="1868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393920" y="18716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393920" y="18756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393920" y="18792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393920" y="1883160"/>
                <a:ext cx="28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396800" y="18892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399680" y="189288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40364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flipH="1">
                <a:off x="140364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1403640" y="189288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flipV="1">
                <a:off x="1403640" y="188928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1399320" y="188928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1399680" y="1882800"/>
                <a:ext cx="10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1399680" y="18792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V="1">
                <a:off x="1399680" y="18756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1399680" y="18716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V="1">
                <a:off x="1399680" y="186804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1403640" y="186156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1403640" y="185832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V="1">
                <a:off x="1403640" y="185436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403640" y="185436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7320" y="2931120"/>
                <a:ext cx="39204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29360" y="2819160"/>
                <a:ext cx="113040" cy="145440"/>
              </a:xfrm>
              <a:custGeom>
                <a:avLst/>
                <a:gdLst/>
                <a:ahLst/>
                <a:rect l="l" t="t" r="r" b="b"/>
                <a:pathLst>
                  <a:path w="114" h="117">
                    <a:moveTo>
                      <a:pt x="64" y="117"/>
                    </a:moveTo>
                    <a:lnTo>
                      <a:pt x="0" y="117"/>
                    </a:lnTo>
                    <a:lnTo>
                      <a:pt x="0" y="87"/>
                    </a:lnTo>
                    <a:lnTo>
                      <a:pt x="91" y="0"/>
                    </a:lnTo>
                    <a:lnTo>
                      <a:pt x="114" y="0"/>
                    </a:lnTo>
                    <a:lnTo>
                      <a:pt x="64" y="90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729360" y="2964960"/>
                <a:ext cx="63360" cy="1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flipV="1">
                <a:off x="729360" y="2927160"/>
                <a:ext cx="720" cy="37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V="1">
                <a:off x="729360" y="2818800"/>
                <a:ext cx="90000" cy="10836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819720" y="2819160"/>
                <a:ext cx="22680" cy="1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H="1">
                <a:off x="792360" y="2819160"/>
                <a:ext cx="49320" cy="11196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2720" y="2931120"/>
                <a:ext cx="720" cy="334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2720" y="2964960"/>
                <a:ext cx="720" cy="1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822600" y="2709720"/>
                <a:ext cx="69480" cy="10944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53" y="0"/>
                    </a:moveTo>
                    <a:lnTo>
                      <a:pt x="49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0" y="7"/>
                    </a:lnTo>
                    <a:lnTo>
                      <a:pt x="37" y="7"/>
                    </a:lnTo>
                    <a:lnTo>
                      <a:pt x="37" y="10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9" y="21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4" y="53"/>
                    </a:lnTo>
                    <a:lnTo>
                      <a:pt x="9" y="53"/>
                    </a:lnTo>
                    <a:lnTo>
                      <a:pt x="6" y="53"/>
                    </a:lnTo>
                    <a:lnTo>
                      <a:pt x="3" y="58"/>
                    </a:lnTo>
                    <a:lnTo>
                      <a:pt x="3" y="61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20" y="88"/>
                    </a:lnTo>
                    <a:lnTo>
                      <a:pt x="20" y="67"/>
                    </a:lnTo>
                    <a:lnTo>
                      <a:pt x="20" y="64"/>
                    </a:lnTo>
                    <a:lnTo>
                      <a:pt x="23" y="61"/>
                    </a:lnTo>
                    <a:lnTo>
                      <a:pt x="26" y="58"/>
                    </a:lnTo>
                    <a:lnTo>
                      <a:pt x="29" y="58"/>
                    </a:lnTo>
                    <a:lnTo>
                      <a:pt x="32" y="53"/>
                    </a:lnTo>
                    <a:lnTo>
                      <a:pt x="37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21"/>
                    </a:lnTo>
                    <a:lnTo>
                      <a:pt x="53" y="18"/>
                    </a:lnTo>
                    <a:lnTo>
                      <a:pt x="53" y="14"/>
                    </a:lnTo>
                    <a:lnTo>
                      <a:pt x="56" y="14"/>
                    </a:lnTo>
                    <a:lnTo>
                      <a:pt x="56" y="10"/>
                    </a:lnTo>
                    <a:lnTo>
                      <a:pt x="60" y="7"/>
                    </a:lnTo>
                    <a:lnTo>
                      <a:pt x="63" y="4"/>
                    </a:lnTo>
                    <a:lnTo>
                      <a:pt x="67" y="4"/>
                    </a:lnTo>
                    <a:lnTo>
                      <a:pt x="70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flipH="1">
                <a:off x="870840" y="2709720"/>
                <a:ext cx="396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flipH="1">
                <a:off x="868320" y="27147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H="1">
                <a:off x="865440" y="27147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flipH="1">
                <a:off x="862560" y="271476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flipH="1">
                <a:off x="859320" y="27183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859320" y="2718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flipH="1">
                <a:off x="853920" y="2721960"/>
                <a:ext cx="46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854280" y="272196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54280" y="272700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H="1">
                <a:off x="851400" y="27324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851400" y="27324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851400" y="2736000"/>
                <a:ext cx="1080" cy="39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>
                <a:off x="845640" y="2775600"/>
                <a:ext cx="57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H="1">
                <a:off x="839520" y="2775600"/>
                <a:ext cx="57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836640" y="27756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>
                <a:off x="831240" y="2775600"/>
                <a:ext cx="46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828720" y="27756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H="1">
                <a:off x="825480" y="2775600"/>
                <a:ext cx="28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825480" y="27820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H="1">
                <a:off x="822600" y="278568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822600" y="27856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822600" y="27892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822600" y="2793240"/>
                <a:ext cx="1080" cy="259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822600" y="2819160"/>
                <a:ext cx="1980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V="1">
                <a:off x="842400" y="2793240"/>
                <a:ext cx="1080" cy="259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V="1">
                <a:off x="842400" y="27892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V="1">
                <a:off x="842400" y="27856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845640" y="27820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848520" y="278208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851400" y="2775240"/>
                <a:ext cx="28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854280" y="2775600"/>
                <a:ext cx="46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859320" y="27756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862560" y="2775600"/>
                <a:ext cx="1260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875160" y="2736000"/>
                <a:ext cx="720" cy="39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875160" y="27324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875160" y="2727000"/>
                <a:ext cx="72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875160" y="272700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878040" y="272196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878040" y="271836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882360" y="271476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885240" y="271476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889200" y="2709720"/>
                <a:ext cx="28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>
                <a:off x="875160" y="2709720"/>
                <a:ext cx="165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875160" y="270972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859320" y="1830960"/>
                <a:ext cx="67320" cy="8712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33" y="0"/>
                    </a:moveTo>
                    <a:lnTo>
                      <a:pt x="39" y="0"/>
                    </a:lnTo>
                    <a:lnTo>
                      <a:pt x="45" y="3"/>
                    </a:lnTo>
                    <a:lnTo>
                      <a:pt x="53" y="6"/>
                    </a:lnTo>
                    <a:lnTo>
                      <a:pt x="59" y="9"/>
                    </a:lnTo>
                    <a:lnTo>
                      <a:pt x="62" y="17"/>
                    </a:lnTo>
                    <a:lnTo>
                      <a:pt x="65" y="23"/>
                    </a:lnTo>
                    <a:lnTo>
                      <a:pt x="68" y="30"/>
                    </a:lnTo>
                    <a:lnTo>
                      <a:pt x="68" y="37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2" y="56"/>
                    </a:lnTo>
                    <a:lnTo>
                      <a:pt x="59" y="61"/>
                    </a:lnTo>
                    <a:lnTo>
                      <a:pt x="53" y="67"/>
                    </a:lnTo>
                    <a:lnTo>
                      <a:pt x="45" y="70"/>
                    </a:lnTo>
                    <a:lnTo>
                      <a:pt x="39" y="70"/>
                    </a:lnTo>
                    <a:lnTo>
                      <a:pt x="33" y="70"/>
                    </a:lnTo>
                    <a:lnTo>
                      <a:pt x="30" y="70"/>
                    </a:lnTo>
                    <a:lnTo>
                      <a:pt x="23" y="70"/>
                    </a:lnTo>
                    <a:lnTo>
                      <a:pt x="16" y="67"/>
                    </a:lnTo>
                    <a:lnTo>
                      <a:pt x="9" y="61"/>
                    </a:lnTo>
                    <a:lnTo>
                      <a:pt x="6" y="56"/>
                    </a:lnTo>
                    <a:lnTo>
                      <a:pt x="3" y="50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3" y="23"/>
                    </a:lnTo>
                    <a:lnTo>
                      <a:pt x="6" y="17"/>
                    </a:lnTo>
                    <a:lnTo>
                      <a:pt x="9" y="9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892080" y="183096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897840" y="183096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903960" y="1834560"/>
                <a:ext cx="75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911880" y="183816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918000" y="184212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920880" y="1851840"/>
                <a:ext cx="28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923760" y="1859400"/>
                <a:ext cx="28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926640" y="1868040"/>
                <a:ext cx="10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926640" y="1876680"/>
                <a:ext cx="10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flipH="1">
                <a:off x="923760" y="1885680"/>
                <a:ext cx="28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920880" y="1892880"/>
                <a:ext cx="288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>
                <a:off x="918000" y="190044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911880" y="1906560"/>
                <a:ext cx="576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903600" y="1914120"/>
                <a:ext cx="75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897840" y="191808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>
                <a:off x="892080" y="191808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889200" y="1918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>
                <a:off x="882000" y="1918080"/>
                <a:ext cx="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 flipV="1">
                <a:off x="874800" y="191412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 flipV="1">
                <a:off x="867960" y="1906560"/>
                <a:ext cx="684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 flipV="1">
                <a:off x="865440" y="190008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 flipV="1">
                <a:off x="862560" y="1892520"/>
                <a:ext cx="288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 flipV="1">
                <a:off x="859320" y="1885680"/>
                <a:ext cx="28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859320" y="1876680"/>
                <a:ext cx="10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859320" y="1868040"/>
                <a:ext cx="10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859320" y="1859400"/>
                <a:ext cx="288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862560" y="1851840"/>
                <a:ext cx="2880" cy="7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865440" y="184176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V="1">
                <a:off x="868320" y="183816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V="1">
                <a:off x="875160" y="183456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882360" y="183096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889200" y="18309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892080" y="183096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868320" y="1842120"/>
                <a:ext cx="20880" cy="6552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0"/>
                    </a:move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7" y="44"/>
                    </a:lnTo>
                    <a:lnTo>
                      <a:pt x="10" y="47"/>
                    </a:lnTo>
                    <a:lnTo>
                      <a:pt x="14" y="50"/>
                    </a:lnTo>
                    <a:lnTo>
                      <a:pt x="17" y="50"/>
                    </a:lnTo>
                    <a:lnTo>
                      <a:pt x="21" y="53"/>
                    </a:lnTo>
                    <a:lnTo>
                      <a:pt x="21" y="50"/>
                    </a:lnTo>
                    <a:lnTo>
                      <a:pt x="17" y="50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14" y="39"/>
                    </a:lnTo>
                    <a:lnTo>
                      <a:pt x="14" y="36"/>
                    </a:lnTo>
                    <a:lnTo>
                      <a:pt x="14" y="33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882360" y="184212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>
                <a:off x="877680" y="184212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>
                <a:off x="875160" y="1845720"/>
                <a:ext cx="288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875160" y="18504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>
                <a:off x="870840" y="185436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71200" y="1854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71200" y="185832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71200" y="1863360"/>
                <a:ext cx="108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>
                <a:off x="868320" y="186804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68320" y="187164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871200" y="18756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871200" y="18792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71200" y="18831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871200" y="188676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875160" y="189072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875160" y="189684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878040" y="190044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882360" y="19040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885240" y="1904040"/>
                <a:ext cx="396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V="1">
                <a:off x="889200" y="1904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H="1">
                <a:off x="884880" y="1904040"/>
                <a:ext cx="39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885240" y="19004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 flipV="1">
                <a:off x="882360" y="189684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882360" y="189036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V="1">
                <a:off x="882360" y="188676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V="1">
                <a:off x="882360" y="188316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V="1">
                <a:off x="882360" y="18792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882360" y="18756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882360" y="18716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882360" y="1868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V="1">
                <a:off x="882360" y="1863000"/>
                <a:ext cx="72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882360" y="1858320"/>
                <a:ext cx="28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V="1">
                <a:off x="885240" y="185436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V="1">
                <a:off x="885240" y="18504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V="1">
                <a:off x="885240" y="1845360"/>
                <a:ext cx="72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flipV="1">
                <a:off x="885240" y="184212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885240" y="184212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52280" y="2341080"/>
                <a:ext cx="451800" cy="61920"/>
              </a:xfrm>
              <a:custGeom>
                <a:avLst/>
                <a:gdLst/>
                <a:ahLst/>
                <a:rect l="l" t="t" r="r" b="b"/>
                <a:pathLst>
                  <a:path w="455" h="50">
                    <a:moveTo>
                      <a:pt x="0" y="0"/>
                    </a:moveTo>
                    <a:lnTo>
                      <a:pt x="455" y="0"/>
                    </a:lnTo>
                    <a:lnTo>
                      <a:pt x="415" y="50"/>
                    </a:lnTo>
                    <a:lnTo>
                      <a:pt x="4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52280" y="2341080"/>
                <a:ext cx="451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564480" y="2341080"/>
                <a:ext cx="396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>
                <a:off x="191520" y="2403360"/>
                <a:ext cx="372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H="1" flipV="1">
                <a:off x="152280" y="2341080"/>
                <a:ext cx="396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52280" y="23410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182240" y="2341080"/>
                <a:ext cx="452520" cy="61920"/>
              </a:xfrm>
              <a:custGeom>
                <a:avLst/>
                <a:gdLst/>
                <a:ahLst/>
                <a:rect l="l" t="t" r="r" b="b"/>
                <a:pathLst>
                  <a:path w="456" h="50">
                    <a:moveTo>
                      <a:pt x="0" y="0"/>
                    </a:moveTo>
                    <a:lnTo>
                      <a:pt x="456" y="0"/>
                    </a:lnTo>
                    <a:lnTo>
                      <a:pt x="415" y="50"/>
                    </a:lnTo>
                    <a:lnTo>
                      <a:pt x="4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182240" y="2341080"/>
                <a:ext cx="452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1594440" y="2341080"/>
                <a:ext cx="4032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168840" y="1752480"/>
              <a:ext cx="1445760" cy="1217520"/>
              <a:chOff x="168840" y="1752480"/>
              <a:chExt cx="1445760" cy="1217520"/>
            </a:xfrm>
          </p:grpSpPr>
          <p:sp>
            <p:nvSpPr>
              <p:cNvPr id="2369" name=""/>
              <p:cNvSpPr/>
              <p:nvPr/>
            </p:nvSpPr>
            <p:spPr>
              <a:xfrm flipH="1">
                <a:off x="1222560" y="2403360"/>
                <a:ext cx="3715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 flipV="1">
                <a:off x="1181880" y="2341440"/>
                <a:ext cx="4032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181880" y="234144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62920" y="1752480"/>
                <a:ext cx="58320" cy="96876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61440" y="1860840"/>
                <a:ext cx="1061640" cy="3204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839160" y="2709720"/>
                <a:ext cx="108000" cy="7956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20" y="0"/>
                    </a:moveTo>
                    <a:lnTo>
                      <a:pt x="88" y="0"/>
                    </a:lnTo>
                    <a:lnTo>
                      <a:pt x="92" y="0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2" y="7"/>
                    </a:lnTo>
                    <a:lnTo>
                      <a:pt x="106" y="10"/>
                    </a:lnTo>
                    <a:lnTo>
                      <a:pt x="106" y="14"/>
                    </a:lnTo>
                    <a:lnTo>
                      <a:pt x="109" y="14"/>
                    </a:lnTo>
                    <a:lnTo>
                      <a:pt x="109" y="18"/>
                    </a:lnTo>
                    <a:lnTo>
                      <a:pt x="109" y="2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6" y="55"/>
                    </a:lnTo>
                    <a:lnTo>
                      <a:pt x="106" y="58"/>
                    </a:lnTo>
                    <a:lnTo>
                      <a:pt x="102" y="58"/>
                    </a:lnTo>
                    <a:lnTo>
                      <a:pt x="99" y="61"/>
                    </a:lnTo>
                    <a:lnTo>
                      <a:pt x="96" y="64"/>
                    </a:lnTo>
                    <a:lnTo>
                      <a:pt x="92" y="64"/>
                    </a:lnTo>
                    <a:lnTo>
                      <a:pt x="88" y="64"/>
                    </a:lnTo>
                    <a:lnTo>
                      <a:pt x="20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9" y="61"/>
                    </a:lnTo>
                    <a:lnTo>
                      <a:pt x="6" y="61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58960" y="2709720"/>
                <a:ext cx="6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926640" y="270972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930600" y="2709720"/>
                <a:ext cx="3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93456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937440" y="271512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940320" y="271872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944640" y="272232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944640" y="27273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947520" y="272736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947520" y="27324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947520" y="2736000"/>
                <a:ext cx="72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947520" y="27648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947520" y="27684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944640" y="2772360"/>
                <a:ext cx="28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944640" y="27784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>
                <a:off x="939960" y="278208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937440" y="27820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934560" y="27856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930240" y="278964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926280" y="2789640"/>
                <a:ext cx="3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>
                <a:off x="858600" y="2789640"/>
                <a:ext cx="67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>
                <a:off x="856080" y="27896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850680" y="278964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 flipV="1">
                <a:off x="848160" y="27856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>
                <a:off x="845280" y="27856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845280" y="27820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>
                <a:off x="842040" y="2782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flipV="1">
                <a:off x="839160" y="27784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839160" y="2772000"/>
                <a:ext cx="10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839160" y="27684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839160" y="27648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839160" y="2735640"/>
                <a:ext cx="108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839160" y="27324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839160" y="272736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839160" y="27223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839160" y="27223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842040" y="27187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842040" y="2718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845280" y="271512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84528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848160" y="2715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851040" y="27097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51040" y="27097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856080" y="2709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858960" y="2709720"/>
                <a:ext cx="10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805320" y="2778480"/>
                <a:ext cx="175680" cy="44280"/>
              </a:xfrm>
              <a:custGeom>
                <a:avLst/>
                <a:gdLst/>
                <a:ahLst/>
                <a:rect l="l" t="t" r="r" b="b"/>
                <a:pathLst>
                  <a:path w="177" h="36">
                    <a:moveTo>
                      <a:pt x="14" y="0"/>
                    </a:moveTo>
                    <a:lnTo>
                      <a:pt x="163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1" y="3"/>
                    </a:lnTo>
                    <a:lnTo>
                      <a:pt x="174" y="3"/>
                    </a:lnTo>
                    <a:lnTo>
                      <a:pt x="174" y="6"/>
                    </a:lnTo>
                    <a:lnTo>
                      <a:pt x="174" y="9"/>
                    </a:lnTo>
                    <a:lnTo>
                      <a:pt x="177" y="9"/>
                    </a:lnTo>
                    <a:lnTo>
                      <a:pt x="177" y="12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4" y="27"/>
                    </a:lnTo>
                    <a:lnTo>
                      <a:pt x="174" y="30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6"/>
                    </a:lnTo>
                    <a:lnTo>
                      <a:pt x="168" y="36"/>
                    </a:lnTo>
                    <a:lnTo>
                      <a:pt x="163" y="36"/>
                    </a:lnTo>
                    <a:lnTo>
                      <a:pt x="14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19360" y="2778480"/>
                <a:ext cx="147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967320" y="277848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972360" y="27784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975240" y="277848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975240" y="27820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978120" y="27820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978120" y="278568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978120" y="27896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981360" y="278964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981360" y="2793600"/>
                <a:ext cx="72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981360" y="2806920"/>
                <a:ext cx="7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>
                <a:off x="978120" y="281196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978120" y="281196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978120" y="281592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>
                <a:off x="975240" y="28195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975240" y="28195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>
                <a:off x="97236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>
                <a:off x="966960" y="28231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>
                <a:off x="819000" y="2823120"/>
                <a:ext cx="147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>
                <a:off x="813960" y="282312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>
                <a:off x="81144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>
                <a:off x="808200" y="28231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808200" y="281952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 flipV="1">
                <a:off x="805320" y="281592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805320" y="281196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805320" y="2806920"/>
                <a:ext cx="1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805320" y="2793240"/>
                <a:ext cx="10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805320" y="278964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805320" y="278568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805320" y="27820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808200" y="277848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11440" y="27784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814320" y="2778480"/>
                <a:ext cx="4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19360" y="27784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94080" y="2819520"/>
                <a:ext cx="395280" cy="149040"/>
              </a:xfrm>
              <a:custGeom>
                <a:avLst/>
                <a:gdLst/>
                <a:ahLst/>
                <a:rect l="l" t="t" r="r" b="b"/>
                <a:pathLst>
                  <a:path w="398" h="120">
                    <a:moveTo>
                      <a:pt x="99" y="0"/>
                    </a:moveTo>
                    <a:lnTo>
                      <a:pt x="298" y="0"/>
                    </a:lnTo>
                    <a:lnTo>
                      <a:pt x="398" y="90"/>
                    </a:lnTo>
                    <a:lnTo>
                      <a:pt x="398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92360" y="2819520"/>
                <a:ext cx="197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90000" y="2819520"/>
                <a:ext cx="99000" cy="11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089360" y="2931480"/>
                <a:ext cx="108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>
                <a:off x="694080" y="2968920"/>
                <a:ext cx="3952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694080" y="2931120"/>
                <a:ext cx="108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694080" y="2819160"/>
                <a:ext cx="98280" cy="11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92360" y="28195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171720" y="1888920"/>
                <a:ext cx="20340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75120" y="1889280"/>
                <a:ext cx="20844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68840" y="2352600"/>
                <a:ext cx="415080" cy="21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80720" y="2357640"/>
                <a:ext cx="52200" cy="4212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0" y="0"/>
                    </a:moveTo>
                    <a:lnTo>
                      <a:pt x="36" y="0"/>
                    </a:lnTo>
                    <a:lnTo>
                      <a:pt x="53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80720" y="2357640"/>
                <a:ext cx="352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16360" y="2357640"/>
                <a:ext cx="1656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203400" y="2399760"/>
                <a:ext cx="295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 flipV="1">
                <a:off x="180360" y="2357280"/>
                <a:ext cx="2268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80720" y="235764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1201680" y="1888920"/>
                <a:ext cx="20448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406160" y="1889280"/>
                <a:ext cx="208440" cy="45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198800" y="2352600"/>
                <a:ext cx="415800" cy="21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211760" y="2357640"/>
                <a:ext cx="53280" cy="4212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0"/>
                    </a:moveTo>
                    <a:lnTo>
                      <a:pt x="37" y="0"/>
                    </a:lnTo>
                    <a:lnTo>
                      <a:pt x="54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211760" y="2357640"/>
                <a:ext cx="363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248480" y="2357640"/>
                <a:ext cx="1656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1234080" y="2399760"/>
                <a:ext cx="3060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flipV="1">
                <a:off x="1211400" y="2357280"/>
                <a:ext cx="22680" cy="42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211760" y="2357640"/>
                <a:ext cx="72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75880" y="1763640"/>
                <a:ext cx="15840" cy="95112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72240" y="1879200"/>
                <a:ext cx="104076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862200" y="1889280"/>
                <a:ext cx="58320" cy="3600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9"/>
                    </a:lnTo>
                    <a:lnTo>
                      <a:pt x="59" y="12"/>
                    </a:lnTo>
                    <a:lnTo>
                      <a:pt x="56" y="20"/>
                    </a:lnTo>
                    <a:lnTo>
                      <a:pt x="50" y="23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3" y="23"/>
                    </a:lnTo>
                    <a:lnTo>
                      <a:pt x="6" y="20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920520" y="1889280"/>
                <a:ext cx="7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920520" y="190044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917640" y="190440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911520" y="191412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H="1">
                <a:off x="903240" y="1918080"/>
                <a:ext cx="75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H="1">
                <a:off x="897480" y="192168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891720" y="192528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888840" y="192528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 flipV="1">
                <a:off x="881640" y="192168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 flipV="1">
                <a:off x="874440" y="191808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 flipV="1">
                <a:off x="867600" y="1914120"/>
                <a:ext cx="684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 flipV="1">
                <a:off x="865080" y="19040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 flipV="1">
                <a:off x="86220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862200" y="1888920"/>
                <a:ext cx="7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62200" y="1889280"/>
                <a:ext cx="58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920520" y="188928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52080" y="1845720"/>
                <a:ext cx="42480" cy="583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0"/>
                    </a:moveTo>
                    <a:lnTo>
                      <a:pt x="26" y="0"/>
                    </a:lnTo>
                    <a:lnTo>
                      <a:pt x="29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0" y="3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7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37512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37800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381240" y="184572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38592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8916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39204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394920" y="1863360"/>
                <a:ext cx="7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394920" y="1868040"/>
                <a:ext cx="72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394920" y="18756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394920" y="1879200"/>
                <a:ext cx="72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392040" y="18831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389160" y="1886760"/>
                <a:ext cx="28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385920" y="18968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380880" y="1896840"/>
                <a:ext cx="46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37800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H="1">
                <a:off x="375120" y="190044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 flipV="1">
                <a:off x="369000" y="1900440"/>
                <a:ext cx="57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H="1">
                <a:off x="366120" y="19004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H="1" flipV="1">
                <a:off x="361080" y="1896840"/>
                <a:ext cx="46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H="1">
                <a:off x="358200" y="189684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H="1" flipV="1">
                <a:off x="355320" y="1886760"/>
                <a:ext cx="28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 flipH="1" flipV="1">
                <a:off x="352080" y="18831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flipV="1">
                <a:off x="352080" y="18792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352080" y="1875600"/>
                <a:ext cx="10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352080" y="1867680"/>
                <a:ext cx="108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352080" y="1863000"/>
                <a:ext cx="10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352080" y="1858320"/>
                <a:ext cx="28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55320" y="185436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358200" y="1850400"/>
                <a:ext cx="288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61440" y="184536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66120" y="184572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69000" y="184572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375120" y="1845720"/>
                <a:ext cx="7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60360" y="1850400"/>
                <a:ext cx="11880" cy="4608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9" y="0"/>
                    </a:moveTo>
                    <a:lnTo>
                      <a:pt x="6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6" y="34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H="1">
                <a:off x="366120" y="185040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363240" y="185436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63240" y="1858320"/>
                <a:ext cx="72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360360" y="18633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360360" y="1863360"/>
                <a:ext cx="72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360360" y="18680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360360" y="187164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360360" y="18756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360360" y="1879200"/>
                <a:ext cx="72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360360" y="188316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363240" y="1883160"/>
                <a:ext cx="72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63240" y="18892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66120" y="1892880"/>
                <a:ext cx="28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36900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H="1">
                <a:off x="369000" y="18968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369000" y="18928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V="1">
                <a:off x="369000" y="188928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H="1">
                <a:off x="366120" y="188928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V="1">
                <a:off x="366120" y="1882800"/>
                <a:ext cx="1080" cy="61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366120" y="18792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V="1">
                <a:off x="366120" y="18756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366120" y="18716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366120" y="186804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66120" y="1868040"/>
                <a:ext cx="28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369000" y="1863000"/>
                <a:ext cx="1080" cy="46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369000" y="1858320"/>
                <a:ext cx="10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369000" y="185436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69000" y="1850400"/>
                <a:ext cx="1080" cy="36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69000" y="1850400"/>
                <a:ext cx="1080" cy="10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387440" y="18457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0" y="0"/>
                    </a:moveTo>
                    <a:lnTo>
                      <a:pt x="26" y="0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4" y="14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44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3" y="44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9" y="44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407600" y="1845720"/>
                <a:ext cx="57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413360" y="1845720"/>
                <a:ext cx="39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417320" y="1850400"/>
                <a:ext cx="2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420200" y="1850400"/>
                <a:ext cx="3960" cy="3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9" name=""/>
            <p:cNvSpPr/>
            <p:nvPr/>
          </p:nvSpPr>
          <p:spPr>
            <a:xfrm>
              <a:off x="1424520" y="185436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427760" y="1858320"/>
              <a:ext cx="360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431360" y="186336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431360" y="187164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1431360" y="187560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431360" y="1879200"/>
              <a:ext cx="10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1427760" y="1886760"/>
              <a:ext cx="3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1424520" y="189288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1420200" y="1896840"/>
              <a:ext cx="39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1417680" y="190044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413360" y="1900440"/>
              <a:ext cx="39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1407600" y="1904400"/>
              <a:ext cx="57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1404720" y="190440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 flipV="1">
              <a:off x="1401840" y="190044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1396440" y="1900440"/>
              <a:ext cx="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 flipV="1">
              <a:off x="1393920" y="189684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 flipV="1">
              <a:off x="1391040" y="189288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H="1" flipV="1">
              <a:off x="1387800" y="1886400"/>
              <a:ext cx="28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1387800" y="1879200"/>
              <a:ext cx="10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1387800" y="1875600"/>
              <a:ext cx="10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1387800" y="1871640"/>
              <a:ext cx="10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1387800" y="1863000"/>
              <a:ext cx="10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1387800" y="1858320"/>
              <a:ext cx="28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1391040" y="185436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1393920" y="1850400"/>
              <a:ext cx="288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396800" y="1850400"/>
              <a:ext cx="46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1401840" y="1845360"/>
              <a:ext cx="28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404720" y="184572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407600" y="1845720"/>
              <a:ext cx="7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393920" y="1854360"/>
              <a:ext cx="12600" cy="4212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3" y="28"/>
                  </a:lnTo>
                  <a:lnTo>
                    <a:pt x="6" y="31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0" y="34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>
              <a:off x="1399320" y="185436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399680" y="185436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>
              <a:off x="1396800" y="18583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396800" y="185832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>
              <a:off x="1393920" y="1861920"/>
              <a:ext cx="28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393920" y="18680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93920" y="18716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393920" y="18756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93920" y="18792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393920" y="1883160"/>
              <a:ext cx="28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96800" y="188928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399680" y="189288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403640" y="189684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1403640" y="189684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1403640" y="189288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1403640" y="188928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1399320" y="188928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V="1">
              <a:off x="1399680" y="1882800"/>
              <a:ext cx="10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1399680" y="18792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V="1">
              <a:off x="1399680" y="18756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1399680" y="187164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1399680" y="186804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1403640" y="1861560"/>
              <a:ext cx="72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1403640" y="185832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1403640" y="185436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403640" y="1854360"/>
              <a:ext cx="72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97320" y="2931480"/>
              <a:ext cx="39204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29360" y="2819520"/>
              <a:ext cx="113040" cy="14544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4" y="117"/>
                  </a:moveTo>
                  <a:lnTo>
                    <a:pt x="0" y="117"/>
                  </a:lnTo>
                  <a:lnTo>
                    <a:pt x="0" y="87"/>
                  </a:lnTo>
                  <a:lnTo>
                    <a:pt x="91" y="0"/>
                  </a:lnTo>
                  <a:lnTo>
                    <a:pt x="114" y="0"/>
                  </a:lnTo>
                  <a:lnTo>
                    <a:pt x="64" y="90"/>
                  </a:lnTo>
                  <a:lnTo>
                    <a:pt x="6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H="1">
              <a:off x="729360" y="2965320"/>
              <a:ext cx="63360" cy="1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729360" y="2927520"/>
              <a:ext cx="720" cy="37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729360" y="2819160"/>
              <a:ext cx="90000" cy="10836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819720" y="2819520"/>
              <a:ext cx="22680" cy="1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>
              <a:off x="792360" y="2819520"/>
              <a:ext cx="49320" cy="11196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92720" y="2931480"/>
              <a:ext cx="720" cy="334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92720" y="2965320"/>
              <a:ext cx="720" cy="1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22600" y="2709720"/>
              <a:ext cx="69480" cy="10944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53" y="0"/>
                  </a:move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7"/>
                  </a:lnTo>
                  <a:lnTo>
                    <a:pt x="37" y="7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29" y="53"/>
                  </a:lnTo>
                  <a:lnTo>
                    <a:pt x="23" y="53"/>
                  </a:lnTo>
                  <a:lnTo>
                    <a:pt x="17" y="53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20" y="88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3" y="61"/>
                  </a:lnTo>
                  <a:lnTo>
                    <a:pt x="26" y="58"/>
                  </a:lnTo>
                  <a:lnTo>
                    <a:pt x="29" y="58"/>
                  </a:lnTo>
                  <a:lnTo>
                    <a:pt x="32" y="53"/>
                  </a:lnTo>
                  <a:lnTo>
                    <a:pt x="37" y="53"/>
                  </a:lnTo>
                  <a:lnTo>
                    <a:pt x="40" y="53"/>
                  </a:lnTo>
                  <a:lnTo>
                    <a:pt x="53" y="5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3" y="14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>
              <a:off x="870840" y="2709720"/>
              <a:ext cx="396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>
              <a:off x="868320" y="27151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865440" y="27151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H="1">
              <a:off x="862560" y="271512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H="1">
              <a:off x="859320" y="27187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859320" y="271872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853920" y="2722320"/>
              <a:ext cx="46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54280" y="2722320"/>
              <a:ext cx="10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854280" y="2727360"/>
              <a:ext cx="10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851400" y="273240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851400" y="27324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851400" y="2736000"/>
              <a:ext cx="1080" cy="39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845640" y="2775960"/>
              <a:ext cx="57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>
              <a:off x="839520" y="2775960"/>
              <a:ext cx="57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>
              <a:off x="836640" y="277596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831240" y="2775960"/>
              <a:ext cx="46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>
              <a:off x="828720" y="277596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>
              <a:off x="825480" y="2775960"/>
              <a:ext cx="28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825480" y="278208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H="1">
              <a:off x="822600" y="278568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822600" y="278568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22600" y="278964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822600" y="2793600"/>
              <a:ext cx="1080" cy="25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822600" y="2819520"/>
              <a:ext cx="1980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842400" y="2793600"/>
              <a:ext cx="1080" cy="25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842400" y="278964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V="1">
              <a:off x="842400" y="278568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845640" y="278208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848520" y="278208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flipV="1">
              <a:off x="851400" y="2775600"/>
              <a:ext cx="288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854280" y="2775960"/>
              <a:ext cx="46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859320" y="277596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62560" y="2775960"/>
              <a:ext cx="1260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875160" y="2736000"/>
              <a:ext cx="720" cy="39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875160" y="27324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875160" y="2727360"/>
              <a:ext cx="72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875160" y="272736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878040" y="2722320"/>
              <a:ext cx="10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878040" y="271872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882360" y="271512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885240" y="271512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889200" y="2709720"/>
              <a:ext cx="28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H="1">
              <a:off x="875160" y="2709720"/>
              <a:ext cx="165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875160" y="2709720"/>
              <a:ext cx="72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859320" y="1830960"/>
              <a:ext cx="67320" cy="8712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33" y="0"/>
                  </a:moveTo>
                  <a:lnTo>
                    <a:pt x="39" y="0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lnTo>
                    <a:pt x="62" y="17"/>
                  </a:lnTo>
                  <a:lnTo>
                    <a:pt x="65" y="23"/>
                  </a:lnTo>
                  <a:lnTo>
                    <a:pt x="68" y="30"/>
                  </a:lnTo>
                  <a:lnTo>
                    <a:pt x="68" y="37"/>
                  </a:lnTo>
                  <a:lnTo>
                    <a:pt x="68" y="44"/>
                  </a:lnTo>
                  <a:lnTo>
                    <a:pt x="65" y="50"/>
                  </a:lnTo>
                  <a:lnTo>
                    <a:pt x="62" y="56"/>
                  </a:lnTo>
                  <a:lnTo>
                    <a:pt x="59" y="61"/>
                  </a:lnTo>
                  <a:lnTo>
                    <a:pt x="53" y="67"/>
                  </a:lnTo>
                  <a:lnTo>
                    <a:pt x="45" y="70"/>
                  </a:lnTo>
                  <a:lnTo>
                    <a:pt x="39" y="70"/>
                  </a:lnTo>
                  <a:lnTo>
                    <a:pt x="33" y="70"/>
                  </a:lnTo>
                  <a:lnTo>
                    <a:pt x="30" y="70"/>
                  </a:lnTo>
                  <a:lnTo>
                    <a:pt x="23" y="70"/>
                  </a:lnTo>
                  <a:lnTo>
                    <a:pt x="16" y="67"/>
                  </a:lnTo>
                  <a:lnTo>
                    <a:pt x="9" y="61"/>
                  </a:lnTo>
                  <a:lnTo>
                    <a:pt x="6" y="56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92080" y="1830960"/>
              <a:ext cx="57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897840" y="1830960"/>
              <a:ext cx="57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903960" y="1834560"/>
              <a:ext cx="75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911880" y="1838160"/>
              <a:ext cx="57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918000" y="1842120"/>
              <a:ext cx="28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920880" y="1851840"/>
              <a:ext cx="28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923760" y="1859400"/>
              <a:ext cx="28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926640" y="1868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926640" y="1876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923760" y="1885680"/>
              <a:ext cx="28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>
              <a:off x="920880" y="1892880"/>
              <a:ext cx="2880" cy="7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918000" y="1900440"/>
              <a:ext cx="28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911880" y="1906920"/>
              <a:ext cx="576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903600" y="1914120"/>
              <a:ext cx="756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H="1">
              <a:off x="897840" y="1918080"/>
              <a:ext cx="57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892080" y="1918080"/>
              <a:ext cx="57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flipH="1">
              <a:off x="889200" y="191808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H="1">
              <a:off x="882000" y="1918080"/>
              <a:ext cx="68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 flipV="1">
              <a:off x="874800" y="1914120"/>
              <a:ext cx="6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 flipV="1">
              <a:off x="867960" y="1906920"/>
              <a:ext cx="684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 flipV="1">
              <a:off x="865440" y="1900080"/>
              <a:ext cx="28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 flipV="1">
              <a:off x="862560" y="1892520"/>
              <a:ext cx="2880" cy="7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H="1" flipV="1">
              <a:off x="859320" y="1885680"/>
              <a:ext cx="28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V="1">
              <a:off x="859320" y="187668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859320" y="1868040"/>
              <a:ext cx="10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V="1">
              <a:off x="859320" y="1859400"/>
              <a:ext cx="288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862560" y="1851840"/>
              <a:ext cx="28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V="1">
              <a:off x="865440" y="1841760"/>
              <a:ext cx="28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V="1">
              <a:off x="868320" y="1838160"/>
              <a:ext cx="6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875160" y="1834560"/>
              <a:ext cx="6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882360" y="1830960"/>
              <a:ext cx="68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89200" y="1830960"/>
              <a:ext cx="28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92080" y="1830960"/>
              <a:ext cx="7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68320" y="1842120"/>
              <a:ext cx="20880" cy="6552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0"/>
                  </a:moveTo>
                  <a:lnTo>
                    <a:pt x="14" y="0"/>
                  </a:lnTo>
                  <a:lnTo>
                    <a:pt x="10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4" y="50"/>
                  </a:lnTo>
                  <a:lnTo>
                    <a:pt x="17" y="50"/>
                  </a:lnTo>
                  <a:lnTo>
                    <a:pt x="21" y="53"/>
                  </a:lnTo>
                  <a:lnTo>
                    <a:pt x="21" y="50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4" y="44"/>
                  </a:lnTo>
                  <a:lnTo>
                    <a:pt x="14" y="39"/>
                  </a:lnTo>
                  <a:lnTo>
                    <a:pt x="14" y="36"/>
                  </a:lnTo>
                  <a:lnTo>
                    <a:pt x="14" y="33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>
              <a:off x="882360" y="184212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H="1">
              <a:off x="877680" y="184212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H="1">
              <a:off x="875160" y="1845720"/>
              <a:ext cx="2880" cy="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75160" y="18504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>
              <a:off x="870840" y="185436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71200" y="185436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71200" y="1858320"/>
              <a:ext cx="10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71200" y="1863360"/>
              <a:ext cx="1080" cy="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868320" y="186804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68320" y="187164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71200" y="18756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71200" y="187920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871200" y="1883160"/>
              <a:ext cx="10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871200" y="188676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75160" y="1890720"/>
              <a:ext cx="72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875160" y="189684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878040" y="190044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882360" y="1904400"/>
              <a:ext cx="288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885240" y="1904400"/>
              <a:ext cx="396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889200" y="19044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>
              <a:off x="884880" y="1904400"/>
              <a:ext cx="396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V="1">
              <a:off x="885240" y="19004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H="1" flipV="1">
              <a:off x="882360" y="1896840"/>
              <a:ext cx="288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882360" y="1890360"/>
              <a:ext cx="720" cy="6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V="1">
              <a:off x="882360" y="188676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882360" y="188316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V="1">
              <a:off x="882360" y="18792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882360" y="18756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882360" y="18716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V="1">
              <a:off x="882360" y="186804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V="1">
              <a:off x="882360" y="1863000"/>
              <a:ext cx="720" cy="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882360" y="1858320"/>
              <a:ext cx="28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885240" y="185436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885240" y="185040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885240" y="1845360"/>
              <a:ext cx="720" cy="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885240" y="1842120"/>
              <a:ext cx="720" cy="3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885240" y="1842120"/>
              <a:ext cx="72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99000"/>
          </a:bodyPr>
          <a:p>
            <a:pPr marL="221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contains accurat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is well researched and docu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’s information can be ver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’s links are reputable and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’s information is extensive and well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54800" y="3048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2" name="" descr=""/>
          <p:cNvPicPr/>
          <p:nvPr/>
        </p:nvPicPr>
        <p:blipFill>
          <a:blip r:embed="rId1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  <p:sp>
        <p:nvSpPr>
          <p:cNvPr id="2763" name=""/>
          <p:cNvSpPr/>
          <p:nvPr/>
        </p:nvSpPr>
        <p:spPr>
          <a:xfrm>
            <a:off x="433404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4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989280" cy="1305000"/>
          </a:xfrm>
          <a:prstGeom prst="rect">
            <a:avLst/>
          </a:prstGeom>
          <a:ln w="0">
            <a:noFill/>
          </a:ln>
        </p:spPr>
      </p:pic>
      <p:sp>
        <p:nvSpPr>
          <p:cNvPr id="2765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6" name="" descr=""/>
          <p:cNvPicPr/>
          <p:nvPr/>
        </p:nvPicPr>
        <p:blipFill>
          <a:blip r:embed="rId3"/>
          <a:stretch/>
        </p:blipFill>
        <p:spPr>
          <a:xfrm>
            <a:off x="228600" y="3919680"/>
            <a:ext cx="1371600" cy="652320"/>
          </a:xfrm>
          <a:prstGeom prst="rect">
            <a:avLst/>
          </a:prstGeom>
          <a:ln w="0">
            <a:noFill/>
          </a:ln>
        </p:spPr>
      </p:pic>
      <p:sp>
        <p:nvSpPr>
          <p:cNvPr id="2767" name=""/>
          <p:cNvSpPr/>
          <p:nvPr/>
        </p:nvSpPr>
        <p:spPr>
          <a:xfrm>
            <a:off x="19800" y="484812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ate that the site was created is giv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date that the site was updated is gi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ey information has been revised rec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155160" y="30481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9" name="" descr=""/>
          <p:cNvPicPr/>
          <p:nvPr/>
        </p:nvPicPr>
        <p:blipFill>
          <a:blip r:embed="rId1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  <p:sp>
        <p:nvSpPr>
          <p:cNvPr id="2780" name=""/>
          <p:cNvSpPr/>
          <p:nvPr/>
        </p:nvSpPr>
        <p:spPr>
          <a:xfrm>
            <a:off x="4329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120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is easy to navig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’s graphics and layout add to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53000" y="30956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3" name="" descr=""/>
          <p:cNvPicPr/>
          <p:nvPr/>
        </p:nvPicPr>
        <p:blipFill>
          <a:blip r:embed="rId1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  <p:pic>
        <p:nvPicPr>
          <p:cNvPr id="2794" name="Mousepad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12268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2298600" y="1066320"/>
            <a:ext cx="661680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77000"/>
          </a:bodyPr>
          <a:p>
            <a:pPr marL="172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giarism comes from the Latin word for “kidnapper.” It is the act of intentionally, or unintentionally, using or passing off someone else’s words, ideas, or images as your 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ith the Internet, it is easy just to cut and paste another’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less you give proper credit, you are stealing and it is wro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giarism is a form of intellectual dishonesty and is a serious and punishable off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2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152280" y="30481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at does the word “plagiarism” me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2298600" y="1066320"/>
            <a:ext cx="661680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85000"/>
          </a:bodyPr>
          <a:p>
            <a:pPr marL="23724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ople often plagiarize because they do no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ord, paraphrase, or  summarize information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now how to cite source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ndle stress and perceptions of competition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nage time and plan work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what plagiarism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72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152280" y="30481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y do people plagiariz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2298600" y="1580760"/>
            <a:ext cx="661680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lagiarism undervalues the work of all those who do resea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udents who plagiarize may expect a mark of zero and may face other serious consequ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80" y="30481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at are the results of plagiaris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2298600" y="1066320"/>
            <a:ext cx="6616800" cy="367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84000"/>
          </a:bodyPr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careful notes throughout the research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d to the notes with your own thoughts and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urately record quotations, paraphrased information, and pag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t quotation marks around short quotations and indent lengthy quo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parenthetical citations wher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ve yourself enough time to complete the research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9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152280" y="30481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How can I avoid plagiaris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2298600" y="1828800"/>
            <a:ext cx="66168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ying an e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using an assignment without the teacher’s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rrowing a friend’s e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152280" y="304812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at are other forms of intellectual dishones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2285640" y="914040"/>
            <a:ext cx="6629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49000"/>
          </a:bodyPr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ly quoted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phras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c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NOT AC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es (e.g., World War II began in 19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ple definitions (e.g., diabe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nly known observations and facts (e.g., Ottawa is the capital of Canada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What should I acknowled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4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  <p:sp>
        <p:nvSpPr>
          <p:cNvPr id="2855" name=""/>
          <p:cNvSpPr/>
          <p:nvPr/>
        </p:nvSpPr>
        <p:spPr>
          <a:xfrm>
            <a:off x="228600" y="5715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In doubt? Ask your teacher or teacher-librarian, or cite the source just in case.</a:t>
            </a: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trust the auth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his/her credentials to create this particular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9160" y="198108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Be Honest: Don’t Plagi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2298240" y="1066680"/>
            <a:ext cx="6845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51000"/>
          </a:bodyPr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ng off ideas as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in word for “kidnapp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knowledge ideas with proper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e yourself time to complete the researc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tellectual dishon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knowledge direct information, using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ord notes and page numbers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clude your own ideas while taking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iou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k of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152280" y="3048120"/>
            <a:ext cx="19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Things to remember about plagiar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5" name="PE01476_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16142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2298240" y="1066680"/>
            <a:ext cx="68454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67000"/>
          </a:bodyPr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ccurat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 careful to record correc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nes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lways credit words, ideas, and images of others in appropriate c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Conci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 brief: use abbreviations, keywords, and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rganize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se a note-making technique to keep your ideas and information orga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Releva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eep checking your data. Does it help to answer your question? Are you staying on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97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Qualities of effectiv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9146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6" name=""/>
          <p:cNvGraphicFramePr/>
          <p:nvPr/>
        </p:nvGraphicFramePr>
        <p:xfrm>
          <a:off x="304920" y="114300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2298600" y="1371600"/>
            <a:ext cx="615960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your own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dense ideas, details, and supporting arguments in poin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reference accur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Three kinds of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39146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304920" y="114300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2298240" y="1219320"/>
            <a:ext cx="64645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87000"/>
          </a:bodyPr>
          <a:p>
            <a:pPr marL="19476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Paraphr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476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your own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476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ake an author’s idea, select what is significant, and restate it in your own words and sentenc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476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ep the author’s intended mea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476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reference accurately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Three kinds of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39146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0" name=""/>
          <p:cNvGraphicFramePr/>
          <p:nvPr/>
        </p:nvGraphicFramePr>
        <p:xfrm>
          <a:off x="304920" y="114300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2298240" y="1295280"/>
            <a:ext cx="63882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Direct Qu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words of the auth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y the information directly from your source because it is important to use the author’s words exa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reference accurat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52280" y="30481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Three kinds of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1" name=""/>
          <p:cNvGraphicFramePr/>
          <p:nvPr/>
        </p:nvGraphicFramePr>
        <p:xfrm>
          <a:off x="304920" y="1143000"/>
          <a:ext cx="1663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1663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Note 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2298600" y="1295280"/>
            <a:ext cx="6616800" cy="42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 fontScale="95000"/>
          </a:bodyPr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ok for the key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your own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point form, not complet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 unnecessary words (e.g., the, thi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mit unneeded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 subhea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 shortcuts: abbreviations and symb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 your own ideas, responses, and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152280" y="3048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Check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70512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3" name="CLIPB011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17334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33520" y="5790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Table o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5" name=""/>
          <p:cNvGraphicFramePr/>
          <p:nvPr/>
        </p:nvGraphicFramePr>
        <p:xfrm>
          <a:off x="981000" y="228600"/>
          <a:ext cx="7324920" cy="56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228600"/>
                    <a:ext cx="732492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228600" y="5867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Varieties of Tables or Grids (e.g., Microsoft W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8" name=""/>
          <p:cNvGrpSpPr/>
          <p:nvPr/>
        </p:nvGrpSpPr>
        <p:grpSpPr>
          <a:xfrm>
            <a:off x="304920" y="169920"/>
            <a:ext cx="4572000" cy="2591280"/>
            <a:chOff x="304920" y="169920"/>
            <a:chExt cx="4572000" cy="2591280"/>
          </a:xfrm>
        </p:grpSpPr>
        <p:graphicFrame>
          <p:nvGraphicFramePr>
            <p:cNvPr id="2929" name=""/>
            <p:cNvGraphicFramePr/>
            <p:nvPr/>
          </p:nvGraphicFramePr>
          <p:xfrm>
            <a:off x="304920" y="169920"/>
            <a:ext cx="4572000" cy="2497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9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69920"/>
                      <a:ext cx="4572000" cy="24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31" name=""/>
            <p:cNvSpPr/>
            <p:nvPr/>
          </p:nvSpPr>
          <p:spPr>
            <a:xfrm>
              <a:off x="1676520" y="2362320"/>
              <a:ext cx="15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fes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5105520" y="152280"/>
            <a:ext cx="3655800" cy="2608560"/>
            <a:chOff x="5105520" y="152280"/>
            <a:chExt cx="3655800" cy="2608560"/>
          </a:xfrm>
        </p:grpSpPr>
        <p:graphicFrame>
          <p:nvGraphicFramePr>
            <p:cNvPr id="2933" name=""/>
            <p:cNvGraphicFramePr/>
            <p:nvPr/>
          </p:nvGraphicFramePr>
          <p:xfrm>
            <a:off x="5105520" y="152280"/>
            <a:ext cx="3655800" cy="23857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52280"/>
                      <a:ext cx="3655800" cy="2385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35" name=""/>
            <p:cNvSpPr/>
            <p:nvPr/>
          </p:nvSpPr>
          <p:spPr>
            <a:xfrm>
              <a:off x="6094080" y="2361960"/>
              <a:ext cx="179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empo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380880" y="2895480"/>
            <a:ext cx="4341960" cy="2989800"/>
            <a:chOff x="380880" y="2895480"/>
            <a:chExt cx="4341960" cy="2989800"/>
          </a:xfrm>
        </p:grpSpPr>
        <p:graphicFrame>
          <p:nvGraphicFramePr>
            <p:cNvPr id="2937" name=""/>
            <p:cNvGraphicFramePr/>
            <p:nvPr/>
          </p:nvGraphicFramePr>
          <p:xfrm>
            <a:off x="380880" y="2895480"/>
            <a:ext cx="4341960" cy="28353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29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880" y="2895480"/>
                      <a:ext cx="4341960" cy="28353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39" name=""/>
            <p:cNvSpPr/>
            <p:nvPr/>
          </p:nvSpPr>
          <p:spPr>
            <a:xfrm>
              <a:off x="1828800" y="548640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umn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0" name=""/>
          <p:cNvGrpSpPr/>
          <p:nvPr/>
        </p:nvGrpSpPr>
        <p:grpSpPr>
          <a:xfrm>
            <a:off x="5029200" y="2911320"/>
            <a:ext cx="4114800" cy="2973960"/>
            <a:chOff x="5029200" y="2911320"/>
            <a:chExt cx="4114800" cy="2973960"/>
          </a:xfrm>
        </p:grpSpPr>
        <p:graphicFrame>
          <p:nvGraphicFramePr>
            <p:cNvPr id="2941" name=""/>
            <p:cNvGraphicFramePr/>
            <p:nvPr/>
          </p:nvGraphicFramePr>
          <p:xfrm>
            <a:off x="5029200" y="2911320"/>
            <a:ext cx="4114800" cy="26859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29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2911320"/>
                      <a:ext cx="4114800" cy="26859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3" name=""/>
            <p:cNvSpPr/>
            <p:nvPr/>
          </p:nvSpPr>
          <p:spPr>
            <a:xfrm>
              <a:off x="6249240" y="548640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st 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76212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Fish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6248520" y="2057400"/>
            <a:ext cx="2286000" cy="1981080"/>
          </a:xfrm>
          <a:prstGeom prst="flowChartDecision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 flipH="1">
            <a:off x="1219320" y="304812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7" name=""/>
          <p:cNvGrpSpPr/>
          <p:nvPr/>
        </p:nvGrpSpPr>
        <p:grpSpPr>
          <a:xfrm>
            <a:off x="3809880" y="1143000"/>
            <a:ext cx="2265480" cy="1905120"/>
            <a:chOff x="3809880" y="1143000"/>
            <a:chExt cx="2265480" cy="1905120"/>
          </a:xfrm>
        </p:grpSpPr>
        <p:sp>
          <p:nvSpPr>
            <p:cNvPr id="2948" name=""/>
            <p:cNvSpPr/>
            <p:nvPr/>
          </p:nvSpPr>
          <p:spPr>
            <a:xfrm flipH="1" flipV="1">
              <a:off x="4724280" y="1981080"/>
              <a:ext cx="106704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727160" y="228600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809880" y="114300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ood Stu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b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371600" y="1143000"/>
            <a:ext cx="2189160" cy="1905120"/>
            <a:chOff x="1371600" y="1143000"/>
            <a:chExt cx="2189160" cy="1905120"/>
          </a:xfrm>
        </p:grpSpPr>
        <p:sp>
          <p:nvSpPr>
            <p:cNvPr id="2952" name=""/>
            <p:cNvSpPr/>
            <p:nvPr/>
          </p:nvSpPr>
          <p:spPr>
            <a:xfrm flipH="1" flipV="1">
              <a:off x="2361960" y="1981080"/>
              <a:ext cx="10666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212560" y="228600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1371600" y="1143000"/>
              <a:ext cx="175248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le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5" name=""/>
          <p:cNvGrpSpPr/>
          <p:nvPr/>
        </p:nvGrpSpPr>
        <p:grpSpPr>
          <a:xfrm>
            <a:off x="3809880" y="3047760"/>
            <a:ext cx="2189520" cy="1905120"/>
            <a:chOff x="3809880" y="3047760"/>
            <a:chExt cx="2189520" cy="1905120"/>
          </a:xfrm>
        </p:grpSpPr>
        <p:sp>
          <p:nvSpPr>
            <p:cNvPr id="2956" name=""/>
            <p:cNvSpPr/>
            <p:nvPr/>
          </p:nvSpPr>
          <p:spPr>
            <a:xfrm flipV="1">
              <a:off x="4724280" y="3047760"/>
              <a:ext cx="106704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651200" y="335268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809880" y="411480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alth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9" name=""/>
          <p:cNvGrpSpPr/>
          <p:nvPr/>
        </p:nvGrpSpPr>
        <p:grpSpPr>
          <a:xfrm>
            <a:off x="1371600" y="3047760"/>
            <a:ext cx="2189160" cy="1905120"/>
            <a:chOff x="1371600" y="3047760"/>
            <a:chExt cx="2189160" cy="1905120"/>
          </a:xfrm>
        </p:grpSpPr>
        <p:sp>
          <p:nvSpPr>
            <p:cNvPr id="2960" name=""/>
            <p:cNvSpPr/>
            <p:nvPr/>
          </p:nvSpPr>
          <p:spPr>
            <a:xfrm flipV="1">
              <a:off x="2362320" y="3047760"/>
              <a:ext cx="106668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212560" y="335268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1371600" y="4114800"/>
              <a:ext cx="1752480" cy="8380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-cla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3" name=""/>
          <p:cNvGrpSpPr/>
          <p:nvPr/>
        </p:nvGrpSpPr>
        <p:grpSpPr>
          <a:xfrm>
            <a:off x="380880" y="785880"/>
            <a:ext cx="8610840" cy="4484520"/>
            <a:chOff x="380880" y="785880"/>
            <a:chExt cx="8610840" cy="4484520"/>
          </a:xfrm>
        </p:grpSpPr>
        <p:sp>
          <p:nvSpPr>
            <p:cNvPr id="2964" name=""/>
            <p:cNvSpPr/>
            <p:nvPr/>
          </p:nvSpPr>
          <p:spPr>
            <a:xfrm>
              <a:off x="6300720" y="1862280"/>
              <a:ext cx="2691000" cy="233172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H="1">
              <a:off x="380880" y="3029040"/>
              <a:ext cx="591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H="1" flipV="1">
              <a:off x="4506840" y="1773360"/>
              <a:ext cx="1255680" cy="12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4506840" y="3029040"/>
              <a:ext cx="1255680" cy="125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8" name=""/>
            <p:cNvGrpSpPr/>
            <p:nvPr/>
          </p:nvGrpSpPr>
          <p:grpSpPr>
            <a:xfrm>
              <a:off x="1726920" y="1773360"/>
              <a:ext cx="1255680" cy="2510640"/>
              <a:chOff x="1726920" y="1773360"/>
              <a:chExt cx="1255680" cy="2510640"/>
            </a:xfrm>
          </p:grpSpPr>
          <p:sp>
            <p:nvSpPr>
              <p:cNvPr id="2969" name=""/>
              <p:cNvSpPr/>
              <p:nvPr/>
            </p:nvSpPr>
            <p:spPr>
              <a:xfrm flipH="1" flipV="1">
                <a:off x="1726920" y="1773360"/>
                <a:ext cx="1255320" cy="12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1727280" y="3028680"/>
                <a:ext cx="1255320" cy="125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1" name=""/>
            <p:cNvSpPr/>
            <p:nvPr/>
          </p:nvSpPr>
          <p:spPr>
            <a:xfrm>
              <a:off x="4420800" y="338760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550520" y="338760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09720" y="213192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550520" y="2131920"/>
              <a:ext cx="1348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use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430440" y="785880"/>
              <a:ext cx="2063880" cy="987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560520" y="785880"/>
              <a:ext cx="2063520" cy="987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430440" y="4284720"/>
              <a:ext cx="2063880" cy="98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60520" y="4284720"/>
              <a:ext cx="2063520" cy="985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199640" y="2131920"/>
              <a:ext cx="878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76212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sh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uthor’s purpose and intended audience clearly stat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work provide factual information, opinion, or propagand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author have a biased point of vie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author stereotype some peopl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9160" y="1981080"/>
            <a:ext cx="22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26840" y="2820960"/>
            <a:ext cx="2472840" cy="1674000"/>
            <a:chOff x="726840" y="2820960"/>
            <a:chExt cx="2472840" cy="1674000"/>
          </a:xfrm>
        </p:grpSpPr>
        <p:grpSp>
          <p:nvGrpSpPr>
            <p:cNvPr id="66" name=""/>
            <p:cNvGrpSpPr/>
            <p:nvPr/>
          </p:nvGrpSpPr>
          <p:grpSpPr>
            <a:xfrm>
              <a:off x="726840" y="2820960"/>
              <a:ext cx="2472840" cy="1674000"/>
              <a:chOff x="726840" y="2820960"/>
              <a:chExt cx="2472840" cy="1674000"/>
            </a:xfrm>
          </p:grpSpPr>
          <p:sp>
            <p:nvSpPr>
              <p:cNvPr id="67" name=""/>
              <p:cNvSpPr/>
              <p:nvPr/>
            </p:nvSpPr>
            <p:spPr>
              <a:xfrm>
                <a:off x="727200" y="3630600"/>
                <a:ext cx="753480" cy="85320"/>
              </a:xfrm>
              <a:custGeom>
                <a:avLst/>
                <a:gdLst/>
                <a:ahLst/>
                <a:rect l="l" t="t" r="r" b="b"/>
                <a:pathLst>
                  <a:path w="455" h="50">
                    <a:moveTo>
                      <a:pt x="0" y="0"/>
                    </a:moveTo>
                    <a:lnTo>
                      <a:pt x="455" y="0"/>
                    </a:lnTo>
                    <a:lnTo>
                      <a:pt x="415" y="50"/>
                    </a:lnTo>
                    <a:lnTo>
                      <a:pt x="4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27200" y="3630600"/>
                <a:ext cx="75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414080" y="3630600"/>
                <a:ext cx="6588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792720" y="3715920"/>
                <a:ext cx="621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flipV="1">
                <a:off x="726840" y="3630240"/>
                <a:ext cx="6588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27200" y="3630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444760" y="3630600"/>
                <a:ext cx="754920" cy="85320"/>
              </a:xfrm>
              <a:custGeom>
                <a:avLst/>
                <a:gdLst/>
                <a:ahLst/>
                <a:rect l="l" t="t" r="r" b="b"/>
                <a:pathLst>
                  <a:path w="456" h="50">
                    <a:moveTo>
                      <a:pt x="0" y="0"/>
                    </a:moveTo>
                    <a:lnTo>
                      <a:pt x="456" y="0"/>
                    </a:lnTo>
                    <a:lnTo>
                      <a:pt x="415" y="50"/>
                    </a:lnTo>
                    <a:lnTo>
                      <a:pt x="4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44760" y="3630600"/>
                <a:ext cx="75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3132000" y="3630600"/>
                <a:ext cx="673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512080" y="3715920"/>
                <a:ext cx="619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flipV="1">
                <a:off x="2444400" y="3630240"/>
                <a:ext cx="673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44760" y="3630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13040" y="2820960"/>
                <a:ext cx="97560" cy="1331640"/>
              </a:xfrm>
              <a:prstGeom prst="rect">
                <a:avLst/>
              </a:prstGeom>
              <a:solidFill>
                <a:srgbClr val="ff85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076400" y="2970000"/>
                <a:ext cx="1770480" cy="43920"/>
              </a:xfrm>
              <a:prstGeom prst="rect">
                <a:avLst/>
              </a:prstGeom>
              <a:solidFill>
                <a:srgbClr val="ff85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73080" y="4137120"/>
                <a:ext cx="180360" cy="10944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20" y="0"/>
                    </a:moveTo>
                    <a:lnTo>
                      <a:pt x="88" y="0"/>
                    </a:lnTo>
                    <a:lnTo>
                      <a:pt x="92" y="0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2" y="7"/>
                    </a:lnTo>
                    <a:lnTo>
                      <a:pt x="106" y="10"/>
                    </a:lnTo>
                    <a:lnTo>
                      <a:pt x="106" y="14"/>
                    </a:lnTo>
                    <a:lnTo>
                      <a:pt x="109" y="14"/>
                    </a:lnTo>
                    <a:lnTo>
                      <a:pt x="109" y="18"/>
                    </a:lnTo>
                    <a:lnTo>
                      <a:pt x="109" y="2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6" y="55"/>
                    </a:lnTo>
                    <a:lnTo>
                      <a:pt x="106" y="58"/>
                    </a:lnTo>
                    <a:lnTo>
                      <a:pt x="102" y="58"/>
                    </a:lnTo>
                    <a:lnTo>
                      <a:pt x="99" y="61"/>
                    </a:lnTo>
                    <a:lnTo>
                      <a:pt x="96" y="64"/>
                    </a:lnTo>
                    <a:lnTo>
                      <a:pt x="92" y="64"/>
                    </a:lnTo>
                    <a:lnTo>
                      <a:pt x="88" y="64"/>
                    </a:lnTo>
                    <a:lnTo>
                      <a:pt x="20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9" y="61"/>
                    </a:lnTo>
                    <a:lnTo>
                      <a:pt x="6" y="61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06200" y="413712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018880" y="413712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025720" y="4137120"/>
                <a:ext cx="648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03220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037240" y="41443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42280" y="4149360"/>
                <a:ext cx="64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48760" y="415440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48760" y="41612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53800" y="416124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53800" y="41680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53800" y="4173120"/>
                <a:ext cx="144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53800" y="421236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53800" y="4217400"/>
                <a:ext cx="14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2048400" y="4222800"/>
                <a:ext cx="46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048760" y="423144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042280" y="4236480"/>
                <a:ext cx="6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036880" y="423648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031840" y="42415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025720" y="424656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018880" y="424656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1905840" y="42465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1900800" y="42465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892880" y="424656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1887840" y="42415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1882800" y="424152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1883160" y="42364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878120" y="42364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1872720" y="423144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1873080" y="4222440"/>
                <a:ext cx="180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1873080" y="421704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1873080" y="42123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1873080" y="4173120"/>
                <a:ext cx="180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873080" y="416808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873080" y="416088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1873080" y="415404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73080" y="41544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878120" y="41493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78120" y="414936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883160" y="41443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8316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8820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1892880" y="413676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92880" y="413712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01160" y="413712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6200" y="413712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16920" y="4231440"/>
                <a:ext cx="293040" cy="61200"/>
              </a:xfrm>
              <a:custGeom>
                <a:avLst/>
                <a:gdLst/>
                <a:ahLst/>
                <a:rect l="l" t="t" r="r" b="b"/>
                <a:pathLst>
                  <a:path w="177" h="36">
                    <a:moveTo>
                      <a:pt x="14" y="0"/>
                    </a:moveTo>
                    <a:lnTo>
                      <a:pt x="163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1" y="3"/>
                    </a:lnTo>
                    <a:lnTo>
                      <a:pt x="174" y="3"/>
                    </a:lnTo>
                    <a:lnTo>
                      <a:pt x="174" y="6"/>
                    </a:lnTo>
                    <a:lnTo>
                      <a:pt x="174" y="9"/>
                    </a:lnTo>
                    <a:lnTo>
                      <a:pt x="177" y="9"/>
                    </a:lnTo>
                    <a:lnTo>
                      <a:pt x="177" y="12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4" y="27"/>
                    </a:lnTo>
                    <a:lnTo>
                      <a:pt x="174" y="30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6"/>
                    </a:lnTo>
                    <a:lnTo>
                      <a:pt x="168" y="36"/>
                    </a:lnTo>
                    <a:lnTo>
                      <a:pt x="163" y="36"/>
                    </a:lnTo>
                    <a:lnTo>
                      <a:pt x="14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39960" y="4231440"/>
                <a:ext cx="246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86920" y="423144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95200" y="42314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99880" y="423144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99880" y="42364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105280" y="42364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05280" y="42415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05280" y="42465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109960" y="4246560"/>
                <a:ext cx="14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09960" y="4251960"/>
                <a:ext cx="1440" cy="1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09960" y="427068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104920" y="42778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05280" y="42778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05280" y="42829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099880" y="4287960"/>
                <a:ext cx="5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99880" y="42879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094840" y="42930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086920" y="42930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839600" y="4293000"/>
                <a:ext cx="246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1831680" y="42930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826640" y="42930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1821600" y="4293000"/>
                <a:ext cx="5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1821600" y="42879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1816560" y="42829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1816920" y="427788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1816920" y="427032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1816920" y="4251600"/>
                <a:ext cx="1800" cy="1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1816920" y="424620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1816920" y="424152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816920" y="423648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821600" y="423144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27000" y="42314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31680" y="423144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39960" y="42314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31160" y="4287960"/>
                <a:ext cx="659160" cy="205200"/>
              </a:xfrm>
              <a:custGeom>
                <a:avLst/>
                <a:gdLst/>
                <a:ahLst/>
                <a:rect l="l" t="t" r="r" b="b"/>
                <a:pathLst>
                  <a:path w="398" h="120">
                    <a:moveTo>
                      <a:pt x="99" y="0"/>
                    </a:moveTo>
                    <a:lnTo>
                      <a:pt x="298" y="0"/>
                    </a:lnTo>
                    <a:lnTo>
                      <a:pt x="398" y="90"/>
                    </a:lnTo>
                    <a:lnTo>
                      <a:pt x="398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95320" y="4287960"/>
                <a:ext cx="329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24720" y="4287960"/>
                <a:ext cx="165600" cy="154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90320" y="4442040"/>
                <a:ext cx="1800" cy="5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1630800" y="4493160"/>
                <a:ext cx="659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631160" y="4442040"/>
                <a:ext cx="1800" cy="5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1631160" y="4287960"/>
                <a:ext cx="163800" cy="154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795320" y="428796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759960" y="3008880"/>
                <a:ext cx="33948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99800" y="3008880"/>
                <a:ext cx="34776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5280" y="3646080"/>
                <a:ext cx="692280" cy="28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5080" y="3652560"/>
                <a:ext cx="87480" cy="5796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0" y="0"/>
                    </a:moveTo>
                    <a:lnTo>
                      <a:pt x="36" y="0"/>
                    </a:lnTo>
                    <a:lnTo>
                      <a:pt x="53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75080" y="3652560"/>
                <a:ext cx="590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34480" y="3652560"/>
                <a:ext cx="2808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812520" y="3710880"/>
                <a:ext cx="493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774720" y="3652200"/>
                <a:ext cx="3780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75080" y="365256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2477880" y="3008880"/>
                <a:ext cx="34092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18800" y="3008880"/>
                <a:ext cx="34776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72840" y="3646080"/>
                <a:ext cx="693720" cy="28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94440" y="3652560"/>
                <a:ext cx="89280" cy="579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0"/>
                    </a:moveTo>
                    <a:lnTo>
                      <a:pt x="37" y="0"/>
                    </a:lnTo>
                    <a:lnTo>
                      <a:pt x="54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94440" y="3652560"/>
                <a:ext cx="6120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555640" y="3652560"/>
                <a:ext cx="2808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532240" y="3710880"/>
                <a:ext cx="511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2494080" y="3652200"/>
                <a:ext cx="3780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94440" y="365256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34280" y="2836440"/>
                <a:ext cx="26640" cy="13075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94760" y="2995560"/>
                <a:ext cx="17355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11240" y="3008880"/>
                <a:ext cx="97560" cy="4968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9"/>
                    </a:lnTo>
                    <a:lnTo>
                      <a:pt x="59" y="12"/>
                    </a:lnTo>
                    <a:lnTo>
                      <a:pt x="56" y="20"/>
                    </a:lnTo>
                    <a:lnTo>
                      <a:pt x="50" y="23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3" y="23"/>
                    </a:lnTo>
                    <a:lnTo>
                      <a:pt x="6" y="20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09160" y="300888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09160" y="30247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003760" y="302976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994040" y="3043080"/>
                <a:ext cx="100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980720" y="3048480"/>
                <a:ext cx="12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970640" y="305388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960560" y="305892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955880" y="30589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1944360" y="305388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1932840" y="304848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1921320" y="3042720"/>
                <a:ext cx="1152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1915920" y="302940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1910880" y="30247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1911240" y="300852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11240" y="3008880"/>
                <a:ext cx="97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09160" y="300888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61280" y="2949120"/>
                <a:ext cx="71280" cy="802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0"/>
                    </a:moveTo>
                    <a:lnTo>
                      <a:pt x="26" y="0"/>
                    </a:lnTo>
                    <a:lnTo>
                      <a:pt x="29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0" y="3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7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9980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0448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09520" y="294912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17800" y="2955960"/>
                <a:ext cx="50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22840" y="2961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27880" y="2966400"/>
                <a:ext cx="468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32560" y="2973240"/>
                <a:ext cx="14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32560" y="2980080"/>
                <a:ext cx="144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32560" y="29905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32560" y="299556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127520" y="300060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1122480" y="3005640"/>
                <a:ext cx="4680" cy="1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117800" y="30196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1109520" y="3019680"/>
                <a:ext cx="79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104120" y="30247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099440" y="30247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1089360" y="302472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084320" y="30247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076400" y="3019680"/>
                <a:ext cx="79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1071000" y="30196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1066320" y="3005640"/>
                <a:ext cx="4680" cy="1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1061280" y="300060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061280" y="29955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1061280" y="299052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1061280" y="2979720"/>
                <a:ext cx="180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061280" y="2973240"/>
                <a:ext cx="1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1061280" y="2966040"/>
                <a:ext cx="50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1066680" y="2961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071360" y="295560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076400" y="294912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8468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89360" y="2949120"/>
                <a:ext cx="10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99800" y="294912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74960" y="2955960"/>
                <a:ext cx="19800" cy="6336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9" y="0"/>
                    </a:moveTo>
                    <a:lnTo>
                      <a:pt x="6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6" y="34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1084320" y="295596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079280" y="296136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079640" y="2966400"/>
                <a:ext cx="144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074600" y="29732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74960" y="2973240"/>
                <a:ext cx="144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74960" y="29800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74960" y="298512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74960" y="299052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74960" y="29955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74960" y="300060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79640" y="300060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79640" y="300888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84680" y="301428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089360" y="301968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089360" y="301968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1089360" y="301392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089360" y="30088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084320" y="300888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084680" y="3000240"/>
                <a:ext cx="180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084680" y="29955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1084680" y="299052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1084680" y="298476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084680" y="29800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84680" y="298008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089360" y="2973240"/>
                <a:ext cx="180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26840" y="2928600"/>
              <a:ext cx="2472840" cy="1561320"/>
              <a:chOff x="726840" y="2928600"/>
              <a:chExt cx="2472840" cy="156132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1089360" y="296568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1089360" y="29610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1089360" y="295524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89360" y="2955600"/>
                <a:ext cx="180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87480" y="2949120"/>
                <a:ext cx="78120" cy="802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0" y="0"/>
                    </a:moveTo>
                    <a:lnTo>
                      <a:pt x="26" y="0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4" y="14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44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3" y="44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9" y="44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820960" y="294912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30680" y="2949120"/>
                <a:ext cx="64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37520" y="29556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42200" y="2955600"/>
                <a:ext cx="64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49040" y="296100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853720" y="2966040"/>
                <a:ext cx="612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860200" y="2973240"/>
                <a:ext cx="1800" cy="11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0200" y="2984760"/>
                <a:ext cx="50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860200" y="299016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60200" y="2995200"/>
                <a:ext cx="180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853360" y="3005280"/>
                <a:ext cx="612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848680" y="301392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842200" y="3019320"/>
                <a:ext cx="64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2837160" y="302436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2830680" y="3024360"/>
                <a:ext cx="64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2820600" y="302940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2815560" y="302940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2810160" y="3024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2802240" y="302436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2797200" y="30193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2792160" y="301356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2787480" y="3004920"/>
                <a:ext cx="504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2787480" y="2995200"/>
                <a:ext cx="180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2787480" y="29901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787480" y="298440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787480" y="2973240"/>
                <a:ext cx="1800" cy="11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87480" y="2965680"/>
                <a:ext cx="50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792520" y="296100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2797560" y="295524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02240" y="29556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810520" y="2949120"/>
                <a:ext cx="46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5560" y="294912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20960" y="294912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797560" y="2961000"/>
                <a:ext cx="21240" cy="5796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10" y="0"/>
                    </a:move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3" y="28"/>
                    </a:lnTo>
                    <a:lnTo>
                      <a:pt x="6" y="31"/>
                    </a:lnTo>
                    <a:lnTo>
                      <a:pt x="10" y="34"/>
                    </a:lnTo>
                    <a:lnTo>
                      <a:pt x="13" y="34"/>
                    </a:lnTo>
                    <a:lnTo>
                      <a:pt x="10" y="34"/>
                    </a:lnTo>
                    <a:lnTo>
                      <a:pt x="10" y="31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10" y="11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2807280" y="2961000"/>
                <a:ext cx="6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07280" y="29610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801880" y="29660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02240" y="296604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2797200" y="2971080"/>
                <a:ext cx="468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97560" y="297972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797560" y="298476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797560" y="29901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97560" y="29952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797560" y="3000240"/>
                <a:ext cx="468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02240" y="300888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07280" y="3013920"/>
                <a:ext cx="64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14120" y="301932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2813760" y="301932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814120" y="301356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2814120" y="30088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807280" y="3008880"/>
                <a:ext cx="64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2807280" y="2999880"/>
                <a:ext cx="180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807280" y="29952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807280" y="29901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2807280" y="298440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807280" y="297972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2814120" y="297072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814120" y="296604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2814120" y="29610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14120" y="2961000"/>
                <a:ext cx="14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636560" y="4442040"/>
                <a:ext cx="6537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89480" y="4287600"/>
                <a:ext cx="188280" cy="200160"/>
              </a:xfrm>
              <a:custGeom>
                <a:avLst/>
                <a:gdLst/>
                <a:ahLst/>
                <a:rect l="l" t="t" r="r" b="b"/>
                <a:pathLst>
                  <a:path w="114" h="117">
                    <a:moveTo>
                      <a:pt x="64" y="117"/>
                    </a:moveTo>
                    <a:lnTo>
                      <a:pt x="0" y="117"/>
                    </a:lnTo>
                    <a:lnTo>
                      <a:pt x="0" y="87"/>
                    </a:lnTo>
                    <a:lnTo>
                      <a:pt x="91" y="0"/>
                    </a:lnTo>
                    <a:lnTo>
                      <a:pt x="114" y="0"/>
                    </a:lnTo>
                    <a:lnTo>
                      <a:pt x="64" y="90"/>
                    </a:lnTo>
                    <a:lnTo>
                      <a:pt x="64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689480" y="4488120"/>
                <a:ext cx="105840" cy="180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1689480" y="4437000"/>
                <a:ext cx="1440" cy="5112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1689480" y="4287600"/>
                <a:ext cx="150480" cy="14904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39960" y="4287600"/>
                <a:ext cx="37800" cy="180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1794960" y="4287600"/>
                <a:ext cx="82440" cy="154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95320" y="4442040"/>
                <a:ext cx="1440" cy="4608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95320" y="4488120"/>
                <a:ext cx="1440" cy="1800"/>
              </a:xfrm>
              <a:prstGeom prst="line">
                <a:avLst/>
              </a:prstGeom>
              <a:ln w="3240">
                <a:solidFill>
                  <a:srgbClr val="ff8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845000" y="4137120"/>
                <a:ext cx="115920" cy="15048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53" y="0"/>
                    </a:moveTo>
                    <a:lnTo>
                      <a:pt x="49" y="4"/>
                    </a:lnTo>
                    <a:lnTo>
                      <a:pt x="46" y="4"/>
                    </a:lnTo>
                    <a:lnTo>
                      <a:pt x="43" y="4"/>
                    </a:lnTo>
                    <a:lnTo>
                      <a:pt x="40" y="7"/>
                    </a:lnTo>
                    <a:lnTo>
                      <a:pt x="37" y="7"/>
                    </a:lnTo>
                    <a:lnTo>
                      <a:pt x="37" y="10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9" y="21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4" y="53"/>
                    </a:lnTo>
                    <a:lnTo>
                      <a:pt x="9" y="53"/>
                    </a:lnTo>
                    <a:lnTo>
                      <a:pt x="6" y="53"/>
                    </a:lnTo>
                    <a:lnTo>
                      <a:pt x="3" y="58"/>
                    </a:lnTo>
                    <a:lnTo>
                      <a:pt x="3" y="61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20" y="88"/>
                    </a:lnTo>
                    <a:lnTo>
                      <a:pt x="20" y="67"/>
                    </a:lnTo>
                    <a:lnTo>
                      <a:pt x="20" y="64"/>
                    </a:lnTo>
                    <a:lnTo>
                      <a:pt x="23" y="61"/>
                    </a:lnTo>
                    <a:lnTo>
                      <a:pt x="26" y="58"/>
                    </a:lnTo>
                    <a:lnTo>
                      <a:pt x="29" y="58"/>
                    </a:lnTo>
                    <a:lnTo>
                      <a:pt x="32" y="53"/>
                    </a:lnTo>
                    <a:lnTo>
                      <a:pt x="37" y="53"/>
                    </a:lnTo>
                    <a:lnTo>
                      <a:pt x="40" y="53"/>
                    </a:lnTo>
                    <a:lnTo>
                      <a:pt x="53" y="53"/>
                    </a:lnTo>
                    <a:lnTo>
                      <a:pt x="53" y="21"/>
                    </a:lnTo>
                    <a:lnTo>
                      <a:pt x="53" y="18"/>
                    </a:lnTo>
                    <a:lnTo>
                      <a:pt x="53" y="14"/>
                    </a:lnTo>
                    <a:lnTo>
                      <a:pt x="56" y="14"/>
                    </a:lnTo>
                    <a:lnTo>
                      <a:pt x="56" y="10"/>
                    </a:lnTo>
                    <a:lnTo>
                      <a:pt x="60" y="7"/>
                    </a:lnTo>
                    <a:lnTo>
                      <a:pt x="63" y="4"/>
                    </a:lnTo>
                    <a:lnTo>
                      <a:pt x="67" y="4"/>
                    </a:lnTo>
                    <a:lnTo>
                      <a:pt x="70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1926000" y="4137120"/>
                <a:ext cx="648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1920960" y="414396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1915920" y="414396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1910880" y="414396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1906200" y="414900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06200" y="41490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1897920" y="4154040"/>
                <a:ext cx="79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97920" y="415404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97920" y="416124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1892520" y="416808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92880" y="41680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892880" y="4173120"/>
                <a:ext cx="1800" cy="5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882800" y="4227840"/>
                <a:ext cx="972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873080" y="4227840"/>
                <a:ext cx="100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867680" y="42278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860120" y="4227840"/>
                <a:ext cx="792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1854720" y="42278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1849680" y="4227840"/>
                <a:ext cx="50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49680" y="42364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844640" y="424152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45000" y="424152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45000" y="424656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845000" y="4251960"/>
                <a:ext cx="1800" cy="356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845000" y="4287600"/>
                <a:ext cx="3276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78120" y="4251600"/>
                <a:ext cx="1800" cy="356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78120" y="424620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878120" y="4241520"/>
                <a:ext cx="50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883160" y="423648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88200" y="423648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892880" y="4227480"/>
                <a:ext cx="468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97920" y="4227840"/>
                <a:ext cx="792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06200" y="422784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11240" y="4227840"/>
                <a:ext cx="212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1932840" y="4173120"/>
                <a:ext cx="1440" cy="547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1932840" y="41680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1932840" y="4160880"/>
                <a:ext cx="144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32840" y="41612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937880" y="415368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1937880" y="414900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1944360" y="414396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49400" y="4143960"/>
                <a:ext cx="6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1956240" y="4136760"/>
                <a:ext cx="468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1932840" y="4137120"/>
                <a:ext cx="280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32840" y="413712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906200" y="2928600"/>
                <a:ext cx="112680" cy="119880"/>
              </a:xfrm>
              <a:custGeom>
                <a:avLst/>
                <a:gdLst/>
                <a:ahLst/>
                <a:rect l="l" t="t" r="r" b="b"/>
                <a:pathLst>
                  <a:path w="68" h="70">
                    <a:moveTo>
                      <a:pt x="33" y="0"/>
                    </a:moveTo>
                    <a:lnTo>
                      <a:pt x="39" y="0"/>
                    </a:lnTo>
                    <a:lnTo>
                      <a:pt x="45" y="3"/>
                    </a:lnTo>
                    <a:lnTo>
                      <a:pt x="53" y="6"/>
                    </a:lnTo>
                    <a:lnTo>
                      <a:pt x="59" y="9"/>
                    </a:lnTo>
                    <a:lnTo>
                      <a:pt x="62" y="17"/>
                    </a:lnTo>
                    <a:lnTo>
                      <a:pt x="65" y="23"/>
                    </a:lnTo>
                    <a:lnTo>
                      <a:pt x="68" y="30"/>
                    </a:lnTo>
                    <a:lnTo>
                      <a:pt x="68" y="37"/>
                    </a:lnTo>
                    <a:lnTo>
                      <a:pt x="68" y="44"/>
                    </a:lnTo>
                    <a:lnTo>
                      <a:pt x="65" y="50"/>
                    </a:lnTo>
                    <a:lnTo>
                      <a:pt x="62" y="56"/>
                    </a:lnTo>
                    <a:lnTo>
                      <a:pt x="59" y="61"/>
                    </a:lnTo>
                    <a:lnTo>
                      <a:pt x="53" y="67"/>
                    </a:lnTo>
                    <a:lnTo>
                      <a:pt x="45" y="70"/>
                    </a:lnTo>
                    <a:lnTo>
                      <a:pt x="39" y="70"/>
                    </a:lnTo>
                    <a:lnTo>
                      <a:pt x="33" y="70"/>
                    </a:lnTo>
                    <a:lnTo>
                      <a:pt x="30" y="70"/>
                    </a:lnTo>
                    <a:lnTo>
                      <a:pt x="23" y="70"/>
                    </a:lnTo>
                    <a:lnTo>
                      <a:pt x="16" y="67"/>
                    </a:lnTo>
                    <a:lnTo>
                      <a:pt x="9" y="61"/>
                    </a:lnTo>
                    <a:lnTo>
                      <a:pt x="6" y="56"/>
                    </a:lnTo>
                    <a:lnTo>
                      <a:pt x="3" y="50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3" y="23"/>
                    </a:lnTo>
                    <a:lnTo>
                      <a:pt x="6" y="17"/>
                    </a:lnTo>
                    <a:lnTo>
                      <a:pt x="9" y="9"/>
                    </a:lnTo>
                    <a:lnTo>
                      <a:pt x="16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60920" y="292860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970640" y="292860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980720" y="2933640"/>
                <a:ext cx="12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94040" y="2938680"/>
                <a:ext cx="100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004120" y="294408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009160" y="2957400"/>
                <a:ext cx="46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013840" y="2967480"/>
                <a:ext cx="468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018880" y="2979720"/>
                <a:ext cx="18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18880" y="2991600"/>
                <a:ext cx="18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013480" y="3003840"/>
                <a:ext cx="46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2008800" y="3013920"/>
                <a:ext cx="468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003760" y="3024360"/>
                <a:ext cx="46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1994040" y="3033000"/>
                <a:ext cx="100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1980720" y="3043080"/>
                <a:ext cx="1296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970640" y="3048480"/>
                <a:ext cx="10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1960560" y="304848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1955880" y="30484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1944360" y="3048480"/>
                <a:ext cx="11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1932840" y="3042720"/>
                <a:ext cx="1152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921320" y="3033000"/>
                <a:ext cx="1152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1915920" y="3024000"/>
                <a:ext cx="46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1910880" y="3013560"/>
                <a:ext cx="468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flipV="1">
                <a:off x="1906200" y="3003840"/>
                <a:ext cx="504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906200" y="2991240"/>
                <a:ext cx="18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1906200" y="2979360"/>
                <a:ext cx="18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906200" y="2967120"/>
                <a:ext cx="504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11240" y="2957400"/>
                <a:ext cx="4680" cy="1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1916280" y="294372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921320" y="2938320"/>
                <a:ext cx="1152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932840" y="293364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1944360" y="292860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56240" y="292860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960920" y="2928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921320" y="2944080"/>
                <a:ext cx="34920" cy="9036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0"/>
                    </a:move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3" y="27"/>
                    </a:lnTo>
                    <a:lnTo>
                      <a:pt x="3" y="30"/>
                    </a:lnTo>
                    <a:lnTo>
                      <a:pt x="3" y="33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7" y="44"/>
                    </a:lnTo>
                    <a:lnTo>
                      <a:pt x="10" y="47"/>
                    </a:lnTo>
                    <a:lnTo>
                      <a:pt x="14" y="50"/>
                    </a:lnTo>
                    <a:lnTo>
                      <a:pt x="17" y="50"/>
                    </a:lnTo>
                    <a:lnTo>
                      <a:pt x="21" y="53"/>
                    </a:lnTo>
                    <a:lnTo>
                      <a:pt x="21" y="50"/>
                    </a:lnTo>
                    <a:lnTo>
                      <a:pt x="17" y="50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14" y="39"/>
                    </a:lnTo>
                    <a:lnTo>
                      <a:pt x="14" y="36"/>
                    </a:lnTo>
                    <a:lnTo>
                      <a:pt x="14" y="33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14" y="24"/>
                    </a:lnTo>
                    <a:lnTo>
                      <a:pt x="14" y="21"/>
                    </a:lnTo>
                    <a:lnTo>
                      <a:pt x="14" y="17"/>
                    </a:lnTo>
                    <a:lnTo>
                      <a:pt x="17" y="13"/>
                    </a:lnTo>
                    <a:lnTo>
                      <a:pt x="17" y="10"/>
                    </a:lnTo>
                    <a:lnTo>
                      <a:pt x="17" y="7"/>
                    </a:lnTo>
                    <a:lnTo>
                      <a:pt x="17" y="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1944000" y="294408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937880" y="294408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932480" y="2949120"/>
                <a:ext cx="468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32840" y="295560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1926000" y="2961000"/>
                <a:ext cx="6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926000" y="29610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926000" y="296604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926000" y="2973240"/>
                <a:ext cx="180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920960" y="297972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921320" y="298476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26000" y="29901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26000" y="299520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926000" y="300024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26000" y="3005280"/>
                <a:ext cx="64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32840" y="301068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32840" y="301932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37880" y="302436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44360" y="302940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949400" y="3029400"/>
                <a:ext cx="64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1956240" y="30294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1949400" y="3029400"/>
                <a:ext cx="64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1949400" y="30243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 flipV="1">
                <a:off x="1944000" y="301932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1944360" y="301032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1944360" y="300492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1944360" y="300024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1944360" y="29952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944360" y="29901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1944360" y="298440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944360" y="297972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1944360" y="2973240"/>
                <a:ext cx="144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1944360" y="2965680"/>
                <a:ext cx="468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1949400" y="296100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1949400" y="295524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1949400" y="2949120"/>
                <a:ext cx="144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1949400" y="29440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49400" y="2944080"/>
                <a:ext cx="14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27200" y="3630600"/>
                <a:ext cx="753480" cy="85320"/>
              </a:xfrm>
              <a:custGeom>
                <a:avLst/>
                <a:gdLst/>
                <a:ahLst/>
                <a:rect l="l" t="t" r="r" b="b"/>
                <a:pathLst>
                  <a:path w="455" h="50">
                    <a:moveTo>
                      <a:pt x="0" y="0"/>
                    </a:moveTo>
                    <a:lnTo>
                      <a:pt x="455" y="0"/>
                    </a:lnTo>
                    <a:lnTo>
                      <a:pt x="415" y="50"/>
                    </a:lnTo>
                    <a:lnTo>
                      <a:pt x="40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7200" y="3630600"/>
                <a:ext cx="75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414080" y="3630600"/>
                <a:ext cx="6588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792720" y="3715920"/>
                <a:ext cx="621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flipV="1">
                <a:off x="726840" y="3630240"/>
                <a:ext cx="6588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27200" y="3630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444760" y="3630600"/>
                <a:ext cx="754920" cy="85320"/>
              </a:xfrm>
              <a:custGeom>
                <a:avLst/>
                <a:gdLst/>
                <a:ahLst/>
                <a:rect l="l" t="t" r="r" b="b"/>
                <a:pathLst>
                  <a:path w="456" h="50">
                    <a:moveTo>
                      <a:pt x="0" y="0"/>
                    </a:moveTo>
                    <a:lnTo>
                      <a:pt x="456" y="0"/>
                    </a:lnTo>
                    <a:lnTo>
                      <a:pt x="415" y="50"/>
                    </a:lnTo>
                    <a:lnTo>
                      <a:pt x="41" y="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44760" y="3630600"/>
                <a:ext cx="75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132000" y="3630600"/>
                <a:ext cx="673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755280" y="2820960"/>
              <a:ext cx="2411280" cy="1674000"/>
              <a:chOff x="755280" y="2820960"/>
              <a:chExt cx="2411280" cy="1674000"/>
            </a:xfrm>
          </p:grpSpPr>
          <p:sp>
            <p:nvSpPr>
              <p:cNvPr id="469" name=""/>
              <p:cNvSpPr/>
              <p:nvPr/>
            </p:nvSpPr>
            <p:spPr>
              <a:xfrm flipH="1">
                <a:off x="2512080" y="3715920"/>
                <a:ext cx="619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flipV="1">
                <a:off x="2444400" y="3630240"/>
                <a:ext cx="67320" cy="8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444760" y="363060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912680" y="2820960"/>
                <a:ext cx="97560" cy="133164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076400" y="2970000"/>
                <a:ext cx="1770480" cy="4392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873080" y="4137120"/>
                <a:ext cx="180360" cy="10944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20" y="0"/>
                    </a:moveTo>
                    <a:lnTo>
                      <a:pt x="88" y="0"/>
                    </a:lnTo>
                    <a:lnTo>
                      <a:pt x="92" y="0"/>
                    </a:lnTo>
                    <a:lnTo>
                      <a:pt x="96" y="4"/>
                    </a:lnTo>
                    <a:lnTo>
                      <a:pt x="99" y="4"/>
                    </a:lnTo>
                    <a:lnTo>
                      <a:pt x="102" y="7"/>
                    </a:lnTo>
                    <a:lnTo>
                      <a:pt x="106" y="10"/>
                    </a:lnTo>
                    <a:lnTo>
                      <a:pt x="106" y="14"/>
                    </a:lnTo>
                    <a:lnTo>
                      <a:pt x="109" y="14"/>
                    </a:lnTo>
                    <a:lnTo>
                      <a:pt x="109" y="18"/>
                    </a:lnTo>
                    <a:lnTo>
                      <a:pt x="109" y="21"/>
                    </a:lnTo>
                    <a:lnTo>
                      <a:pt x="109" y="44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6" y="55"/>
                    </a:lnTo>
                    <a:lnTo>
                      <a:pt x="106" y="58"/>
                    </a:lnTo>
                    <a:lnTo>
                      <a:pt x="102" y="58"/>
                    </a:lnTo>
                    <a:lnTo>
                      <a:pt x="99" y="61"/>
                    </a:lnTo>
                    <a:lnTo>
                      <a:pt x="96" y="64"/>
                    </a:lnTo>
                    <a:lnTo>
                      <a:pt x="92" y="64"/>
                    </a:lnTo>
                    <a:lnTo>
                      <a:pt x="88" y="64"/>
                    </a:lnTo>
                    <a:lnTo>
                      <a:pt x="20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9" y="61"/>
                    </a:lnTo>
                    <a:lnTo>
                      <a:pt x="6" y="61"/>
                    </a:lnTo>
                    <a:lnTo>
                      <a:pt x="6" y="58"/>
                    </a:lnTo>
                    <a:lnTo>
                      <a:pt x="3" y="58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06200" y="413712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18880" y="413712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25360" y="4137120"/>
                <a:ext cx="648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3220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37240" y="41443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41920" y="4149360"/>
                <a:ext cx="64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48760" y="415440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048760" y="41612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053800" y="416124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3800" y="41680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53800" y="4173120"/>
                <a:ext cx="144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053800" y="421236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053800" y="4217400"/>
                <a:ext cx="14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048400" y="4222800"/>
                <a:ext cx="468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48760" y="423144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2041920" y="4236480"/>
                <a:ext cx="6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2036880" y="423648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2031840" y="42415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2025360" y="424656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2018880" y="4246560"/>
                <a:ext cx="64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1905840" y="42465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1900800" y="42465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1892880" y="424656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1887840" y="42415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1882800" y="424152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883160" y="42364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1877760" y="42364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1872720" y="423144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1873080" y="4222440"/>
                <a:ext cx="1800" cy="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1873080" y="421704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1873080" y="42123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873080" y="4173120"/>
                <a:ext cx="1800" cy="3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873080" y="416808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1873080" y="416088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873080" y="415404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73080" y="41544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1877760" y="41493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77760" y="414936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1883160" y="41443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88316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888200" y="41443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1892880" y="413676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892880" y="413712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01160" y="413712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906200" y="413712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816560" y="4231440"/>
                <a:ext cx="293040" cy="61200"/>
              </a:xfrm>
              <a:custGeom>
                <a:avLst/>
                <a:gdLst/>
                <a:ahLst/>
                <a:rect l="l" t="t" r="r" b="b"/>
                <a:pathLst>
                  <a:path w="177" h="36">
                    <a:moveTo>
                      <a:pt x="14" y="0"/>
                    </a:moveTo>
                    <a:lnTo>
                      <a:pt x="163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1" y="3"/>
                    </a:lnTo>
                    <a:lnTo>
                      <a:pt x="174" y="3"/>
                    </a:lnTo>
                    <a:lnTo>
                      <a:pt x="174" y="6"/>
                    </a:lnTo>
                    <a:lnTo>
                      <a:pt x="174" y="9"/>
                    </a:lnTo>
                    <a:lnTo>
                      <a:pt x="177" y="9"/>
                    </a:lnTo>
                    <a:lnTo>
                      <a:pt x="177" y="12"/>
                    </a:lnTo>
                    <a:lnTo>
                      <a:pt x="177" y="23"/>
                    </a:lnTo>
                    <a:lnTo>
                      <a:pt x="177" y="27"/>
                    </a:lnTo>
                    <a:lnTo>
                      <a:pt x="174" y="27"/>
                    </a:lnTo>
                    <a:lnTo>
                      <a:pt x="174" y="30"/>
                    </a:lnTo>
                    <a:lnTo>
                      <a:pt x="174" y="33"/>
                    </a:lnTo>
                    <a:lnTo>
                      <a:pt x="171" y="33"/>
                    </a:lnTo>
                    <a:lnTo>
                      <a:pt x="171" y="36"/>
                    </a:lnTo>
                    <a:lnTo>
                      <a:pt x="168" y="36"/>
                    </a:lnTo>
                    <a:lnTo>
                      <a:pt x="163" y="36"/>
                    </a:lnTo>
                    <a:lnTo>
                      <a:pt x="14" y="36"/>
                    </a:lnTo>
                    <a:lnTo>
                      <a:pt x="9" y="36"/>
                    </a:lnTo>
                    <a:lnTo>
                      <a:pt x="6" y="36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9960" y="4231440"/>
                <a:ext cx="246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86920" y="423144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94840" y="42314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99880" y="423144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99880" y="42364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105280" y="42364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05280" y="42415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05280" y="42465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09960" y="4246560"/>
                <a:ext cx="14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09960" y="4251960"/>
                <a:ext cx="1440" cy="1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09960" y="4270680"/>
                <a:ext cx="14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2104920" y="42778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05280" y="427788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05280" y="42829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099880" y="4287960"/>
                <a:ext cx="5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99880" y="42879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2094480" y="42930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086920" y="42930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1839600" y="4293000"/>
                <a:ext cx="246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1831680" y="4293000"/>
                <a:ext cx="7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1826280" y="429300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1821600" y="4293000"/>
                <a:ext cx="5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1821600" y="42879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 flipV="1">
                <a:off x="1816200" y="42829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1816560" y="427788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816560" y="4270320"/>
                <a:ext cx="180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1816560" y="4251600"/>
                <a:ext cx="1800" cy="1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1816560" y="4246200"/>
                <a:ext cx="180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1816560" y="424152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1816560" y="423648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1821600" y="423144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826640" y="423144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1680" y="4231440"/>
                <a:ext cx="7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839960" y="42314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31160" y="4287960"/>
                <a:ext cx="659160" cy="205200"/>
              </a:xfrm>
              <a:custGeom>
                <a:avLst/>
                <a:gdLst/>
                <a:ahLst/>
                <a:rect l="l" t="t" r="r" b="b"/>
                <a:pathLst>
                  <a:path w="398" h="120">
                    <a:moveTo>
                      <a:pt x="99" y="0"/>
                    </a:moveTo>
                    <a:lnTo>
                      <a:pt x="298" y="0"/>
                    </a:lnTo>
                    <a:lnTo>
                      <a:pt x="398" y="90"/>
                    </a:lnTo>
                    <a:lnTo>
                      <a:pt x="398" y="120"/>
                    </a:lnTo>
                    <a:lnTo>
                      <a:pt x="0" y="120"/>
                    </a:lnTo>
                    <a:lnTo>
                      <a:pt x="0" y="9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795320" y="4287960"/>
                <a:ext cx="329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24720" y="4287960"/>
                <a:ext cx="165600" cy="154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90320" y="4442040"/>
                <a:ext cx="1800" cy="5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1630800" y="4493160"/>
                <a:ext cx="659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631160" y="4442040"/>
                <a:ext cx="1800" cy="5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1631160" y="4287960"/>
                <a:ext cx="163800" cy="154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795320" y="428796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59960" y="3008880"/>
                <a:ext cx="33948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099440" y="3008880"/>
                <a:ext cx="34776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55280" y="3646080"/>
                <a:ext cx="692280" cy="28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5080" y="3652560"/>
                <a:ext cx="87480" cy="5796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0" y="0"/>
                    </a:moveTo>
                    <a:lnTo>
                      <a:pt x="36" y="0"/>
                    </a:lnTo>
                    <a:lnTo>
                      <a:pt x="53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75080" y="3652560"/>
                <a:ext cx="590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34480" y="3652560"/>
                <a:ext cx="2808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812520" y="3710880"/>
                <a:ext cx="493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774720" y="3652200"/>
                <a:ext cx="3780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5080" y="365256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2477880" y="3008880"/>
                <a:ext cx="34092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18800" y="3008880"/>
                <a:ext cx="347760" cy="62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72840" y="3646080"/>
                <a:ext cx="693720" cy="28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94440" y="3652560"/>
                <a:ext cx="89280" cy="579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0"/>
                    </a:moveTo>
                    <a:lnTo>
                      <a:pt x="37" y="0"/>
                    </a:lnTo>
                    <a:lnTo>
                      <a:pt x="54" y="34"/>
                    </a:lnTo>
                    <a:lnTo>
                      <a:pt x="23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94440" y="3652560"/>
                <a:ext cx="6120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55640" y="3652560"/>
                <a:ext cx="2808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532240" y="3710880"/>
                <a:ext cx="5112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 flipV="1">
                <a:off x="2494080" y="3652200"/>
                <a:ext cx="37800" cy="579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94440" y="3652560"/>
                <a:ext cx="144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934280" y="2836440"/>
                <a:ext cx="26640" cy="1307520"/>
              </a:xfrm>
              <a:prstGeom prst="rect">
                <a:avLst/>
              </a:prstGeom>
              <a:solidFill>
                <a:srgbClr val="339966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94760" y="2995560"/>
                <a:ext cx="173556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11240" y="3008880"/>
                <a:ext cx="97560" cy="4968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9"/>
                    </a:lnTo>
                    <a:lnTo>
                      <a:pt x="59" y="12"/>
                    </a:lnTo>
                    <a:lnTo>
                      <a:pt x="56" y="20"/>
                    </a:lnTo>
                    <a:lnTo>
                      <a:pt x="50" y="23"/>
                    </a:lnTo>
                    <a:lnTo>
                      <a:pt x="42" y="26"/>
                    </a:lnTo>
                    <a:lnTo>
                      <a:pt x="36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0" y="26"/>
                    </a:lnTo>
                    <a:lnTo>
                      <a:pt x="13" y="23"/>
                    </a:lnTo>
                    <a:lnTo>
                      <a:pt x="6" y="20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009160" y="300888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009160" y="30247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2003760" y="302976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994040" y="3043080"/>
                <a:ext cx="100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1980720" y="3048480"/>
                <a:ext cx="129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1970640" y="305388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960560" y="305892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955520" y="30589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 flipV="1">
                <a:off x="1944360" y="305388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1932840" y="3048480"/>
                <a:ext cx="115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1920960" y="3042720"/>
                <a:ext cx="1152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1915920" y="3029400"/>
                <a:ext cx="4680" cy="13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1910880" y="30247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911240" y="300852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911240" y="3008880"/>
                <a:ext cx="97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09160" y="300888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061280" y="2949120"/>
                <a:ext cx="71280" cy="802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0"/>
                    </a:moveTo>
                    <a:lnTo>
                      <a:pt x="26" y="0"/>
                    </a:lnTo>
                    <a:lnTo>
                      <a:pt x="29" y="0"/>
                    </a:lnTo>
                    <a:lnTo>
                      <a:pt x="34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7"/>
                    </a:lnTo>
                    <a:lnTo>
                      <a:pt x="43" y="30"/>
                    </a:lnTo>
                    <a:lnTo>
                      <a:pt x="40" y="33"/>
                    </a:lnTo>
                    <a:lnTo>
                      <a:pt x="37" y="41"/>
                    </a:lnTo>
                    <a:lnTo>
                      <a:pt x="34" y="41"/>
                    </a:lnTo>
                    <a:lnTo>
                      <a:pt x="29" y="44"/>
                    </a:lnTo>
                    <a:lnTo>
                      <a:pt x="26" y="44"/>
                    </a:lnTo>
                    <a:lnTo>
                      <a:pt x="23" y="47"/>
                    </a:lnTo>
                    <a:lnTo>
                      <a:pt x="17" y="44"/>
                    </a:lnTo>
                    <a:lnTo>
                      <a:pt x="14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3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09944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0448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09160" y="294912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17440" y="2955960"/>
                <a:ext cx="504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22840" y="2961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127880" y="2966400"/>
                <a:ext cx="468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32560" y="2973240"/>
                <a:ext cx="14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32560" y="2980080"/>
                <a:ext cx="144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32560" y="299052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32560" y="2995560"/>
                <a:ext cx="1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127520" y="300060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1122480" y="3005640"/>
                <a:ext cx="4680" cy="1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117440" y="3019680"/>
                <a:ext cx="5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1109160" y="3019680"/>
                <a:ext cx="79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1104120" y="30247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1099080" y="302472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1089360" y="3024720"/>
                <a:ext cx="100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1084320" y="30247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1076400" y="3019680"/>
                <a:ext cx="79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1071000" y="301968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1066320" y="3005640"/>
                <a:ext cx="4680" cy="1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1061280" y="3000600"/>
                <a:ext cx="50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061280" y="299556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061280" y="2990520"/>
                <a:ext cx="1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061280" y="2979720"/>
                <a:ext cx="1800" cy="1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1061280" y="2973240"/>
                <a:ext cx="1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1061280" y="2966040"/>
                <a:ext cx="5040" cy="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1066680" y="2961360"/>
                <a:ext cx="468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1071360" y="2955600"/>
                <a:ext cx="46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1076400" y="294912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84680" y="2949120"/>
                <a:ext cx="4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89360" y="2949120"/>
                <a:ext cx="100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99440" y="294912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074600" y="2955960"/>
                <a:ext cx="19800" cy="6336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9" y="0"/>
                    </a:moveTo>
                    <a:lnTo>
                      <a:pt x="6" y="3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6" y="34"/>
                    </a:lnTo>
                    <a:lnTo>
                      <a:pt x="9" y="37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9" y="34"/>
                    </a:lnTo>
                    <a:lnTo>
                      <a:pt x="9" y="31"/>
                    </a:lnTo>
                    <a:lnTo>
                      <a:pt x="6" y="31"/>
                    </a:lnTo>
                    <a:lnTo>
                      <a:pt x="6" y="26"/>
                    </a:lnTo>
                    <a:lnTo>
                      <a:pt x="6" y="23"/>
                    </a:lnTo>
                    <a:lnTo>
                      <a:pt x="6" y="20"/>
                    </a:lnTo>
                    <a:lnTo>
                      <a:pt x="6" y="17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9" y="1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084320" y="295596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079280" y="296136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079640" y="2966400"/>
                <a:ext cx="144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1074240" y="2973240"/>
                <a:ext cx="468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74600" y="2973240"/>
                <a:ext cx="144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074600" y="298008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74600" y="2985120"/>
                <a:ext cx="144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074600" y="299052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074600" y="2995560"/>
                <a:ext cx="144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74600" y="300060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079640" y="3000600"/>
                <a:ext cx="144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079640" y="3008880"/>
                <a:ext cx="468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084680" y="3014280"/>
                <a:ext cx="468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089360" y="301968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089360" y="3019680"/>
                <a:ext cx="5040" cy="14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1089360" y="301392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1089360" y="30088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1084320" y="300888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1084680" y="3000240"/>
                <a:ext cx="1800" cy="82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1084680" y="29955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1084680" y="299052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084680" y="298476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084680" y="298008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084680" y="2980080"/>
                <a:ext cx="468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1089360" y="2973240"/>
                <a:ext cx="1800" cy="648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1089360" y="2966040"/>
                <a:ext cx="1800" cy="68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1089360" y="2961360"/>
                <a:ext cx="1800" cy="5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1089360" y="2955600"/>
                <a:ext cx="1800" cy="54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89360" y="2955960"/>
                <a:ext cx="1800" cy="180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787480" y="2949120"/>
                <a:ext cx="78120" cy="8028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0" y="0"/>
                    </a:moveTo>
                    <a:lnTo>
                      <a:pt x="26" y="0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7" y="7"/>
                    </a:lnTo>
                    <a:lnTo>
                      <a:pt x="40" y="10"/>
                    </a:lnTo>
                    <a:lnTo>
                      <a:pt x="44" y="14"/>
                    </a:lnTo>
                    <a:lnTo>
                      <a:pt x="44" y="21"/>
                    </a:lnTo>
                    <a:lnTo>
                      <a:pt x="47" y="24"/>
                    </a:lnTo>
                    <a:lnTo>
                      <a:pt x="44" y="27"/>
                    </a:lnTo>
                    <a:lnTo>
                      <a:pt x="44" y="33"/>
                    </a:lnTo>
                    <a:lnTo>
                      <a:pt x="40" y="38"/>
                    </a:lnTo>
                    <a:lnTo>
                      <a:pt x="37" y="41"/>
                    </a:lnTo>
                    <a:lnTo>
                      <a:pt x="33" y="44"/>
                    </a:lnTo>
                    <a:lnTo>
                      <a:pt x="30" y="44"/>
                    </a:lnTo>
                    <a:lnTo>
                      <a:pt x="26" y="47"/>
                    </a:lnTo>
                    <a:lnTo>
                      <a:pt x="20" y="47"/>
                    </a:lnTo>
                    <a:lnTo>
                      <a:pt x="17" y="47"/>
                    </a:lnTo>
                    <a:lnTo>
                      <a:pt x="14" y="44"/>
                    </a:lnTo>
                    <a:lnTo>
                      <a:pt x="9" y="44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3" y="10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4" y="4"/>
                    </a:lnTo>
                    <a:lnTo>
                      <a:pt x="17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20600" y="294912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30680" y="2949120"/>
                <a:ext cx="64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37160" y="2955960"/>
                <a:ext cx="4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842200" y="2955960"/>
                <a:ext cx="6480" cy="5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849400" y="2961360"/>
              <a:ext cx="46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54080" y="2966400"/>
              <a:ext cx="612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60560" y="2973240"/>
              <a:ext cx="180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60560" y="2985120"/>
              <a:ext cx="504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860560" y="2990520"/>
              <a:ext cx="50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60560" y="2995560"/>
              <a:ext cx="180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853720" y="3005640"/>
              <a:ext cx="612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2849040" y="3014280"/>
              <a:ext cx="468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2842560" y="3019680"/>
              <a:ext cx="64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837160" y="3024720"/>
              <a:ext cx="4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831040" y="3024720"/>
              <a:ext cx="64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820600" y="302976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2815920" y="3029760"/>
              <a:ext cx="5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810520" y="3024720"/>
              <a:ext cx="46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2802600" y="3024720"/>
              <a:ext cx="7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2797560" y="3019680"/>
              <a:ext cx="46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2792520" y="3013920"/>
              <a:ext cx="468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flipV="1">
              <a:off x="2787840" y="3005280"/>
              <a:ext cx="504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2787840" y="2995560"/>
              <a:ext cx="180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787840" y="2990520"/>
              <a:ext cx="180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787840" y="2984760"/>
              <a:ext cx="180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787840" y="2973240"/>
              <a:ext cx="180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787840" y="2966040"/>
              <a:ext cx="5040" cy="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2792880" y="2961360"/>
              <a:ext cx="46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797920" y="2955600"/>
              <a:ext cx="468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02600" y="2955960"/>
              <a:ext cx="7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810880" y="2949480"/>
              <a:ext cx="46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15920" y="2949480"/>
              <a:ext cx="5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20960" y="2949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97920" y="2961360"/>
              <a:ext cx="21240" cy="5796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3" y="28"/>
                  </a:lnTo>
                  <a:lnTo>
                    <a:pt x="6" y="31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0" y="34"/>
                  </a:lnTo>
                  <a:lnTo>
                    <a:pt x="10" y="31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6" y="23"/>
                  </a:lnTo>
                  <a:lnTo>
                    <a:pt x="6" y="20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2807640" y="2961360"/>
              <a:ext cx="64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807640" y="29613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2802240" y="296640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02600" y="296640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797560" y="2971440"/>
              <a:ext cx="468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97920" y="298008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97920" y="298512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97920" y="299052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797920" y="29955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97920" y="3000600"/>
              <a:ext cx="468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02600" y="300924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07640" y="3014280"/>
              <a:ext cx="648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14480" y="301968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814120" y="301968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814480" y="301392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814480" y="300924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807640" y="3009240"/>
              <a:ext cx="648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807640" y="3000240"/>
              <a:ext cx="180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2807640" y="29955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807640" y="299052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807640" y="2984760"/>
              <a:ext cx="180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2807640" y="298008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814480" y="2971080"/>
              <a:ext cx="144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814480" y="296640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814480" y="29613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14480" y="2961360"/>
              <a:ext cx="1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36560" y="4442400"/>
              <a:ext cx="6537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89480" y="4287960"/>
              <a:ext cx="188280" cy="200160"/>
            </a:xfrm>
            <a:custGeom>
              <a:avLst/>
              <a:gdLst/>
              <a:ahLst/>
              <a:rect l="l" t="t" r="r" b="b"/>
              <a:pathLst>
                <a:path w="114" h="117">
                  <a:moveTo>
                    <a:pt x="64" y="117"/>
                  </a:moveTo>
                  <a:lnTo>
                    <a:pt x="0" y="117"/>
                  </a:lnTo>
                  <a:lnTo>
                    <a:pt x="0" y="87"/>
                  </a:lnTo>
                  <a:lnTo>
                    <a:pt x="91" y="0"/>
                  </a:lnTo>
                  <a:lnTo>
                    <a:pt x="114" y="0"/>
                  </a:lnTo>
                  <a:lnTo>
                    <a:pt x="64" y="90"/>
                  </a:lnTo>
                  <a:lnTo>
                    <a:pt x="6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689480" y="4488480"/>
              <a:ext cx="105840" cy="180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689480" y="4437360"/>
              <a:ext cx="1440" cy="5112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1689480" y="4287960"/>
              <a:ext cx="150480" cy="14904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40320" y="4287960"/>
              <a:ext cx="37800" cy="180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1794960" y="4287960"/>
              <a:ext cx="82440" cy="154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95320" y="4442400"/>
              <a:ext cx="1440" cy="4608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95320" y="4488480"/>
              <a:ext cx="1440" cy="1800"/>
            </a:xfrm>
            <a:prstGeom prst="line">
              <a:avLst/>
            </a:prstGeom>
            <a:ln w="3240">
              <a:solidFill>
                <a:srgbClr val="ff8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45000" y="4137480"/>
              <a:ext cx="115920" cy="1504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53" y="0"/>
                  </a:moveTo>
                  <a:lnTo>
                    <a:pt x="49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0" y="7"/>
                  </a:lnTo>
                  <a:lnTo>
                    <a:pt x="37" y="7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29" y="53"/>
                  </a:lnTo>
                  <a:lnTo>
                    <a:pt x="23" y="53"/>
                  </a:lnTo>
                  <a:lnTo>
                    <a:pt x="17" y="53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20" y="88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3" y="61"/>
                  </a:lnTo>
                  <a:lnTo>
                    <a:pt x="26" y="58"/>
                  </a:lnTo>
                  <a:lnTo>
                    <a:pt x="29" y="58"/>
                  </a:lnTo>
                  <a:lnTo>
                    <a:pt x="32" y="53"/>
                  </a:lnTo>
                  <a:lnTo>
                    <a:pt x="37" y="53"/>
                  </a:lnTo>
                  <a:lnTo>
                    <a:pt x="40" y="53"/>
                  </a:lnTo>
                  <a:lnTo>
                    <a:pt x="53" y="53"/>
                  </a:lnTo>
                  <a:lnTo>
                    <a:pt x="53" y="21"/>
                  </a:lnTo>
                  <a:lnTo>
                    <a:pt x="53" y="18"/>
                  </a:lnTo>
                  <a:lnTo>
                    <a:pt x="53" y="14"/>
                  </a:lnTo>
                  <a:lnTo>
                    <a:pt x="56" y="14"/>
                  </a:lnTo>
                  <a:lnTo>
                    <a:pt x="56" y="10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7" y="4"/>
                  </a:lnTo>
                  <a:lnTo>
                    <a:pt x="7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1926360" y="4137480"/>
              <a:ext cx="648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1920960" y="414432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916280" y="414432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1911240" y="414432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906200" y="4149360"/>
              <a:ext cx="50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06200" y="41493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1897920" y="4154400"/>
              <a:ext cx="792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97920" y="4154400"/>
              <a:ext cx="180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97920" y="4161600"/>
              <a:ext cx="180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892880" y="416844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93240" y="416844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93240" y="4173480"/>
              <a:ext cx="1800" cy="54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1883160" y="4228200"/>
              <a:ext cx="97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873080" y="4228200"/>
              <a:ext cx="100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868040" y="422820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1860120" y="4228200"/>
              <a:ext cx="7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1854720" y="422820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1850040" y="4228200"/>
              <a:ext cx="504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50040" y="423684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1844640" y="4241880"/>
              <a:ext cx="468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45000" y="424188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45000" y="4246920"/>
              <a:ext cx="180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45000" y="4252320"/>
              <a:ext cx="1800" cy="35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45000" y="4287960"/>
              <a:ext cx="3276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1878120" y="4251960"/>
              <a:ext cx="1800" cy="35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1878120" y="4246560"/>
              <a:ext cx="180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1878120" y="4241880"/>
              <a:ext cx="50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883520" y="423684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88200" y="423684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1893240" y="4227840"/>
              <a:ext cx="468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97920" y="4228200"/>
              <a:ext cx="7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06200" y="4228200"/>
              <a:ext cx="50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11600" y="4228200"/>
              <a:ext cx="21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932840" y="4173480"/>
              <a:ext cx="1440" cy="54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932840" y="416844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32840" y="4161240"/>
              <a:ext cx="144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32840" y="416160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937880" y="4154040"/>
              <a:ext cx="180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937880" y="414936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944720" y="414432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949400" y="4144320"/>
              <a:ext cx="64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956240" y="4137120"/>
              <a:ext cx="468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1932840" y="4137480"/>
              <a:ext cx="2808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932840" y="4137480"/>
              <a:ext cx="1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906200" y="2928600"/>
              <a:ext cx="112680" cy="119880"/>
            </a:xfrm>
            <a:custGeom>
              <a:avLst/>
              <a:gdLst/>
              <a:ahLst/>
              <a:rect l="l" t="t" r="r" b="b"/>
              <a:pathLst>
                <a:path w="68" h="70">
                  <a:moveTo>
                    <a:pt x="33" y="0"/>
                  </a:moveTo>
                  <a:lnTo>
                    <a:pt x="39" y="0"/>
                  </a:lnTo>
                  <a:lnTo>
                    <a:pt x="45" y="3"/>
                  </a:lnTo>
                  <a:lnTo>
                    <a:pt x="53" y="6"/>
                  </a:lnTo>
                  <a:lnTo>
                    <a:pt x="59" y="9"/>
                  </a:lnTo>
                  <a:lnTo>
                    <a:pt x="62" y="17"/>
                  </a:lnTo>
                  <a:lnTo>
                    <a:pt x="65" y="23"/>
                  </a:lnTo>
                  <a:lnTo>
                    <a:pt x="68" y="30"/>
                  </a:lnTo>
                  <a:lnTo>
                    <a:pt x="68" y="37"/>
                  </a:lnTo>
                  <a:lnTo>
                    <a:pt x="68" y="44"/>
                  </a:lnTo>
                  <a:lnTo>
                    <a:pt x="65" y="50"/>
                  </a:lnTo>
                  <a:lnTo>
                    <a:pt x="62" y="56"/>
                  </a:lnTo>
                  <a:lnTo>
                    <a:pt x="59" y="61"/>
                  </a:lnTo>
                  <a:lnTo>
                    <a:pt x="53" y="67"/>
                  </a:lnTo>
                  <a:lnTo>
                    <a:pt x="45" y="70"/>
                  </a:lnTo>
                  <a:lnTo>
                    <a:pt x="39" y="70"/>
                  </a:lnTo>
                  <a:lnTo>
                    <a:pt x="33" y="70"/>
                  </a:lnTo>
                  <a:lnTo>
                    <a:pt x="30" y="70"/>
                  </a:lnTo>
                  <a:lnTo>
                    <a:pt x="23" y="70"/>
                  </a:lnTo>
                  <a:lnTo>
                    <a:pt x="16" y="67"/>
                  </a:lnTo>
                  <a:lnTo>
                    <a:pt x="9" y="61"/>
                  </a:lnTo>
                  <a:lnTo>
                    <a:pt x="6" y="56"/>
                  </a:lnTo>
                  <a:lnTo>
                    <a:pt x="3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961280" y="292860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71000" y="2928600"/>
              <a:ext cx="1008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81080" y="2933640"/>
              <a:ext cx="1296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994400" y="2938680"/>
              <a:ext cx="1008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04480" y="2944080"/>
              <a:ext cx="4680" cy="1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09160" y="2957760"/>
              <a:ext cx="468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14200" y="2967840"/>
              <a:ext cx="468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018880" y="2980080"/>
              <a:ext cx="180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18880" y="2991960"/>
              <a:ext cx="180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2013840" y="3004200"/>
              <a:ext cx="468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008800" y="3014280"/>
              <a:ext cx="4680" cy="1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004120" y="3024720"/>
              <a:ext cx="46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1994400" y="3033000"/>
              <a:ext cx="1008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1981080" y="3043440"/>
              <a:ext cx="1296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1971000" y="3048840"/>
              <a:ext cx="10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960920" y="304884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955880" y="3048840"/>
              <a:ext cx="4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1944720" y="3048840"/>
              <a:ext cx="11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1932840" y="3043080"/>
              <a:ext cx="1152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921320" y="3033000"/>
              <a:ext cx="1152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916280" y="3024360"/>
              <a:ext cx="4680" cy="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1911240" y="3013920"/>
              <a:ext cx="4680" cy="1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1906200" y="3004200"/>
              <a:ext cx="504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1906200" y="2991600"/>
              <a:ext cx="180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1906200" y="2979720"/>
              <a:ext cx="180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1906200" y="2967480"/>
              <a:ext cx="5040" cy="11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1911600" y="2957760"/>
              <a:ext cx="468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1916640" y="2943720"/>
              <a:ext cx="4680" cy="1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1921320" y="2938320"/>
              <a:ext cx="1152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1932840" y="2933640"/>
              <a:ext cx="1152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1944720" y="2928600"/>
              <a:ext cx="1152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956240" y="2928600"/>
              <a:ext cx="4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61280" y="292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21320" y="2944080"/>
              <a:ext cx="34920" cy="9036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0"/>
                  </a:moveTo>
                  <a:lnTo>
                    <a:pt x="14" y="0"/>
                  </a:lnTo>
                  <a:lnTo>
                    <a:pt x="10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3" y="30"/>
                  </a:lnTo>
                  <a:lnTo>
                    <a:pt x="3" y="33"/>
                  </a:lnTo>
                  <a:lnTo>
                    <a:pt x="3" y="36"/>
                  </a:lnTo>
                  <a:lnTo>
                    <a:pt x="7" y="39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4" y="50"/>
                  </a:lnTo>
                  <a:lnTo>
                    <a:pt x="17" y="50"/>
                  </a:lnTo>
                  <a:lnTo>
                    <a:pt x="21" y="53"/>
                  </a:lnTo>
                  <a:lnTo>
                    <a:pt x="21" y="50"/>
                  </a:lnTo>
                  <a:lnTo>
                    <a:pt x="17" y="50"/>
                  </a:lnTo>
                  <a:lnTo>
                    <a:pt x="17" y="47"/>
                  </a:lnTo>
                  <a:lnTo>
                    <a:pt x="14" y="44"/>
                  </a:lnTo>
                  <a:lnTo>
                    <a:pt x="14" y="39"/>
                  </a:lnTo>
                  <a:lnTo>
                    <a:pt x="14" y="36"/>
                  </a:lnTo>
                  <a:lnTo>
                    <a:pt x="14" y="33"/>
                  </a:lnTo>
                  <a:lnTo>
                    <a:pt x="14" y="30"/>
                  </a:lnTo>
                  <a:lnTo>
                    <a:pt x="14" y="27"/>
                  </a:lnTo>
                  <a:lnTo>
                    <a:pt x="14" y="24"/>
                  </a:lnTo>
                  <a:lnTo>
                    <a:pt x="14" y="21"/>
                  </a:lnTo>
                  <a:lnTo>
                    <a:pt x="14" y="17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7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944360" y="294408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1937880" y="294408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1932480" y="2949480"/>
              <a:ext cx="4680" cy="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32840" y="295596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1926360" y="2961360"/>
              <a:ext cx="64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26360" y="29613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26360" y="2966400"/>
              <a:ext cx="180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926360" y="2973240"/>
              <a:ext cx="1800" cy="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920960" y="298008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21320" y="2985120"/>
              <a:ext cx="468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926360" y="299052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6360" y="299556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26360" y="3000600"/>
              <a:ext cx="180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26360" y="3005640"/>
              <a:ext cx="648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32840" y="3011040"/>
              <a:ext cx="144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932840" y="301968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937880" y="302472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44720" y="3029760"/>
              <a:ext cx="4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49400" y="3029760"/>
              <a:ext cx="64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1956240" y="30297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1949400" y="3029760"/>
              <a:ext cx="64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1949400" y="302472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1944360" y="3019680"/>
              <a:ext cx="468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944720" y="3010680"/>
              <a:ext cx="1440" cy="8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1944720" y="300528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1944720" y="300060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1944720" y="29955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1944720" y="299052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1944720" y="298476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1944720" y="298008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1944720" y="2973240"/>
              <a:ext cx="1440" cy="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1944720" y="2966040"/>
              <a:ext cx="4680" cy="6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1949400" y="296136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1949400" y="2955600"/>
              <a:ext cx="1440" cy="5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949400" y="2949480"/>
              <a:ext cx="1440" cy="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949400" y="2944080"/>
              <a:ext cx="1440" cy="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49400" y="2944080"/>
              <a:ext cx="1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Sequenc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2" name=""/>
          <p:cNvGrpSpPr/>
          <p:nvPr/>
        </p:nvGrpSpPr>
        <p:grpSpPr>
          <a:xfrm>
            <a:off x="608760" y="1942920"/>
            <a:ext cx="8156160" cy="2362320"/>
            <a:chOff x="608760" y="1942920"/>
            <a:chExt cx="8156160" cy="2362320"/>
          </a:xfrm>
        </p:grpSpPr>
        <p:cxnSp>
          <p:nvCxnSpPr>
            <p:cNvPr id="2983" name=""/>
            <p:cNvCxnSpPr>
              <a:stCxn id="2984" idx="3"/>
            </p:cNvCxnSpPr>
            <p:nvPr/>
          </p:nvCxnSpPr>
          <p:spPr>
            <a:xfrm>
              <a:off x="3138480" y="1942920"/>
              <a:ext cx="5625360" cy="3852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2985" name=""/>
            <p:cNvCxnSpPr>
              <a:stCxn id="2986" idx="1"/>
            </p:cNvCxnSpPr>
            <p:nvPr/>
          </p:nvCxnSpPr>
          <p:spPr>
            <a:xfrm flipH="1" flipV="1">
              <a:off x="609120" y="4266720"/>
              <a:ext cx="5625360" cy="388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2987" name=""/>
            <p:cNvCxnSpPr/>
            <p:nvPr/>
          </p:nvCxnSpPr>
          <p:spPr>
            <a:xfrm>
              <a:off x="8763120" y="1980720"/>
              <a:ext cx="2160" cy="114372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2988" name=""/>
            <p:cNvCxnSpPr/>
            <p:nvPr/>
          </p:nvCxnSpPr>
          <p:spPr>
            <a:xfrm flipH="1">
              <a:off x="608760" y="3123720"/>
              <a:ext cx="8154360" cy="1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  <p:cxnSp>
          <p:nvCxnSpPr>
            <p:cNvPr id="2989" name=""/>
            <p:cNvCxnSpPr/>
            <p:nvPr/>
          </p:nvCxnSpPr>
          <p:spPr>
            <a:xfrm>
              <a:off x="609120" y="3123720"/>
              <a:ext cx="1080" cy="114372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</a:ln>
          </p:spPr>
        </p:cxnSp>
      </p:grpSp>
      <p:sp>
        <p:nvSpPr>
          <p:cNvPr id="2984" name=""/>
          <p:cNvSpPr/>
          <p:nvPr/>
        </p:nvSpPr>
        <p:spPr>
          <a:xfrm>
            <a:off x="106668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riv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365760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’s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624852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106668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Dr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365760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Driv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24852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Driv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4" name=""/>
          <p:cNvCxnSpPr>
            <a:stCxn id="2995" idx="3"/>
          </p:cNvCxnSpPr>
          <p:nvPr/>
        </p:nvCxnSpPr>
        <p:spPr>
          <a:xfrm>
            <a:off x="3138480" y="1942920"/>
            <a:ext cx="5625360" cy="385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2996" name=""/>
          <p:cNvCxnSpPr>
            <a:stCxn id="2997" idx="1"/>
          </p:cNvCxnSpPr>
          <p:nvPr/>
        </p:nvCxnSpPr>
        <p:spPr>
          <a:xfrm flipH="1" flipV="1">
            <a:off x="609120" y="4266720"/>
            <a:ext cx="5625360" cy="3888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quenc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9" name=""/>
          <p:cNvCxnSpPr/>
          <p:nvPr/>
        </p:nvCxnSpPr>
        <p:spPr>
          <a:xfrm>
            <a:off x="8763120" y="1980720"/>
            <a:ext cx="2160" cy="11437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000" name=""/>
          <p:cNvCxnSpPr/>
          <p:nvPr/>
        </p:nvCxnSpPr>
        <p:spPr>
          <a:xfrm flipH="1">
            <a:off x="608760" y="3123720"/>
            <a:ext cx="815436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cxnSp>
        <p:nvCxnSpPr>
          <p:cNvPr id="3001" name=""/>
          <p:cNvCxnSpPr/>
          <p:nvPr/>
        </p:nvCxnSpPr>
        <p:spPr>
          <a:xfrm>
            <a:off x="609120" y="3123720"/>
            <a:ext cx="1080" cy="1143720"/>
          </a:xfrm>
          <a:prstGeom prst="straightConnector1">
            <a:avLst/>
          </a:prstGeom>
          <a:ln w="38160">
            <a:solidFill>
              <a:srgbClr val="0033cc"/>
            </a:solidFill>
            <a:miter/>
          </a:ln>
        </p:spPr>
      </p:cxnSp>
      <p:sp>
        <p:nvSpPr>
          <p:cNvPr id="2995" name=""/>
          <p:cNvSpPr/>
          <p:nvPr/>
        </p:nvSpPr>
        <p:spPr>
          <a:xfrm>
            <a:off x="106668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65760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6248520" y="114300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106668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65760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6248520" y="3505320"/>
            <a:ext cx="205740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"/>
          <p:cNvSpPr/>
          <p:nvPr/>
        </p:nvSpPr>
        <p:spPr>
          <a:xfrm>
            <a:off x="3575160" y="304920"/>
            <a:ext cx="2063520" cy="7398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895840" y="594360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iagramming/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8" name=""/>
          <p:cNvGrpSpPr/>
          <p:nvPr/>
        </p:nvGrpSpPr>
        <p:grpSpPr>
          <a:xfrm>
            <a:off x="3575160" y="1058760"/>
            <a:ext cx="2063520" cy="1738440"/>
            <a:chOff x="3575160" y="1058760"/>
            <a:chExt cx="2063520" cy="1738440"/>
          </a:xfrm>
        </p:grpSpPr>
        <p:sp>
          <p:nvSpPr>
            <p:cNvPr id="3009" name=""/>
            <p:cNvSpPr/>
            <p:nvPr/>
          </p:nvSpPr>
          <p:spPr>
            <a:xfrm>
              <a:off x="3575160" y="2057400"/>
              <a:ext cx="2063520" cy="7398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0" name=""/>
            <p:cNvCxnSpPr>
              <a:stCxn id="3006" idx="2"/>
              <a:endCxn id="3009" idx="0"/>
            </p:cNvCxnSpPr>
            <p:nvPr/>
          </p:nvCxnSpPr>
          <p:spPr>
            <a:xfrm>
              <a:off x="4606560" y="1058760"/>
              <a:ext cx="1080" cy="98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11" name=""/>
          <p:cNvGrpSpPr/>
          <p:nvPr/>
        </p:nvGrpSpPr>
        <p:grpSpPr>
          <a:xfrm>
            <a:off x="3352680" y="2811240"/>
            <a:ext cx="2514600" cy="2827440"/>
            <a:chOff x="3352680" y="2811240"/>
            <a:chExt cx="2514600" cy="2827440"/>
          </a:xfrm>
        </p:grpSpPr>
        <p:sp>
          <p:nvSpPr>
            <p:cNvPr id="3012" name=""/>
            <p:cNvSpPr/>
            <p:nvPr/>
          </p:nvSpPr>
          <p:spPr>
            <a:xfrm>
              <a:off x="3352680" y="4768920"/>
              <a:ext cx="2514600" cy="86976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landfo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3" name=""/>
            <p:cNvCxnSpPr>
              <a:stCxn id="3009" idx="2"/>
              <a:endCxn id="3012" idx="0"/>
            </p:cNvCxnSpPr>
            <p:nvPr/>
          </p:nvCxnSpPr>
          <p:spPr>
            <a:xfrm>
              <a:off x="4606560" y="2811240"/>
              <a:ext cx="3960" cy="19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14" name=""/>
          <p:cNvGrpSpPr/>
          <p:nvPr/>
        </p:nvGrpSpPr>
        <p:grpSpPr>
          <a:xfrm>
            <a:off x="152280" y="2811240"/>
            <a:ext cx="3429000" cy="1684440"/>
            <a:chOff x="152280" y="2811240"/>
            <a:chExt cx="3429000" cy="1684440"/>
          </a:xfrm>
        </p:grpSpPr>
        <p:sp>
          <p:nvSpPr>
            <p:cNvPr id="3015" name=""/>
            <p:cNvSpPr/>
            <p:nvPr/>
          </p:nvSpPr>
          <p:spPr>
            <a:xfrm>
              <a:off x="152280" y="3581280"/>
              <a:ext cx="1600200" cy="9144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981080" y="3581280"/>
              <a:ext cx="1600200" cy="9144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lt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7" name=""/>
            <p:cNvCxnSpPr>
              <a:stCxn id="3018" idx="2"/>
              <a:endCxn id="3016" idx="0"/>
            </p:cNvCxnSpPr>
            <p:nvPr/>
          </p:nvCxnSpPr>
          <p:spPr>
            <a:xfrm>
              <a:off x="1863360" y="2811240"/>
              <a:ext cx="918360" cy="75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9" name=""/>
            <p:cNvCxnSpPr>
              <a:stCxn id="3018" idx="2"/>
              <a:endCxn id="3015" idx="0"/>
            </p:cNvCxnSpPr>
            <p:nvPr/>
          </p:nvCxnSpPr>
          <p:spPr>
            <a:xfrm flipH="1">
              <a:off x="951840" y="2811240"/>
              <a:ext cx="911880" cy="75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20" name=""/>
          <p:cNvGrpSpPr/>
          <p:nvPr/>
        </p:nvGrpSpPr>
        <p:grpSpPr>
          <a:xfrm>
            <a:off x="831960" y="1058760"/>
            <a:ext cx="3774960" cy="1738440"/>
            <a:chOff x="831960" y="1058760"/>
            <a:chExt cx="3774960" cy="1738440"/>
          </a:xfrm>
        </p:grpSpPr>
        <p:sp>
          <p:nvSpPr>
            <p:cNvPr id="3018" name=""/>
            <p:cNvSpPr/>
            <p:nvPr/>
          </p:nvSpPr>
          <p:spPr>
            <a:xfrm>
              <a:off x="831960" y="2057400"/>
              <a:ext cx="2063520" cy="7398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1" name=""/>
            <p:cNvCxnSpPr>
              <a:stCxn id="3006" idx="2"/>
              <a:endCxn id="3018" idx="0"/>
            </p:cNvCxnSpPr>
            <p:nvPr/>
          </p:nvCxnSpPr>
          <p:spPr>
            <a:xfrm flipH="1">
              <a:off x="1863360" y="1058760"/>
              <a:ext cx="2743920" cy="98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22" name=""/>
          <p:cNvGrpSpPr/>
          <p:nvPr/>
        </p:nvGrpSpPr>
        <p:grpSpPr>
          <a:xfrm>
            <a:off x="4606920" y="1058760"/>
            <a:ext cx="3629160" cy="1738440"/>
            <a:chOff x="4606920" y="1058760"/>
            <a:chExt cx="3629160" cy="1738440"/>
          </a:xfrm>
        </p:grpSpPr>
        <p:sp>
          <p:nvSpPr>
            <p:cNvPr id="3023" name=""/>
            <p:cNvSpPr/>
            <p:nvPr/>
          </p:nvSpPr>
          <p:spPr>
            <a:xfrm>
              <a:off x="6172200" y="2057400"/>
              <a:ext cx="2063880" cy="7398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inent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r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4" name=""/>
            <p:cNvCxnSpPr>
              <a:stCxn id="3006" idx="2"/>
              <a:endCxn id="3023" idx="0"/>
            </p:cNvCxnSpPr>
            <p:nvPr/>
          </p:nvCxnSpPr>
          <p:spPr>
            <a:xfrm>
              <a:off x="4606920" y="1058760"/>
              <a:ext cx="2597760" cy="98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25" name=""/>
          <p:cNvGrpSpPr/>
          <p:nvPr/>
        </p:nvGrpSpPr>
        <p:grpSpPr>
          <a:xfrm>
            <a:off x="5486400" y="2811240"/>
            <a:ext cx="3429000" cy="1684440"/>
            <a:chOff x="5486400" y="2811240"/>
            <a:chExt cx="3429000" cy="1684440"/>
          </a:xfrm>
        </p:grpSpPr>
        <p:sp>
          <p:nvSpPr>
            <p:cNvPr id="3026" name=""/>
            <p:cNvSpPr/>
            <p:nvPr/>
          </p:nvSpPr>
          <p:spPr>
            <a:xfrm>
              <a:off x="5486400" y="3581280"/>
              <a:ext cx="1600200" cy="9144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rl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o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315200" y="3581280"/>
              <a:ext cx="1600200" cy="914400"/>
            </a:xfrm>
            <a:prstGeom prst="ellipse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960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28" name=""/>
            <p:cNvCxnSpPr>
              <a:stCxn id="3023" idx="2"/>
              <a:endCxn id="3026" idx="0"/>
            </p:cNvCxnSpPr>
            <p:nvPr/>
          </p:nvCxnSpPr>
          <p:spPr>
            <a:xfrm flipH="1">
              <a:off x="6286320" y="2811240"/>
              <a:ext cx="918000" cy="75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9" name=""/>
            <p:cNvCxnSpPr>
              <a:stCxn id="3023" idx="2"/>
              <a:endCxn id="3027" idx="0"/>
            </p:cNvCxnSpPr>
            <p:nvPr/>
          </p:nvCxnSpPr>
          <p:spPr>
            <a:xfrm>
              <a:off x="7203960" y="2811240"/>
              <a:ext cx="912240" cy="756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3030" name=""/>
          <p:cNvGrpSpPr/>
          <p:nvPr/>
        </p:nvGrpSpPr>
        <p:grpSpPr>
          <a:xfrm>
            <a:off x="1523880" y="4876920"/>
            <a:ext cx="6096240" cy="990360"/>
            <a:chOff x="1523880" y="4876920"/>
            <a:chExt cx="6096240" cy="990360"/>
          </a:xfrm>
        </p:grpSpPr>
        <p:sp>
          <p:nvSpPr>
            <p:cNvPr id="3031" name=""/>
            <p:cNvSpPr/>
            <p:nvPr/>
          </p:nvSpPr>
          <p:spPr>
            <a:xfrm>
              <a:off x="1523880" y="4876920"/>
              <a:ext cx="1371600" cy="914400"/>
            </a:xfrm>
            <a:prstGeom prst="flowChartPreparation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i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48520" y="4952880"/>
              <a:ext cx="1371600" cy="914400"/>
            </a:xfrm>
            <a:prstGeom prst="flowChartPreparation">
              <a:avLst/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olcano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3" name=""/>
            <p:cNvCxnSpPr>
              <a:stCxn id="3012" idx="2"/>
              <a:endCxn id="3031" idx="3"/>
            </p:cNvCxnSpPr>
            <p:nvPr/>
          </p:nvCxnSpPr>
          <p:spPr>
            <a:xfrm flipH="1">
              <a:off x="2909160" y="5203800"/>
              <a:ext cx="429480" cy="131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4" name=""/>
            <p:cNvCxnSpPr>
              <a:stCxn id="3012" idx="6"/>
              <a:endCxn id="3032" idx="1"/>
            </p:cNvCxnSpPr>
            <p:nvPr/>
          </p:nvCxnSpPr>
          <p:spPr>
            <a:xfrm>
              <a:off x="5881320" y="5203440"/>
              <a:ext cx="353160" cy="207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3035" name=""/>
          <p:cNvSpPr/>
          <p:nvPr/>
        </p:nvSpPr>
        <p:spPr>
          <a:xfrm>
            <a:off x="136440" y="6357960"/>
            <a:ext cx="21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Toronto District School Board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"/>
          <p:cNvSpPr/>
          <p:nvPr/>
        </p:nvSpPr>
        <p:spPr>
          <a:xfrm>
            <a:off x="3575160" y="304920"/>
            <a:ext cx="2063520" cy="7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831960" y="2057400"/>
            <a:ext cx="20635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2895840" y="60199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ming/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3575160" y="2057400"/>
            <a:ext cx="206352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6172200" y="2057400"/>
            <a:ext cx="2063880" cy="73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52280" y="3581280"/>
            <a:ext cx="16002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1981080" y="3581280"/>
            <a:ext cx="16002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352680" y="4768920"/>
            <a:ext cx="2514600" cy="869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5486400" y="3581280"/>
            <a:ext cx="16002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7315200" y="3581280"/>
            <a:ext cx="16002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6" name=""/>
          <p:cNvCxnSpPr>
            <a:stCxn id="3036" idx="2"/>
            <a:endCxn id="3039" idx="0"/>
          </p:cNvCxnSpPr>
          <p:nvPr/>
        </p:nvCxnSpPr>
        <p:spPr>
          <a:xfrm>
            <a:off x="4606560" y="1058760"/>
            <a:ext cx="1080" cy="984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47" name=""/>
          <p:cNvCxnSpPr>
            <a:stCxn id="3039" idx="2"/>
            <a:endCxn id="3043" idx="0"/>
          </p:cNvCxnSpPr>
          <p:nvPr/>
        </p:nvCxnSpPr>
        <p:spPr>
          <a:xfrm>
            <a:off x="4606560" y="2811240"/>
            <a:ext cx="3960" cy="1943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48" name=""/>
          <p:cNvCxnSpPr>
            <a:stCxn id="3037" idx="2"/>
            <a:endCxn id="3042" idx="0"/>
          </p:cNvCxnSpPr>
          <p:nvPr/>
        </p:nvCxnSpPr>
        <p:spPr>
          <a:xfrm>
            <a:off x="1863360" y="2811240"/>
            <a:ext cx="9183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49" name=""/>
          <p:cNvCxnSpPr>
            <a:stCxn id="3037" idx="2"/>
            <a:endCxn id="3041" idx="0"/>
          </p:cNvCxnSpPr>
          <p:nvPr/>
        </p:nvCxnSpPr>
        <p:spPr>
          <a:xfrm flipH="1">
            <a:off x="951840" y="2811240"/>
            <a:ext cx="91188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0" name=""/>
          <p:cNvCxnSpPr>
            <a:stCxn id="3036" idx="2"/>
            <a:endCxn id="3037" idx="0"/>
          </p:cNvCxnSpPr>
          <p:nvPr/>
        </p:nvCxnSpPr>
        <p:spPr>
          <a:xfrm flipH="1">
            <a:off x="1863360" y="1058760"/>
            <a:ext cx="2743920" cy="984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1" name=""/>
          <p:cNvCxnSpPr>
            <a:stCxn id="3036" idx="2"/>
            <a:endCxn id="3040" idx="0"/>
          </p:cNvCxnSpPr>
          <p:nvPr/>
        </p:nvCxnSpPr>
        <p:spPr>
          <a:xfrm>
            <a:off x="4606920" y="1058760"/>
            <a:ext cx="2597760" cy="984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2" name=""/>
          <p:cNvCxnSpPr>
            <a:stCxn id="3040" idx="2"/>
            <a:endCxn id="3044" idx="0"/>
          </p:cNvCxnSpPr>
          <p:nvPr/>
        </p:nvCxnSpPr>
        <p:spPr>
          <a:xfrm flipH="1">
            <a:off x="6286320" y="2811240"/>
            <a:ext cx="91800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3" name=""/>
          <p:cNvCxnSpPr>
            <a:stCxn id="3040" idx="2"/>
            <a:endCxn id="3045" idx="0"/>
          </p:cNvCxnSpPr>
          <p:nvPr/>
        </p:nvCxnSpPr>
        <p:spPr>
          <a:xfrm>
            <a:off x="7203960" y="2811240"/>
            <a:ext cx="91224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54" name=""/>
          <p:cNvSpPr/>
          <p:nvPr/>
        </p:nvSpPr>
        <p:spPr>
          <a:xfrm>
            <a:off x="1523880" y="4876920"/>
            <a:ext cx="1371600" cy="914400"/>
          </a:xfrm>
          <a:prstGeom prst="flowChartPreparation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248520" y="4952880"/>
            <a:ext cx="1371600" cy="914400"/>
          </a:xfrm>
          <a:prstGeom prst="flowChartPreparation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6" name=""/>
          <p:cNvCxnSpPr>
            <a:endCxn id="3054" idx="3"/>
          </p:cNvCxnSpPr>
          <p:nvPr/>
        </p:nvCxnSpPr>
        <p:spPr>
          <a:xfrm flipH="1">
            <a:off x="2909520" y="5203800"/>
            <a:ext cx="443520" cy="131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57" name=""/>
          <p:cNvCxnSpPr>
            <a:endCxn id="3055" idx="1"/>
          </p:cNvCxnSpPr>
          <p:nvPr/>
        </p:nvCxnSpPr>
        <p:spPr>
          <a:xfrm>
            <a:off x="5866920" y="5203440"/>
            <a:ext cx="367560" cy="20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58" name=""/>
          <p:cNvSpPr/>
          <p:nvPr/>
        </p:nvSpPr>
        <p:spPr>
          <a:xfrm>
            <a:off x="136440" y="6357960"/>
            <a:ext cx="21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Toronto District School Board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"/>
          <p:cNvSpPr/>
          <p:nvPr/>
        </p:nvSpPr>
        <p:spPr>
          <a:xfrm>
            <a:off x="1910880" y="5892840"/>
            <a:ext cx="57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Pro/Con or Agree/Disagree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0" name=""/>
          <p:cNvGraphicFramePr/>
          <p:nvPr/>
        </p:nvGraphicFramePr>
        <p:xfrm>
          <a:off x="511200" y="987480"/>
          <a:ext cx="860724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987480"/>
                    <a:ext cx="86072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2" name=""/>
          <p:cNvSpPr/>
          <p:nvPr/>
        </p:nvSpPr>
        <p:spPr>
          <a:xfrm>
            <a:off x="366480" y="3445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: Hockey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"/>
          <p:cNvSpPr/>
          <p:nvPr/>
        </p:nvSpPr>
        <p:spPr>
          <a:xfrm>
            <a:off x="2288520" y="6019920"/>
            <a:ext cx="49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/Con or Agree/Disagree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4" name=""/>
          <p:cNvGraphicFramePr/>
          <p:nvPr/>
        </p:nvGraphicFramePr>
        <p:xfrm>
          <a:off x="304920" y="1295280"/>
          <a:ext cx="86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6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6" name=""/>
          <p:cNvSpPr/>
          <p:nvPr/>
        </p:nvSpPr>
        <p:spPr>
          <a:xfrm>
            <a:off x="376920" y="34452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: 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7" name=""/>
          <p:cNvGrpSpPr/>
          <p:nvPr/>
        </p:nvGrpSpPr>
        <p:grpSpPr>
          <a:xfrm>
            <a:off x="152280" y="1600200"/>
            <a:ext cx="8763120" cy="1447920"/>
            <a:chOff x="152280" y="1600200"/>
            <a:chExt cx="8763120" cy="1447920"/>
          </a:xfrm>
        </p:grpSpPr>
        <p:sp>
          <p:nvSpPr>
            <p:cNvPr id="3068" name=""/>
            <p:cNvSpPr/>
            <p:nvPr/>
          </p:nvSpPr>
          <p:spPr>
            <a:xfrm>
              <a:off x="152280" y="1600200"/>
              <a:ext cx="278604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sitant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ke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019320" y="1600200"/>
              <a:ext cx="3048120" cy="1447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137280" y="1600200"/>
              <a:ext cx="277812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ger 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come 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52280" y="1600200"/>
              <a:ext cx="8763120" cy="304920"/>
            </a:xfrm>
            <a:prstGeom prst="rect">
              <a:avLst/>
            </a:pr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lem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2" name=""/>
          <p:cNvGrpSpPr/>
          <p:nvPr/>
        </p:nvGrpSpPr>
        <p:grpSpPr>
          <a:xfrm>
            <a:off x="152280" y="3200400"/>
            <a:ext cx="8763120" cy="1447920"/>
            <a:chOff x="152280" y="3200400"/>
            <a:chExt cx="8763120" cy="1447920"/>
          </a:xfrm>
        </p:grpSpPr>
        <p:sp>
          <p:nvSpPr>
            <p:cNvPr id="3073" name=""/>
            <p:cNvSpPr/>
            <p:nvPr/>
          </p:nvSpPr>
          <p:spPr>
            <a:xfrm>
              <a:off x="152280" y="3200400"/>
              <a:ext cx="278604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 of thou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019320" y="3200400"/>
              <a:ext cx="3048120" cy="1447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tle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sc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137280" y="3200400"/>
              <a:ext cx="277812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 of 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52280" y="3200400"/>
              <a:ext cx="8763120" cy="304920"/>
            </a:xfrm>
            <a:prstGeom prst="rect">
              <a:avLst/>
            </a:pr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gic Fla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7" name=""/>
          <p:cNvSpPr/>
          <p:nvPr/>
        </p:nvSpPr>
        <p:spPr>
          <a:xfrm>
            <a:off x="2120400" y="624852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Chart with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8" name=""/>
          <p:cNvGrpSpPr/>
          <p:nvPr/>
        </p:nvGrpSpPr>
        <p:grpSpPr>
          <a:xfrm>
            <a:off x="152280" y="4800600"/>
            <a:ext cx="8763120" cy="1447920"/>
            <a:chOff x="152280" y="4800600"/>
            <a:chExt cx="8763120" cy="1447920"/>
          </a:xfrm>
        </p:grpSpPr>
        <p:sp>
          <p:nvSpPr>
            <p:cNvPr id="3079" name=""/>
            <p:cNvSpPr/>
            <p:nvPr/>
          </p:nvSpPr>
          <p:spPr>
            <a:xfrm>
              <a:off x="152280" y="4800600"/>
              <a:ext cx="278604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trayed 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eacher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019320" y="4800600"/>
              <a:ext cx="3048120" cy="1447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eated in de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137280" y="4800600"/>
              <a:ext cx="277812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trayed b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t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52280" y="4800600"/>
              <a:ext cx="8763120" cy="304920"/>
            </a:xfrm>
            <a:prstGeom prst="rect">
              <a:avLst/>
            </a:prstGeom>
            <a:solidFill>
              <a:srgbClr val="a2ff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1371600" y="98280"/>
            <a:ext cx="6407280" cy="1045080"/>
            <a:chOff x="1371600" y="98280"/>
            <a:chExt cx="6407280" cy="1045080"/>
          </a:xfrm>
        </p:grpSpPr>
        <p:sp>
          <p:nvSpPr>
            <p:cNvPr id="3084" name=""/>
            <p:cNvSpPr/>
            <p:nvPr/>
          </p:nvSpPr>
          <p:spPr>
            <a:xfrm>
              <a:off x="1371600" y="98280"/>
              <a:ext cx="2063880" cy="7398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715000" y="98280"/>
              <a:ext cx="2063880" cy="7398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6" name=""/>
            <p:cNvCxnSpPr>
              <a:stCxn id="3084" idx="3"/>
              <a:endCxn id="3087" idx="0"/>
            </p:cNvCxnSpPr>
            <p:nvPr/>
          </p:nvCxnSpPr>
          <p:spPr>
            <a:xfrm>
              <a:off x="3449520" y="468360"/>
              <a:ext cx="1122840" cy="675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8" name=""/>
            <p:cNvCxnSpPr>
              <a:stCxn id="3085" idx="1"/>
              <a:endCxn id="3087" idx="0"/>
            </p:cNvCxnSpPr>
            <p:nvPr/>
          </p:nvCxnSpPr>
          <p:spPr>
            <a:xfrm flipH="1">
              <a:off x="4571280" y="468360"/>
              <a:ext cx="1129320" cy="675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9" name=""/>
            <p:cNvCxnSpPr>
              <a:stCxn id="3085" idx="2"/>
              <a:endCxn id="3090" idx="0"/>
            </p:cNvCxnSpPr>
            <p:nvPr/>
          </p:nvCxnSpPr>
          <p:spPr>
            <a:xfrm>
              <a:off x="6746760" y="852120"/>
              <a:ext cx="79776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1" name=""/>
            <p:cNvCxnSpPr>
              <a:stCxn id="3084" idx="2"/>
              <a:endCxn id="3092" idx="0"/>
            </p:cNvCxnSpPr>
            <p:nvPr/>
          </p:nvCxnSpPr>
          <p:spPr>
            <a:xfrm flipH="1">
              <a:off x="1523160" y="852120"/>
              <a:ext cx="88020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93" name=""/>
            <p:cNvSpPr/>
            <p:nvPr/>
          </p:nvSpPr>
          <p:spPr>
            <a:xfrm>
              <a:off x="1788120" y="2286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am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125040" y="22860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cbe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5" name=""/>
          <p:cNvGrpSpPr/>
          <p:nvPr/>
        </p:nvGrpSpPr>
        <p:grpSpPr>
          <a:xfrm>
            <a:off x="152280" y="1143000"/>
            <a:ext cx="8763120" cy="4038480"/>
            <a:chOff x="152280" y="1143000"/>
            <a:chExt cx="8763120" cy="4038480"/>
          </a:xfrm>
        </p:grpSpPr>
        <p:sp>
          <p:nvSpPr>
            <p:cNvPr id="3092" name=""/>
            <p:cNvSpPr/>
            <p:nvPr/>
          </p:nvSpPr>
          <p:spPr>
            <a:xfrm>
              <a:off x="152280" y="1143000"/>
              <a:ext cx="274320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’s Differen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200400" y="1143000"/>
              <a:ext cx="2743200" cy="304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’s the Sam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172200" y="1143000"/>
              <a:ext cx="274320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’s Differen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371600" y="1523880"/>
              <a:ext cx="2514600" cy="457200"/>
            </a:xfrm>
            <a:prstGeom prst="rightArrow">
              <a:avLst>
                <a:gd name="adj1" fmla="val 50000"/>
                <a:gd name="adj2" fmla="val 137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arison Criter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371600" y="3124080"/>
              <a:ext cx="2514600" cy="457200"/>
            </a:xfrm>
            <a:prstGeom prst="rightArrow">
              <a:avLst>
                <a:gd name="adj1" fmla="val 50000"/>
                <a:gd name="adj2" fmla="val 137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arison Criter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371600" y="4724280"/>
              <a:ext cx="2514600" cy="457200"/>
            </a:xfrm>
            <a:prstGeom prst="rightArrow">
              <a:avLst>
                <a:gd name="adj1" fmla="val 50000"/>
                <a:gd name="adj2" fmla="val 1375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arison Criter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"/>
          <p:cNvSpPr/>
          <p:nvPr/>
        </p:nvSpPr>
        <p:spPr>
          <a:xfrm>
            <a:off x="1371600" y="98280"/>
            <a:ext cx="2063880" cy="7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52280" y="1600200"/>
            <a:ext cx="27860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5715000" y="98280"/>
            <a:ext cx="2063880" cy="73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3019320" y="1600200"/>
            <a:ext cx="304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6137280" y="1600200"/>
            <a:ext cx="277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152280" y="1143000"/>
            <a:ext cx="2743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Differ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200400" y="1143000"/>
            <a:ext cx="2743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the Sa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6172200" y="1143000"/>
            <a:ext cx="2743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’s Differ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152280" y="1600200"/>
            <a:ext cx="8763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Criter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152280" y="3200400"/>
            <a:ext cx="27860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019320" y="3200400"/>
            <a:ext cx="304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137280" y="3200400"/>
            <a:ext cx="277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152280" y="3200400"/>
            <a:ext cx="8763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Criter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133360" y="624852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Chart with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3" name=""/>
          <p:cNvCxnSpPr>
            <a:stCxn id="3099" idx="3"/>
            <a:endCxn id="3105" idx="0"/>
          </p:cNvCxnSpPr>
          <p:nvPr/>
        </p:nvCxnSpPr>
        <p:spPr>
          <a:xfrm>
            <a:off x="3449520" y="468360"/>
            <a:ext cx="1122840" cy="675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4" name=""/>
          <p:cNvCxnSpPr>
            <a:stCxn id="3101" idx="1"/>
            <a:endCxn id="3105" idx="0"/>
          </p:cNvCxnSpPr>
          <p:nvPr/>
        </p:nvCxnSpPr>
        <p:spPr>
          <a:xfrm flipH="1">
            <a:off x="4571280" y="468360"/>
            <a:ext cx="1129320" cy="675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5" name=""/>
          <p:cNvCxnSpPr>
            <a:stCxn id="3101" idx="2"/>
            <a:endCxn id="3106" idx="0"/>
          </p:cNvCxnSpPr>
          <p:nvPr/>
        </p:nvCxnSpPr>
        <p:spPr>
          <a:xfrm>
            <a:off x="6746760" y="852120"/>
            <a:ext cx="797760" cy="291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6" name=""/>
          <p:cNvCxnSpPr>
            <a:stCxn id="3099" idx="2"/>
            <a:endCxn id="3104" idx="0"/>
          </p:cNvCxnSpPr>
          <p:nvPr/>
        </p:nvCxnSpPr>
        <p:spPr>
          <a:xfrm flipH="1">
            <a:off x="1523160" y="852120"/>
            <a:ext cx="880200" cy="291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7" name=""/>
          <p:cNvSpPr/>
          <p:nvPr/>
        </p:nvSpPr>
        <p:spPr>
          <a:xfrm>
            <a:off x="152280" y="4800600"/>
            <a:ext cx="27860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3019320" y="4800600"/>
            <a:ext cx="304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6137280" y="4800600"/>
            <a:ext cx="2778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152280" y="4800600"/>
            <a:ext cx="8763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Criter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1602000" y="152280"/>
            <a:ext cx="1678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/Pla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g/Idea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5939280" y="152280"/>
            <a:ext cx="1678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/Pla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g/Idea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-92160" y="613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36440" y="6357960"/>
            <a:ext cx="214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Toronto District School Board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"/>
          <p:cNvSpPr/>
          <p:nvPr/>
        </p:nvSpPr>
        <p:spPr>
          <a:xfrm>
            <a:off x="685800" y="838080"/>
            <a:ext cx="7924680" cy="560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3052800" y="1123920"/>
            <a:ext cx="2752560" cy="1287360"/>
            <a:chOff x="3052800" y="1123920"/>
            <a:chExt cx="2752560" cy="1287360"/>
          </a:xfrm>
        </p:grpSpPr>
        <p:grpSp>
          <p:nvGrpSpPr>
            <p:cNvPr id="3127" name=""/>
            <p:cNvGrpSpPr/>
            <p:nvPr/>
          </p:nvGrpSpPr>
          <p:grpSpPr>
            <a:xfrm>
              <a:off x="3052800" y="1681200"/>
              <a:ext cx="266760" cy="138240"/>
              <a:chOff x="3052800" y="1681200"/>
              <a:chExt cx="266760" cy="138240"/>
            </a:xfrm>
          </p:grpSpPr>
          <p:sp>
            <p:nvSpPr>
              <p:cNvPr id="3128" name=""/>
              <p:cNvSpPr/>
              <p:nvPr/>
            </p:nvSpPr>
            <p:spPr>
              <a:xfrm>
                <a:off x="3052800" y="1733400"/>
                <a:ext cx="127080" cy="30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171960" y="1681200"/>
                <a:ext cx="147600" cy="13824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0" y="87"/>
                    </a:moveTo>
                    <a:lnTo>
                      <a:pt x="93" y="45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0" name=""/>
            <p:cNvSpPr/>
            <p:nvPr/>
          </p:nvSpPr>
          <p:spPr>
            <a:xfrm>
              <a:off x="4249080" y="1239840"/>
              <a:ext cx="56772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2. FI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681000" y="1441440"/>
              <a:ext cx="168336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an issue or hypothes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598560" y="1639800"/>
              <a:ext cx="183852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from your research so f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914640" y="183348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007520" y="1833480"/>
              <a:ext cx="12276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tage 1 ques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909960" y="200988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006440" y="2009880"/>
              <a:ext cx="98064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tage 2 foc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902040" y="218124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997800" y="2181240"/>
              <a:ext cx="125208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tage 3 synthe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9" name=""/>
            <p:cNvGrpSpPr/>
            <p:nvPr/>
          </p:nvGrpSpPr>
          <p:grpSpPr>
            <a:xfrm>
              <a:off x="3319560" y="1123920"/>
              <a:ext cx="2485800" cy="1287360"/>
              <a:chOff x="3319560" y="1123920"/>
              <a:chExt cx="2485800" cy="1287360"/>
            </a:xfrm>
          </p:grpSpPr>
          <p:sp>
            <p:nvSpPr>
              <p:cNvPr id="3140" name=""/>
              <p:cNvSpPr/>
              <p:nvPr/>
            </p:nvSpPr>
            <p:spPr>
              <a:xfrm>
                <a:off x="3362400" y="1165320"/>
                <a:ext cx="2442960" cy="1245960"/>
              </a:xfrm>
              <a:custGeom>
                <a:avLst/>
                <a:gdLst/>
                <a:ahLst/>
                <a:rect l="l" t="t" r="r" b="b"/>
                <a:pathLst>
                  <a:path w="1539" h="785">
                    <a:moveTo>
                      <a:pt x="138" y="0"/>
                    </a:moveTo>
                    <a:lnTo>
                      <a:pt x="110" y="2"/>
                    </a:lnTo>
                    <a:lnTo>
                      <a:pt x="85" y="9"/>
                    </a:lnTo>
                    <a:lnTo>
                      <a:pt x="60" y="23"/>
                    </a:lnTo>
                    <a:lnTo>
                      <a:pt x="40" y="37"/>
                    </a:lnTo>
                    <a:lnTo>
                      <a:pt x="25" y="58"/>
                    </a:lnTo>
                    <a:lnTo>
                      <a:pt x="10" y="80"/>
                    </a:lnTo>
                    <a:lnTo>
                      <a:pt x="3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3" y="679"/>
                    </a:lnTo>
                    <a:lnTo>
                      <a:pt x="10" y="705"/>
                    </a:lnTo>
                    <a:lnTo>
                      <a:pt x="25" y="726"/>
                    </a:lnTo>
                    <a:lnTo>
                      <a:pt x="40" y="747"/>
                    </a:lnTo>
                    <a:lnTo>
                      <a:pt x="60" y="761"/>
                    </a:lnTo>
                    <a:lnTo>
                      <a:pt x="85" y="775"/>
                    </a:lnTo>
                    <a:lnTo>
                      <a:pt x="110" y="782"/>
                    </a:lnTo>
                    <a:lnTo>
                      <a:pt x="138" y="785"/>
                    </a:lnTo>
                    <a:lnTo>
                      <a:pt x="1399" y="785"/>
                    </a:lnTo>
                    <a:lnTo>
                      <a:pt x="1426" y="782"/>
                    </a:lnTo>
                    <a:lnTo>
                      <a:pt x="1454" y="775"/>
                    </a:lnTo>
                    <a:lnTo>
                      <a:pt x="1476" y="761"/>
                    </a:lnTo>
                    <a:lnTo>
                      <a:pt x="1499" y="747"/>
                    </a:lnTo>
                    <a:lnTo>
                      <a:pt x="1514" y="726"/>
                    </a:lnTo>
                    <a:lnTo>
                      <a:pt x="1529" y="705"/>
                    </a:lnTo>
                    <a:lnTo>
                      <a:pt x="1536" y="679"/>
                    </a:lnTo>
                    <a:lnTo>
                      <a:pt x="1539" y="653"/>
                    </a:lnTo>
                    <a:lnTo>
                      <a:pt x="1539" y="132"/>
                    </a:lnTo>
                    <a:lnTo>
                      <a:pt x="1536" y="106"/>
                    </a:lnTo>
                    <a:lnTo>
                      <a:pt x="1529" y="80"/>
                    </a:lnTo>
                    <a:lnTo>
                      <a:pt x="1514" y="58"/>
                    </a:lnTo>
                    <a:lnTo>
                      <a:pt x="1499" y="37"/>
                    </a:lnTo>
                    <a:lnTo>
                      <a:pt x="1476" y="23"/>
                    </a:lnTo>
                    <a:lnTo>
                      <a:pt x="1454" y="9"/>
                    </a:lnTo>
                    <a:lnTo>
                      <a:pt x="1426" y="2"/>
                    </a:lnTo>
                    <a:lnTo>
                      <a:pt x="1399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3319560" y="1123920"/>
                <a:ext cx="2441520" cy="1246320"/>
              </a:xfrm>
              <a:custGeom>
                <a:avLst/>
                <a:gdLst/>
                <a:ahLst/>
                <a:rect l="l" t="t" r="r" b="b"/>
                <a:pathLst>
                  <a:path w="1538" h="785">
                    <a:moveTo>
                      <a:pt x="137" y="0"/>
                    </a:moveTo>
                    <a:lnTo>
                      <a:pt x="110" y="2"/>
                    </a:lnTo>
                    <a:lnTo>
                      <a:pt x="82" y="9"/>
                    </a:lnTo>
                    <a:lnTo>
                      <a:pt x="60" y="23"/>
                    </a:lnTo>
                    <a:lnTo>
                      <a:pt x="40" y="37"/>
                    </a:lnTo>
                    <a:lnTo>
                      <a:pt x="22" y="59"/>
                    </a:lnTo>
                    <a:lnTo>
                      <a:pt x="10" y="80"/>
                    </a:lnTo>
                    <a:lnTo>
                      <a:pt x="2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2" y="679"/>
                    </a:lnTo>
                    <a:lnTo>
                      <a:pt x="10" y="705"/>
                    </a:lnTo>
                    <a:lnTo>
                      <a:pt x="22" y="726"/>
                    </a:lnTo>
                    <a:lnTo>
                      <a:pt x="40" y="747"/>
                    </a:lnTo>
                    <a:lnTo>
                      <a:pt x="60" y="761"/>
                    </a:lnTo>
                    <a:lnTo>
                      <a:pt x="82" y="775"/>
                    </a:lnTo>
                    <a:lnTo>
                      <a:pt x="110" y="783"/>
                    </a:lnTo>
                    <a:lnTo>
                      <a:pt x="137" y="785"/>
                    </a:lnTo>
                    <a:lnTo>
                      <a:pt x="1398" y="785"/>
                    </a:lnTo>
                    <a:lnTo>
                      <a:pt x="1426" y="783"/>
                    </a:lnTo>
                    <a:lnTo>
                      <a:pt x="1453" y="775"/>
                    </a:lnTo>
                    <a:lnTo>
                      <a:pt x="1476" y="761"/>
                    </a:lnTo>
                    <a:lnTo>
                      <a:pt x="1498" y="747"/>
                    </a:lnTo>
                    <a:lnTo>
                      <a:pt x="1513" y="726"/>
                    </a:lnTo>
                    <a:lnTo>
                      <a:pt x="1528" y="705"/>
                    </a:lnTo>
                    <a:lnTo>
                      <a:pt x="1536" y="679"/>
                    </a:lnTo>
                    <a:lnTo>
                      <a:pt x="1538" y="653"/>
                    </a:lnTo>
                    <a:lnTo>
                      <a:pt x="1538" y="132"/>
                    </a:lnTo>
                    <a:lnTo>
                      <a:pt x="1536" y="106"/>
                    </a:lnTo>
                    <a:lnTo>
                      <a:pt x="1528" y="80"/>
                    </a:lnTo>
                    <a:lnTo>
                      <a:pt x="1513" y="59"/>
                    </a:lnTo>
                    <a:lnTo>
                      <a:pt x="1498" y="37"/>
                    </a:lnTo>
                    <a:lnTo>
                      <a:pt x="1476" y="23"/>
                    </a:lnTo>
                    <a:lnTo>
                      <a:pt x="1453" y="9"/>
                    </a:lnTo>
                    <a:lnTo>
                      <a:pt x="1426" y="2"/>
                    </a:lnTo>
                    <a:lnTo>
                      <a:pt x="1398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2" name=""/>
            <p:cNvSpPr/>
            <p:nvPr/>
          </p:nvSpPr>
          <p:spPr>
            <a:xfrm>
              <a:off x="4206240" y="1198440"/>
              <a:ext cx="56772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. FI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636360" y="1400040"/>
              <a:ext cx="168336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 issue or hypothes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555720" y="1598760"/>
              <a:ext cx="1838520" cy="198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rom your research so fa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870360" y="179244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3964680" y="1792440"/>
              <a:ext cx="12276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ge 1 ques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3867120" y="196848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3961800" y="1968480"/>
              <a:ext cx="98064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ge 2 foc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3859200" y="2141640"/>
              <a:ext cx="5400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3953160" y="2141640"/>
              <a:ext cx="1252080" cy="182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ge 3 synthe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677880" y="2370240"/>
            <a:ext cx="6593040" cy="1909800"/>
            <a:chOff x="677880" y="2370240"/>
            <a:chExt cx="6593040" cy="1909800"/>
          </a:xfrm>
        </p:grpSpPr>
        <p:sp>
          <p:nvSpPr>
            <p:cNvPr id="3152" name=""/>
            <p:cNvSpPr/>
            <p:nvPr/>
          </p:nvSpPr>
          <p:spPr>
            <a:xfrm>
              <a:off x="1432800" y="3268800"/>
              <a:ext cx="94248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4. CHOOS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015920" y="3467160"/>
              <a:ext cx="172908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a position, perspective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968400" y="3670200"/>
              <a:ext cx="182052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or solution to investigat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566000" y="3868560"/>
              <a:ext cx="69552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or defe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20720" y="3032280"/>
              <a:ext cx="2443320" cy="1247760"/>
            </a:xfrm>
            <a:custGeom>
              <a:avLst/>
              <a:gdLst/>
              <a:ahLst/>
              <a:rect l="l" t="t" r="r" b="b"/>
              <a:pathLst>
                <a:path w="1539" h="786">
                  <a:moveTo>
                    <a:pt x="138" y="0"/>
                  </a:moveTo>
                  <a:lnTo>
                    <a:pt x="110" y="3"/>
                  </a:lnTo>
                  <a:lnTo>
                    <a:pt x="85" y="10"/>
                  </a:lnTo>
                  <a:lnTo>
                    <a:pt x="60" y="24"/>
                  </a:lnTo>
                  <a:lnTo>
                    <a:pt x="40" y="38"/>
                  </a:lnTo>
                  <a:lnTo>
                    <a:pt x="25" y="59"/>
                  </a:lnTo>
                  <a:lnTo>
                    <a:pt x="10" y="80"/>
                  </a:lnTo>
                  <a:lnTo>
                    <a:pt x="3" y="106"/>
                  </a:lnTo>
                  <a:lnTo>
                    <a:pt x="0" y="132"/>
                  </a:lnTo>
                  <a:lnTo>
                    <a:pt x="0" y="654"/>
                  </a:lnTo>
                  <a:lnTo>
                    <a:pt x="3" y="679"/>
                  </a:lnTo>
                  <a:lnTo>
                    <a:pt x="10" y="705"/>
                  </a:lnTo>
                  <a:lnTo>
                    <a:pt x="25" y="727"/>
                  </a:lnTo>
                  <a:lnTo>
                    <a:pt x="40" y="748"/>
                  </a:lnTo>
                  <a:lnTo>
                    <a:pt x="60" y="762"/>
                  </a:lnTo>
                  <a:lnTo>
                    <a:pt x="85" y="776"/>
                  </a:lnTo>
                  <a:lnTo>
                    <a:pt x="110" y="783"/>
                  </a:lnTo>
                  <a:lnTo>
                    <a:pt x="138" y="786"/>
                  </a:lnTo>
                  <a:lnTo>
                    <a:pt x="1399" y="786"/>
                  </a:lnTo>
                  <a:lnTo>
                    <a:pt x="1426" y="783"/>
                  </a:lnTo>
                  <a:lnTo>
                    <a:pt x="1454" y="776"/>
                  </a:lnTo>
                  <a:lnTo>
                    <a:pt x="1476" y="762"/>
                  </a:lnTo>
                  <a:lnTo>
                    <a:pt x="1499" y="748"/>
                  </a:lnTo>
                  <a:lnTo>
                    <a:pt x="1514" y="727"/>
                  </a:lnTo>
                  <a:lnTo>
                    <a:pt x="1529" y="705"/>
                  </a:lnTo>
                  <a:lnTo>
                    <a:pt x="1536" y="679"/>
                  </a:lnTo>
                  <a:lnTo>
                    <a:pt x="1539" y="654"/>
                  </a:lnTo>
                  <a:lnTo>
                    <a:pt x="1539" y="132"/>
                  </a:lnTo>
                  <a:lnTo>
                    <a:pt x="1536" y="106"/>
                  </a:lnTo>
                  <a:lnTo>
                    <a:pt x="1529" y="80"/>
                  </a:lnTo>
                  <a:lnTo>
                    <a:pt x="1514" y="59"/>
                  </a:lnTo>
                  <a:lnTo>
                    <a:pt x="1499" y="38"/>
                  </a:lnTo>
                  <a:lnTo>
                    <a:pt x="1476" y="24"/>
                  </a:lnTo>
                  <a:lnTo>
                    <a:pt x="1454" y="10"/>
                  </a:lnTo>
                  <a:lnTo>
                    <a:pt x="1426" y="3"/>
                  </a:lnTo>
                  <a:lnTo>
                    <a:pt x="1399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77880" y="2990880"/>
              <a:ext cx="2441520" cy="1243080"/>
            </a:xfrm>
            <a:custGeom>
              <a:avLst/>
              <a:gdLst/>
              <a:ahLst/>
              <a:rect l="l" t="t" r="r" b="b"/>
              <a:pathLst>
                <a:path w="1538" h="783">
                  <a:moveTo>
                    <a:pt x="137" y="0"/>
                  </a:moveTo>
                  <a:lnTo>
                    <a:pt x="110" y="3"/>
                  </a:lnTo>
                  <a:lnTo>
                    <a:pt x="82" y="10"/>
                  </a:lnTo>
                  <a:lnTo>
                    <a:pt x="60" y="24"/>
                  </a:lnTo>
                  <a:lnTo>
                    <a:pt x="40" y="38"/>
                  </a:lnTo>
                  <a:lnTo>
                    <a:pt x="22" y="57"/>
                  </a:lnTo>
                  <a:lnTo>
                    <a:pt x="10" y="81"/>
                  </a:lnTo>
                  <a:lnTo>
                    <a:pt x="2" y="104"/>
                  </a:lnTo>
                  <a:lnTo>
                    <a:pt x="0" y="130"/>
                  </a:lnTo>
                  <a:lnTo>
                    <a:pt x="0" y="654"/>
                  </a:lnTo>
                  <a:lnTo>
                    <a:pt x="2" y="680"/>
                  </a:lnTo>
                  <a:lnTo>
                    <a:pt x="10" y="705"/>
                  </a:lnTo>
                  <a:lnTo>
                    <a:pt x="22" y="727"/>
                  </a:lnTo>
                  <a:lnTo>
                    <a:pt x="40" y="746"/>
                  </a:lnTo>
                  <a:lnTo>
                    <a:pt x="60" y="762"/>
                  </a:lnTo>
                  <a:lnTo>
                    <a:pt x="82" y="774"/>
                  </a:lnTo>
                  <a:lnTo>
                    <a:pt x="110" y="781"/>
                  </a:lnTo>
                  <a:lnTo>
                    <a:pt x="137" y="783"/>
                  </a:lnTo>
                  <a:lnTo>
                    <a:pt x="1398" y="783"/>
                  </a:lnTo>
                  <a:lnTo>
                    <a:pt x="1426" y="781"/>
                  </a:lnTo>
                  <a:lnTo>
                    <a:pt x="1453" y="774"/>
                  </a:lnTo>
                  <a:lnTo>
                    <a:pt x="1476" y="762"/>
                  </a:lnTo>
                  <a:lnTo>
                    <a:pt x="1498" y="746"/>
                  </a:lnTo>
                  <a:lnTo>
                    <a:pt x="1513" y="727"/>
                  </a:lnTo>
                  <a:lnTo>
                    <a:pt x="1528" y="705"/>
                  </a:lnTo>
                  <a:lnTo>
                    <a:pt x="1536" y="680"/>
                  </a:lnTo>
                  <a:lnTo>
                    <a:pt x="1538" y="654"/>
                  </a:lnTo>
                  <a:lnTo>
                    <a:pt x="1538" y="130"/>
                  </a:lnTo>
                  <a:lnTo>
                    <a:pt x="1536" y="104"/>
                  </a:lnTo>
                  <a:lnTo>
                    <a:pt x="1528" y="81"/>
                  </a:lnTo>
                  <a:lnTo>
                    <a:pt x="1513" y="57"/>
                  </a:lnTo>
                  <a:lnTo>
                    <a:pt x="1498" y="38"/>
                  </a:lnTo>
                  <a:lnTo>
                    <a:pt x="1476" y="24"/>
                  </a:lnTo>
                  <a:lnTo>
                    <a:pt x="1453" y="10"/>
                  </a:lnTo>
                  <a:lnTo>
                    <a:pt x="1426" y="3"/>
                  </a:lnTo>
                  <a:lnTo>
                    <a:pt x="139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388520" y="3227400"/>
              <a:ext cx="94248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. CHOOS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971280" y="3425760"/>
              <a:ext cx="172908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 position, perspective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924120" y="3629160"/>
              <a:ext cx="182052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 solution to investigat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521360" y="3827520"/>
              <a:ext cx="69552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r defe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2" name=""/>
            <p:cNvGrpSpPr/>
            <p:nvPr/>
          </p:nvGrpSpPr>
          <p:grpSpPr>
            <a:xfrm>
              <a:off x="1805040" y="2370240"/>
              <a:ext cx="5465880" cy="625320"/>
              <a:chOff x="1805040" y="2370240"/>
              <a:chExt cx="5465880" cy="625320"/>
            </a:xfrm>
          </p:grpSpPr>
          <p:sp>
            <p:nvSpPr>
              <p:cNvPr id="3163" name=""/>
              <p:cNvSpPr/>
              <p:nvPr/>
            </p:nvSpPr>
            <p:spPr>
              <a:xfrm>
                <a:off x="1873080" y="2370240"/>
                <a:ext cx="5397840" cy="452160"/>
              </a:xfrm>
              <a:custGeom>
                <a:avLst/>
                <a:gdLst/>
                <a:ahLst/>
                <a:rect l="l" t="t" r="r" b="b"/>
                <a:pathLst>
                  <a:path w="3400" h="285">
                    <a:moveTo>
                      <a:pt x="3400" y="0"/>
                    </a:moveTo>
                    <a:lnTo>
                      <a:pt x="3370" y="0"/>
                    </a:lnTo>
                    <a:lnTo>
                      <a:pt x="3370" y="196"/>
                    </a:lnTo>
                    <a:lnTo>
                      <a:pt x="3385" y="196"/>
                    </a:lnTo>
                    <a:lnTo>
                      <a:pt x="3385" y="181"/>
                    </a:lnTo>
                    <a:lnTo>
                      <a:pt x="15" y="181"/>
                    </a:lnTo>
                    <a:lnTo>
                      <a:pt x="0" y="181"/>
                    </a:lnTo>
                    <a:lnTo>
                      <a:pt x="0" y="196"/>
                    </a:lnTo>
                    <a:lnTo>
                      <a:pt x="0" y="285"/>
                    </a:lnTo>
                    <a:lnTo>
                      <a:pt x="30" y="285"/>
                    </a:lnTo>
                    <a:lnTo>
                      <a:pt x="30" y="196"/>
                    </a:lnTo>
                    <a:lnTo>
                      <a:pt x="15" y="196"/>
                    </a:lnTo>
                    <a:lnTo>
                      <a:pt x="15" y="210"/>
                    </a:lnTo>
                    <a:lnTo>
                      <a:pt x="3385" y="210"/>
                    </a:lnTo>
                    <a:lnTo>
                      <a:pt x="3400" y="210"/>
                    </a:lnTo>
                    <a:lnTo>
                      <a:pt x="3400" y="196"/>
                    </a:lnTo>
                    <a:lnTo>
                      <a:pt x="340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1805040" y="2816280"/>
                <a:ext cx="187200" cy="179280"/>
              </a:xfrm>
              <a:custGeom>
                <a:avLst/>
                <a:gdLst/>
                <a:ahLst/>
                <a:rect l="l" t="t" r="r" b="b"/>
                <a:pathLst>
                  <a:path w="118" h="113">
                    <a:moveTo>
                      <a:pt x="0" y="0"/>
                    </a:moveTo>
                    <a:lnTo>
                      <a:pt x="58" y="113"/>
                    </a:lnTo>
                    <a:lnTo>
                      <a:pt x="1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5" name=""/>
          <p:cNvGrpSpPr/>
          <p:nvPr/>
        </p:nvGrpSpPr>
        <p:grpSpPr>
          <a:xfrm>
            <a:off x="3319560" y="4233960"/>
            <a:ext cx="3951360" cy="1849320"/>
            <a:chOff x="3319560" y="4233960"/>
            <a:chExt cx="3951360" cy="1849320"/>
          </a:xfrm>
        </p:grpSpPr>
        <p:sp>
          <p:nvSpPr>
            <p:cNvPr id="3166" name=""/>
            <p:cNvSpPr/>
            <p:nvPr/>
          </p:nvSpPr>
          <p:spPr>
            <a:xfrm>
              <a:off x="3998880" y="5013360"/>
              <a:ext cx="1089000" cy="1983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7. CONTINU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590280" y="5211720"/>
              <a:ext cx="1856880" cy="1983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your inquiry and 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029120" y="540540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125240" y="5405400"/>
              <a:ext cx="100368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more ev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021200" y="558180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118760" y="5581800"/>
              <a:ext cx="7992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more detai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029120" y="575316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25240" y="5753160"/>
              <a:ext cx="96228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deeper the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4" name=""/>
            <p:cNvGrpSpPr/>
            <p:nvPr/>
          </p:nvGrpSpPr>
          <p:grpSpPr>
            <a:xfrm>
              <a:off x="3319560" y="4795920"/>
              <a:ext cx="2485800" cy="1287360"/>
              <a:chOff x="3319560" y="4795920"/>
              <a:chExt cx="2485800" cy="1287360"/>
            </a:xfrm>
          </p:grpSpPr>
          <p:sp>
            <p:nvSpPr>
              <p:cNvPr id="3175" name=""/>
              <p:cNvSpPr/>
              <p:nvPr/>
            </p:nvSpPr>
            <p:spPr>
              <a:xfrm>
                <a:off x="3362400" y="4836960"/>
                <a:ext cx="2442960" cy="1246320"/>
              </a:xfrm>
              <a:custGeom>
                <a:avLst/>
                <a:gdLst/>
                <a:ahLst/>
                <a:rect l="l" t="t" r="r" b="b"/>
                <a:pathLst>
                  <a:path w="1539" h="785">
                    <a:moveTo>
                      <a:pt x="138" y="0"/>
                    </a:moveTo>
                    <a:lnTo>
                      <a:pt x="110" y="2"/>
                    </a:lnTo>
                    <a:lnTo>
                      <a:pt x="85" y="9"/>
                    </a:lnTo>
                    <a:lnTo>
                      <a:pt x="60" y="24"/>
                    </a:lnTo>
                    <a:lnTo>
                      <a:pt x="40" y="38"/>
                    </a:lnTo>
                    <a:lnTo>
                      <a:pt x="25" y="59"/>
                    </a:lnTo>
                    <a:lnTo>
                      <a:pt x="10" y="80"/>
                    </a:lnTo>
                    <a:lnTo>
                      <a:pt x="3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3" y="679"/>
                    </a:lnTo>
                    <a:lnTo>
                      <a:pt x="10" y="705"/>
                    </a:lnTo>
                    <a:lnTo>
                      <a:pt x="25" y="726"/>
                    </a:lnTo>
                    <a:lnTo>
                      <a:pt x="40" y="748"/>
                    </a:lnTo>
                    <a:lnTo>
                      <a:pt x="60" y="762"/>
                    </a:lnTo>
                    <a:lnTo>
                      <a:pt x="85" y="776"/>
                    </a:lnTo>
                    <a:lnTo>
                      <a:pt x="110" y="783"/>
                    </a:lnTo>
                    <a:lnTo>
                      <a:pt x="138" y="785"/>
                    </a:lnTo>
                    <a:lnTo>
                      <a:pt x="1399" y="785"/>
                    </a:lnTo>
                    <a:lnTo>
                      <a:pt x="1426" y="783"/>
                    </a:lnTo>
                    <a:lnTo>
                      <a:pt x="1454" y="776"/>
                    </a:lnTo>
                    <a:lnTo>
                      <a:pt x="1476" y="762"/>
                    </a:lnTo>
                    <a:lnTo>
                      <a:pt x="1499" y="748"/>
                    </a:lnTo>
                    <a:lnTo>
                      <a:pt x="1514" y="726"/>
                    </a:lnTo>
                    <a:lnTo>
                      <a:pt x="1529" y="705"/>
                    </a:lnTo>
                    <a:lnTo>
                      <a:pt x="1536" y="679"/>
                    </a:lnTo>
                    <a:lnTo>
                      <a:pt x="1539" y="653"/>
                    </a:lnTo>
                    <a:lnTo>
                      <a:pt x="1539" y="132"/>
                    </a:lnTo>
                    <a:lnTo>
                      <a:pt x="1536" y="106"/>
                    </a:lnTo>
                    <a:lnTo>
                      <a:pt x="1529" y="80"/>
                    </a:lnTo>
                    <a:lnTo>
                      <a:pt x="1514" y="59"/>
                    </a:lnTo>
                    <a:lnTo>
                      <a:pt x="1499" y="38"/>
                    </a:lnTo>
                    <a:lnTo>
                      <a:pt x="1476" y="24"/>
                    </a:lnTo>
                    <a:lnTo>
                      <a:pt x="1454" y="9"/>
                    </a:lnTo>
                    <a:lnTo>
                      <a:pt x="1426" y="2"/>
                    </a:lnTo>
                    <a:lnTo>
                      <a:pt x="1399" y="0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3319560" y="4795920"/>
                <a:ext cx="2441520" cy="1245960"/>
              </a:xfrm>
              <a:custGeom>
                <a:avLst/>
                <a:gdLst/>
                <a:ahLst/>
                <a:rect l="l" t="t" r="r" b="b"/>
                <a:pathLst>
                  <a:path w="1538" h="785">
                    <a:moveTo>
                      <a:pt x="137" y="0"/>
                    </a:moveTo>
                    <a:lnTo>
                      <a:pt x="110" y="2"/>
                    </a:lnTo>
                    <a:lnTo>
                      <a:pt x="82" y="9"/>
                    </a:lnTo>
                    <a:lnTo>
                      <a:pt x="60" y="24"/>
                    </a:lnTo>
                    <a:lnTo>
                      <a:pt x="40" y="38"/>
                    </a:lnTo>
                    <a:lnTo>
                      <a:pt x="22" y="57"/>
                    </a:lnTo>
                    <a:lnTo>
                      <a:pt x="10" y="80"/>
                    </a:lnTo>
                    <a:lnTo>
                      <a:pt x="2" y="104"/>
                    </a:lnTo>
                    <a:lnTo>
                      <a:pt x="0" y="130"/>
                    </a:lnTo>
                    <a:lnTo>
                      <a:pt x="0" y="653"/>
                    </a:lnTo>
                    <a:lnTo>
                      <a:pt x="2" y="679"/>
                    </a:lnTo>
                    <a:lnTo>
                      <a:pt x="10" y="705"/>
                    </a:lnTo>
                    <a:lnTo>
                      <a:pt x="22" y="726"/>
                    </a:lnTo>
                    <a:lnTo>
                      <a:pt x="40" y="748"/>
                    </a:lnTo>
                    <a:lnTo>
                      <a:pt x="60" y="762"/>
                    </a:lnTo>
                    <a:lnTo>
                      <a:pt x="82" y="776"/>
                    </a:lnTo>
                    <a:lnTo>
                      <a:pt x="110" y="783"/>
                    </a:lnTo>
                    <a:lnTo>
                      <a:pt x="137" y="785"/>
                    </a:lnTo>
                    <a:lnTo>
                      <a:pt x="1398" y="785"/>
                    </a:lnTo>
                    <a:lnTo>
                      <a:pt x="1426" y="783"/>
                    </a:lnTo>
                    <a:lnTo>
                      <a:pt x="1453" y="776"/>
                    </a:lnTo>
                    <a:lnTo>
                      <a:pt x="1476" y="762"/>
                    </a:lnTo>
                    <a:lnTo>
                      <a:pt x="1498" y="748"/>
                    </a:lnTo>
                    <a:lnTo>
                      <a:pt x="1513" y="726"/>
                    </a:lnTo>
                    <a:lnTo>
                      <a:pt x="1528" y="705"/>
                    </a:lnTo>
                    <a:lnTo>
                      <a:pt x="1536" y="679"/>
                    </a:lnTo>
                    <a:lnTo>
                      <a:pt x="1538" y="653"/>
                    </a:lnTo>
                    <a:lnTo>
                      <a:pt x="1538" y="130"/>
                    </a:lnTo>
                    <a:lnTo>
                      <a:pt x="1536" y="104"/>
                    </a:lnTo>
                    <a:lnTo>
                      <a:pt x="1528" y="80"/>
                    </a:lnTo>
                    <a:lnTo>
                      <a:pt x="1513" y="57"/>
                    </a:lnTo>
                    <a:lnTo>
                      <a:pt x="1498" y="38"/>
                    </a:lnTo>
                    <a:lnTo>
                      <a:pt x="1476" y="24"/>
                    </a:lnTo>
                    <a:lnTo>
                      <a:pt x="1453" y="9"/>
                    </a:lnTo>
                    <a:lnTo>
                      <a:pt x="1426" y="2"/>
                    </a:lnTo>
                    <a:lnTo>
                      <a:pt x="1398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ff99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7" name=""/>
            <p:cNvSpPr/>
            <p:nvPr/>
          </p:nvSpPr>
          <p:spPr>
            <a:xfrm>
              <a:off x="3956040" y="4971960"/>
              <a:ext cx="1089000" cy="1983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7. CONTINU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547440" y="5170320"/>
              <a:ext cx="1856880" cy="1983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your inquiry and 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986280" y="536400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080600" y="5364000"/>
              <a:ext cx="100368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re evid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78360" y="554040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074120" y="5540400"/>
              <a:ext cx="7992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re detai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86280" y="5711760"/>
              <a:ext cx="5400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080600" y="5711760"/>
              <a:ext cx="962280" cy="1828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eper thesi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5" name=""/>
            <p:cNvGrpSpPr/>
            <p:nvPr/>
          </p:nvGrpSpPr>
          <p:grpSpPr>
            <a:xfrm>
              <a:off x="4446720" y="4233960"/>
              <a:ext cx="2824200" cy="565200"/>
              <a:chOff x="4446720" y="4233960"/>
              <a:chExt cx="2824200" cy="565200"/>
            </a:xfrm>
          </p:grpSpPr>
          <p:sp>
            <p:nvSpPr>
              <p:cNvPr id="3186" name=""/>
              <p:cNvSpPr/>
              <p:nvPr/>
            </p:nvSpPr>
            <p:spPr>
              <a:xfrm>
                <a:off x="4514760" y="4233960"/>
                <a:ext cx="2756160" cy="393480"/>
              </a:xfrm>
              <a:custGeom>
                <a:avLst/>
                <a:gdLst/>
                <a:ahLst/>
                <a:rect l="l" t="t" r="r" b="b"/>
                <a:pathLst>
                  <a:path w="1736" h="248">
                    <a:moveTo>
                      <a:pt x="1736" y="0"/>
                    </a:moveTo>
                    <a:lnTo>
                      <a:pt x="1706" y="0"/>
                    </a:lnTo>
                    <a:lnTo>
                      <a:pt x="1706" y="177"/>
                    </a:lnTo>
                    <a:lnTo>
                      <a:pt x="1721" y="177"/>
                    </a:lnTo>
                    <a:lnTo>
                      <a:pt x="1721" y="163"/>
                    </a:lnTo>
                    <a:lnTo>
                      <a:pt x="15" y="163"/>
                    </a:lnTo>
                    <a:lnTo>
                      <a:pt x="0" y="163"/>
                    </a:lnTo>
                    <a:lnTo>
                      <a:pt x="0" y="177"/>
                    </a:lnTo>
                    <a:lnTo>
                      <a:pt x="0" y="248"/>
                    </a:lnTo>
                    <a:lnTo>
                      <a:pt x="30" y="248"/>
                    </a:lnTo>
                    <a:lnTo>
                      <a:pt x="30" y="177"/>
                    </a:lnTo>
                    <a:lnTo>
                      <a:pt x="15" y="177"/>
                    </a:lnTo>
                    <a:lnTo>
                      <a:pt x="15" y="191"/>
                    </a:lnTo>
                    <a:lnTo>
                      <a:pt x="1721" y="191"/>
                    </a:lnTo>
                    <a:lnTo>
                      <a:pt x="1736" y="191"/>
                    </a:lnTo>
                    <a:lnTo>
                      <a:pt x="1736" y="177"/>
                    </a:lnTo>
                    <a:lnTo>
                      <a:pt x="1736" y="0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446720" y="4619520"/>
                <a:ext cx="187200" cy="179640"/>
              </a:xfrm>
              <a:custGeom>
                <a:avLst/>
                <a:gdLst/>
                <a:ahLst/>
                <a:rect l="l" t="t" r="r" b="b"/>
                <a:pathLst>
                  <a:path w="118" h="113">
                    <a:moveTo>
                      <a:pt x="0" y="0"/>
                    </a:moveTo>
                    <a:lnTo>
                      <a:pt x="60" y="113"/>
                    </a:lnTo>
                    <a:lnTo>
                      <a:pt x="11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8" name=""/>
          <p:cNvGrpSpPr/>
          <p:nvPr/>
        </p:nvGrpSpPr>
        <p:grpSpPr>
          <a:xfrm>
            <a:off x="5761080" y="1123920"/>
            <a:ext cx="2749680" cy="1287360"/>
            <a:chOff x="5761080" y="1123920"/>
            <a:chExt cx="2749680" cy="1287360"/>
          </a:xfrm>
        </p:grpSpPr>
        <p:sp>
          <p:nvSpPr>
            <p:cNvPr id="3189" name=""/>
            <p:cNvSpPr/>
            <p:nvPr/>
          </p:nvSpPr>
          <p:spPr>
            <a:xfrm>
              <a:off x="6767280" y="1400040"/>
              <a:ext cx="9334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3. IDENTIF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546600" y="1603440"/>
              <a:ext cx="13906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possible positions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665760" y="1801800"/>
              <a:ext cx="11620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perspectives, 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946560" y="2000160"/>
              <a:ext cx="64980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solu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3" name=""/>
            <p:cNvGrpSpPr/>
            <p:nvPr/>
          </p:nvGrpSpPr>
          <p:grpSpPr>
            <a:xfrm>
              <a:off x="6024600" y="1123920"/>
              <a:ext cx="2486160" cy="1287360"/>
              <a:chOff x="6024600" y="1123920"/>
              <a:chExt cx="2486160" cy="1287360"/>
            </a:xfrm>
          </p:grpSpPr>
          <p:sp>
            <p:nvSpPr>
              <p:cNvPr id="3194" name=""/>
              <p:cNvSpPr/>
              <p:nvPr/>
            </p:nvSpPr>
            <p:spPr>
              <a:xfrm>
                <a:off x="6067440" y="1165320"/>
                <a:ext cx="2443320" cy="1245960"/>
              </a:xfrm>
              <a:custGeom>
                <a:avLst/>
                <a:gdLst/>
                <a:ahLst/>
                <a:rect l="l" t="t" r="r" b="b"/>
                <a:pathLst>
                  <a:path w="1539" h="785">
                    <a:moveTo>
                      <a:pt x="140" y="0"/>
                    </a:moveTo>
                    <a:lnTo>
                      <a:pt x="113" y="2"/>
                    </a:lnTo>
                    <a:lnTo>
                      <a:pt x="85" y="9"/>
                    </a:lnTo>
                    <a:lnTo>
                      <a:pt x="63" y="23"/>
                    </a:lnTo>
                    <a:lnTo>
                      <a:pt x="40" y="37"/>
                    </a:lnTo>
                    <a:lnTo>
                      <a:pt x="25" y="58"/>
                    </a:lnTo>
                    <a:lnTo>
                      <a:pt x="10" y="80"/>
                    </a:lnTo>
                    <a:lnTo>
                      <a:pt x="3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3" y="679"/>
                    </a:lnTo>
                    <a:lnTo>
                      <a:pt x="10" y="705"/>
                    </a:lnTo>
                    <a:lnTo>
                      <a:pt x="25" y="726"/>
                    </a:lnTo>
                    <a:lnTo>
                      <a:pt x="40" y="747"/>
                    </a:lnTo>
                    <a:lnTo>
                      <a:pt x="63" y="761"/>
                    </a:lnTo>
                    <a:lnTo>
                      <a:pt x="85" y="775"/>
                    </a:lnTo>
                    <a:lnTo>
                      <a:pt x="113" y="782"/>
                    </a:lnTo>
                    <a:lnTo>
                      <a:pt x="140" y="785"/>
                    </a:lnTo>
                    <a:lnTo>
                      <a:pt x="1401" y="785"/>
                    </a:lnTo>
                    <a:lnTo>
                      <a:pt x="1429" y="782"/>
                    </a:lnTo>
                    <a:lnTo>
                      <a:pt x="1456" y="775"/>
                    </a:lnTo>
                    <a:lnTo>
                      <a:pt x="1479" y="761"/>
                    </a:lnTo>
                    <a:lnTo>
                      <a:pt x="1499" y="747"/>
                    </a:lnTo>
                    <a:lnTo>
                      <a:pt x="1516" y="726"/>
                    </a:lnTo>
                    <a:lnTo>
                      <a:pt x="1529" y="705"/>
                    </a:lnTo>
                    <a:lnTo>
                      <a:pt x="1536" y="679"/>
                    </a:lnTo>
                    <a:lnTo>
                      <a:pt x="1539" y="653"/>
                    </a:lnTo>
                    <a:lnTo>
                      <a:pt x="1539" y="132"/>
                    </a:lnTo>
                    <a:lnTo>
                      <a:pt x="1536" y="106"/>
                    </a:lnTo>
                    <a:lnTo>
                      <a:pt x="1529" y="80"/>
                    </a:lnTo>
                    <a:lnTo>
                      <a:pt x="1516" y="58"/>
                    </a:lnTo>
                    <a:lnTo>
                      <a:pt x="1499" y="37"/>
                    </a:lnTo>
                    <a:lnTo>
                      <a:pt x="1479" y="23"/>
                    </a:lnTo>
                    <a:lnTo>
                      <a:pt x="1456" y="9"/>
                    </a:lnTo>
                    <a:lnTo>
                      <a:pt x="1429" y="2"/>
                    </a:lnTo>
                    <a:lnTo>
                      <a:pt x="1401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024600" y="1123920"/>
                <a:ext cx="2441520" cy="1246320"/>
              </a:xfrm>
              <a:custGeom>
                <a:avLst/>
                <a:gdLst/>
                <a:ahLst/>
                <a:rect l="l" t="t" r="r" b="b"/>
                <a:pathLst>
                  <a:path w="1538" h="785">
                    <a:moveTo>
                      <a:pt x="140" y="0"/>
                    </a:moveTo>
                    <a:lnTo>
                      <a:pt x="112" y="2"/>
                    </a:lnTo>
                    <a:lnTo>
                      <a:pt x="85" y="9"/>
                    </a:lnTo>
                    <a:lnTo>
                      <a:pt x="62" y="23"/>
                    </a:lnTo>
                    <a:lnTo>
                      <a:pt x="40" y="37"/>
                    </a:lnTo>
                    <a:lnTo>
                      <a:pt x="25" y="59"/>
                    </a:lnTo>
                    <a:lnTo>
                      <a:pt x="10" y="80"/>
                    </a:lnTo>
                    <a:lnTo>
                      <a:pt x="2" y="106"/>
                    </a:lnTo>
                    <a:lnTo>
                      <a:pt x="0" y="132"/>
                    </a:lnTo>
                    <a:lnTo>
                      <a:pt x="0" y="653"/>
                    </a:lnTo>
                    <a:lnTo>
                      <a:pt x="2" y="679"/>
                    </a:lnTo>
                    <a:lnTo>
                      <a:pt x="10" y="705"/>
                    </a:lnTo>
                    <a:lnTo>
                      <a:pt x="25" y="726"/>
                    </a:lnTo>
                    <a:lnTo>
                      <a:pt x="40" y="747"/>
                    </a:lnTo>
                    <a:lnTo>
                      <a:pt x="62" y="761"/>
                    </a:lnTo>
                    <a:lnTo>
                      <a:pt x="85" y="775"/>
                    </a:lnTo>
                    <a:lnTo>
                      <a:pt x="112" y="783"/>
                    </a:lnTo>
                    <a:lnTo>
                      <a:pt x="140" y="785"/>
                    </a:lnTo>
                    <a:lnTo>
                      <a:pt x="1401" y="785"/>
                    </a:lnTo>
                    <a:lnTo>
                      <a:pt x="1428" y="783"/>
                    </a:lnTo>
                    <a:lnTo>
                      <a:pt x="1456" y="775"/>
                    </a:lnTo>
                    <a:lnTo>
                      <a:pt x="1478" y="761"/>
                    </a:lnTo>
                    <a:lnTo>
                      <a:pt x="1498" y="747"/>
                    </a:lnTo>
                    <a:lnTo>
                      <a:pt x="1516" y="726"/>
                    </a:lnTo>
                    <a:lnTo>
                      <a:pt x="1528" y="705"/>
                    </a:lnTo>
                    <a:lnTo>
                      <a:pt x="1536" y="679"/>
                    </a:lnTo>
                    <a:lnTo>
                      <a:pt x="1538" y="653"/>
                    </a:lnTo>
                    <a:lnTo>
                      <a:pt x="1538" y="132"/>
                    </a:lnTo>
                    <a:lnTo>
                      <a:pt x="1536" y="106"/>
                    </a:lnTo>
                    <a:lnTo>
                      <a:pt x="1528" y="80"/>
                    </a:lnTo>
                    <a:lnTo>
                      <a:pt x="1516" y="59"/>
                    </a:lnTo>
                    <a:lnTo>
                      <a:pt x="1498" y="37"/>
                    </a:lnTo>
                    <a:lnTo>
                      <a:pt x="1478" y="23"/>
                    </a:lnTo>
                    <a:lnTo>
                      <a:pt x="1456" y="9"/>
                    </a:lnTo>
                    <a:lnTo>
                      <a:pt x="1428" y="2"/>
                    </a:lnTo>
                    <a:lnTo>
                      <a:pt x="1401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ff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6" name=""/>
            <p:cNvSpPr/>
            <p:nvPr/>
          </p:nvSpPr>
          <p:spPr>
            <a:xfrm>
              <a:off x="6724440" y="1359000"/>
              <a:ext cx="9334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. IDENTIF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503760" y="1562040"/>
              <a:ext cx="13906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ssible positions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622920" y="1760400"/>
              <a:ext cx="116208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pectives, 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6903720" y="1959120"/>
              <a:ext cx="649800" cy="198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olu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0" name=""/>
            <p:cNvGrpSpPr/>
            <p:nvPr/>
          </p:nvGrpSpPr>
          <p:grpSpPr>
            <a:xfrm>
              <a:off x="5761080" y="1681200"/>
              <a:ext cx="266760" cy="138240"/>
              <a:chOff x="5761080" y="1681200"/>
              <a:chExt cx="266760" cy="138240"/>
            </a:xfrm>
          </p:grpSpPr>
          <p:sp>
            <p:nvSpPr>
              <p:cNvPr id="3201" name=""/>
              <p:cNvSpPr/>
              <p:nvPr/>
            </p:nvSpPr>
            <p:spPr>
              <a:xfrm>
                <a:off x="5761080" y="1733400"/>
                <a:ext cx="123840" cy="3024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877000" y="1681200"/>
                <a:ext cx="150840" cy="13824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0" y="87"/>
                    </a:moveTo>
                    <a:lnTo>
                      <a:pt x="95" y="45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3" name=""/>
          <p:cNvGrpSpPr/>
          <p:nvPr/>
        </p:nvGrpSpPr>
        <p:grpSpPr>
          <a:xfrm>
            <a:off x="5784840" y="2990880"/>
            <a:ext cx="2725920" cy="1547640"/>
            <a:chOff x="5784840" y="2990880"/>
            <a:chExt cx="2725920" cy="1547640"/>
          </a:xfrm>
        </p:grpSpPr>
        <p:sp>
          <p:nvSpPr>
            <p:cNvPr id="3204" name=""/>
            <p:cNvSpPr/>
            <p:nvPr/>
          </p:nvSpPr>
          <p:spPr>
            <a:xfrm>
              <a:off x="6253560" y="43401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6209280" y="429912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6911280" y="3193920"/>
              <a:ext cx="713880" cy="198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6. WR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516360" y="3395520"/>
              <a:ext cx="1564200" cy="198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your thesis stat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611760" y="358920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708960" y="3589200"/>
              <a:ext cx="32364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top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611760" y="376236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707520" y="3762360"/>
              <a:ext cx="52812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611760" y="396072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705000" y="3960720"/>
              <a:ext cx="162684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area of investigation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4" name=""/>
            <p:cNvGrpSpPr/>
            <p:nvPr/>
          </p:nvGrpSpPr>
          <p:grpSpPr>
            <a:xfrm>
              <a:off x="6024600" y="2990880"/>
              <a:ext cx="2486160" cy="1289160"/>
              <a:chOff x="6024600" y="2990880"/>
              <a:chExt cx="2486160" cy="1289160"/>
            </a:xfrm>
          </p:grpSpPr>
          <p:sp>
            <p:nvSpPr>
              <p:cNvPr id="3215" name=""/>
              <p:cNvSpPr/>
              <p:nvPr/>
            </p:nvSpPr>
            <p:spPr>
              <a:xfrm>
                <a:off x="6067440" y="3032280"/>
                <a:ext cx="2443320" cy="1247760"/>
              </a:xfrm>
              <a:custGeom>
                <a:avLst/>
                <a:gdLst/>
                <a:ahLst/>
                <a:rect l="l" t="t" r="r" b="b"/>
                <a:pathLst>
                  <a:path w="1539" h="786">
                    <a:moveTo>
                      <a:pt x="140" y="0"/>
                    </a:moveTo>
                    <a:lnTo>
                      <a:pt x="113" y="3"/>
                    </a:lnTo>
                    <a:lnTo>
                      <a:pt x="85" y="10"/>
                    </a:lnTo>
                    <a:lnTo>
                      <a:pt x="63" y="24"/>
                    </a:lnTo>
                    <a:lnTo>
                      <a:pt x="40" y="38"/>
                    </a:lnTo>
                    <a:lnTo>
                      <a:pt x="25" y="59"/>
                    </a:lnTo>
                    <a:lnTo>
                      <a:pt x="10" y="80"/>
                    </a:lnTo>
                    <a:lnTo>
                      <a:pt x="3" y="106"/>
                    </a:lnTo>
                    <a:lnTo>
                      <a:pt x="0" y="132"/>
                    </a:lnTo>
                    <a:lnTo>
                      <a:pt x="0" y="654"/>
                    </a:lnTo>
                    <a:lnTo>
                      <a:pt x="3" y="679"/>
                    </a:lnTo>
                    <a:lnTo>
                      <a:pt x="10" y="705"/>
                    </a:lnTo>
                    <a:lnTo>
                      <a:pt x="25" y="727"/>
                    </a:lnTo>
                    <a:lnTo>
                      <a:pt x="40" y="748"/>
                    </a:lnTo>
                    <a:lnTo>
                      <a:pt x="63" y="762"/>
                    </a:lnTo>
                    <a:lnTo>
                      <a:pt x="85" y="776"/>
                    </a:lnTo>
                    <a:lnTo>
                      <a:pt x="113" y="783"/>
                    </a:lnTo>
                    <a:lnTo>
                      <a:pt x="140" y="786"/>
                    </a:lnTo>
                    <a:lnTo>
                      <a:pt x="1401" y="786"/>
                    </a:lnTo>
                    <a:lnTo>
                      <a:pt x="1429" y="783"/>
                    </a:lnTo>
                    <a:lnTo>
                      <a:pt x="1456" y="776"/>
                    </a:lnTo>
                    <a:lnTo>
                      <a:pt x="1479" y="762"/>
                    </a:lnTo>
                    <a:lnTo>
                      <a:pt x="1499" y="748"/>
                    </a:lnTo>
                    <a:lnTo>
                      <a:pt x="1516" y="727"/>
                    </a:lnTo>
                    <a:lnTo>
                      <a:pt x="1529" y="705"/>
                    </a:lnTo>
                    <a:lnTo>
                      <a:pt x="1536" y="679"/>
                    </a:lnTo>
                    <a:lnTo>
                      <a:pt x="1539" y="654"/>
                    </a:lnTo>
                    <a:lnTo>
                      <a:pt x="1539" y="132"/>
                    </a:lnTo>
                    <a:lnTo>
                      <a:pt x="1536" y="106"/>
                    </a:lnTo>
                    <a:lnTo>
                      <a:pt x="1529" y="80"/>
                    </a:lnTo>
                    <a:lnTo>
                      <a:pt x="1516" y="59"/>
                    </a:lnTo>
                    <a:lnTo>
                      <a:pt x="1499" y="38"/>
                    </a:lnTo>
                    <a:lnTo>
                      <a:pt x="1479" y="24"/>
                    </a:lnTo>
                    <a:lnTo>
                      <a:pt x="1456" y="10"/>
                    </a:lnTo>
                    <a:lnTo>
                      <a:pt x="1429" y="3"/>
                    </a:lnTo>
                    <a:lnTo>
                      <a:pt x="1401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024600" y="2990880"/>
                <a:ext cx="2441520" cy="1243080"/>
              </a:xfrm>
              <a:custGeom>
                <a:avLst/>
                <a:gdLst/>
                <a:ahLst/>
                <a:rect l="l" t="t" r="r" b="b"/>
                <a:pathLst>
                  <a:path w="1538" h="783">
                    <a:moveTo>
                      <a:pt x="140" y="0"/>
                    </a:moveTo>
                    <a:lnTo>
                      <a:pt x="112" y="3"/>
                    </a:lnTo>
                    <a:lnTo>
                      <a:pt x="85" y="10"/>
                    </a:lnTo>
                    <a:lnTo>
                      <a:pt x="62" y="24"/>
                    </a:lnTo>
                    <a:lnTo>
                      <a:pt x="40" y="38"/>
                    </a:lnTo>
                    <a:lnTo>
                      <a:pt x="25" y="57"/>
                    </a:lnTo>
                    <a:lnTo>
                      <a:pt x="10" y="81"/>
                    </a:lnTo>
                    <a:lnTo>
                      <a:pt x="2" y="104"/>
                    </a:lnTo>
                    <a:lnTo>
                      <a:pt x="0" y="130"/>
                    </a:lnTo>
                    <a:lnTo>
                      <a:pt x="0" y="654"/>
                    </a:lnTo>
                    <a:lnTo>
                      <a:pt x="2" y="680"/>
                    </a:lnTo>
                    <a:lnTo>
                      <a:pt x="10" y="705"/>
                    </a:lnTo>
                    <a:lnTo>
                      <a:pt x="25" y="727"/>
                    </a:lnTo>
                    <a:lnTo>
                      <a:pt x="40" y="746"/>
                    </a:lnTo>
                    <a:lnTo>
                      <a:pt x="62" y="762"/>
                    </a:lnTo>
                    <a:lnTo>
                      <a:pt x="85" y="774"/>
                    </a:lnTo>
                    <a:lnTo>
                      <a:pt x="112" y="781"/>
                    </a:lnTo>
                    <a:lnTo>
                      <a:pt x="140" y="783"/>
                    </a:lnTo>
                    <a:lnTo>
                      <a:pt x="1401" y="783"/>
                    </a:lnTo>
                    <a:lnTo>
                      <a:pt x="1428" y="781"/>
                    </a:lnTo>
                    <a:lnTo>
                      <a:pt x="1456" y="774"/>
                    </a:lnTo>
                    <a:lnTo>
                      <a:pt x="1478" y="762"/>
                    </a:lnTo>
                    <a:lnTo>
                      <a:pt x="1498" y="746"/>
                    </a:lnTo>
                    <a:lnTo>
                      <a:pt x="1516" y="727"/>
                    </a:lnTo>
                    <a:lnTo>
                      <a:pt x="1528" y="705"/>
                    </a:lnTo>
                    <a:lnTo>
                      <a:pt x="1536" y="680"/>
                    </a:lnTo>
                    <a:lnTo>
                      <a:pt x="1538" y="654"/>
                    </a:lnTo>
                    <a:lnTo>
                      <a:pt x="1538" y="130"/>
                    </a:lnTo>
                    <a:lnTo>
                      <a:pt x="1536" y="104"/>
                    </a:lnTo>
                    <a:lnTo>
                      <a:pt x="1528" y="81"/>
                    </a:lnTo>
                    <a:lnTo>
                      <a:pt x="1516" y="57"/>
                    </a:lnTo>
                    <a:lnTo>
                      <a:pt x="1498" y="38"/>
                    </a:lnTo>
                    <a:lnTo>
                      <a:pt x="1478" y="24"/>
                    </a:lnTo>
                    <a:lnTo>
                      <a:pt x="1456" y="10"/>
                    </a:lnTo>
                    <a:lnTo>
                      <a:pt x="1428" y="3"/>
                    </a:lnTo>
                    <a:lnTo>
                      <a:pt x="1401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fcc99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7" name=""/>
            <p:cNvSpPr/>
            <p:nvPr/>
          </p:nvSpPr>
          <p:spPr>
            <a:xfrm>
              <a:off x="6867000" y="3152880"/>
              <a:ext cx="713880" cy="198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. WR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473520" y="3354480"/>
              <a:ext cx="1564200" cy="1983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your thesis statemen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567480" y="354816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666120" y="3548160"/>
              <a:ext cx="32364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567480" y="372096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664680" y="3720960"/>
              <a:ext cx="52812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6567480" y="3919680"/>
              <a:ext cx="5400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662160" y="3919680"/>
              <a:ext cx="154152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ea of investigation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5" name=""/>
            <p:cNvGrpSpPr/>
            <p:nvPr/>
          </p:nvGrpSpPr>
          <p:grpSpPr>
            <a:xfrm>
              <a:off x="5784840" y="3544920"/>
              <a:ext cx="243000" cy="139680"/>
              <a:chOff x="5784840" y="3544920"/>
              <a:chExt cx="243000" cy="139680"/>
            </a:xfrm>
          </p:grpSpPr>
          <p:sp>
            <p:nvSpPr>
              <p:cNvPr id="3226" name=""/>
              <p:cNvSpPr/>
              <p:nvPr/>
            </p:nvSpPr>
            <p:spPr>
              <a:xfrm>
                <a:off x="5784840" y="3597120"/>
                <a:ext cx="100080" cy="30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877000" y="3544920"/>
                <a:ext cx="150840" cy="139680"/>
              </a:xfrm>
              <a:custGeom>
                <a:avLst/>
                <a:gdLst/>
                <a:ahLst/>
                <a:rect l="l" t="t" r="r" b="b"/>
                <a:pathLst>
                  <a:path w="95" h="88">
                    <a:moveTo>
                      <a:pt x="0" y="88"/>
                    </a:moveTo>
                    <a:lnTo>
                      <a:pt x="95" y="45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8" name=""/>
          <p:cNvSpPr/>
          <p:nvPr/>
        </p:nvSpPr>
        <p:spPr>
          <a:xfrm>
            <a:off x="1449000" y="228600"/>
            <a:ext cx="62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fting a Thesis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677880" y="1123920"/>
            <a:ext cx="2417760" cy="1287360"/>
            <a:chOff x="677880" y="1123920"/>
            <a:chExt cx="2417760" cy="1287360"/>
          </a:xfrm>
        </p:grpSpPr>
        <p:sp>
          <p:nvSpPr>
            <p:cNvPr id="3230" name=""/>
            <p:cNvSpPr/>
            <p:nvPr/>
          </p:nvSpPr>
          <p:spPr>
            <a:xfrm>
              <a:off x="1199520" y="1908000"/>
              <a:ext cx="184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similarities and differen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528560" y="1341360"/>
              <a:ext cx="704880" cy="198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1. LOOK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98480" y="1539720"/>
              <a:ext cx="2076480" cy="198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for relationships among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101600" y="173664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198080" y="1736640"/>
              <a:ext cx="150948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cause and effect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106640" y="190800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106640" y="208440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1198800" y="2084400"/>
              <a:ext cx="163296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impact and significan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20720" y="1165320"/>
              <a:ext cx="2374920" cy="1245960"/>
            </a:xfrm>
            <a:custGeom>
              <a:avLst/>
              <a:gdLst/>
              <a:ahLst/>
              <a:rect l="l" t="t" r="r" b="b"/>
              <a:pathLst>
                <a:path w="1496" h="785">
                  <a:moveTo>
                    <a:pt x="138" y="0"/>
                  </a:moveTo>
                  <a:lnTo>
                    <a:pt x="110" y="2"/>
                  </a:lnTo>
                  <a:lnTo>
                    <a:pt x="85" y="9"/>
                  </a:lnTo>
                  <a:lnTo>
                    <a:pt x="60" y="23"/>
                  </a:lnTo>
                  <a:lnTo>
                    <a:pt x="40" y="37"/>
                  </a:lnTo>
                  <a:lnTo>
                    <a:pt x="25" y="58"/>
                  </a:lnTo>
                  <a:lnTo>
                    <a:pt x="10" y="80"/>
                  </a:lnTo>
                  <a:lnTo>
                    <a:pt x="3" y="106"/>
                  </a:lnTo>
                  <a:lnTo>
                    <a:pt x="0" y="132"/>
                  </a:lnTo>
                  <a:lnTo>
                    <a:pt x="0" y="653"/>
                  </a:lnTo>
                  <a:lnTo>
                    <a:pt x="3" y="679"/>
                  </a:lnTo>
                  <a:lnTo>
                    <a:pt x="10" y="705"/>
                  </a:lnTo>
                  <a:lnTo>
                    <a:pt x="25" y="726"/>
                  </a:lnTo>
                  <a:lnTo>
                    <a:pt x="40" y="747"/>
                  </a:lnTo>
                  <a:lnTo>
                    <a:pt x="60" y="761"/>
                  </a:lnTo>
                  <a:lnTo>
                    <a:pt x="85" y="775"/>
                  </a:lnTo>
                  <a:lnTo>
                    <a:pt x="110" y="782"/>
                  </a:lnTo>
                  <a:lnTo>
                    <a:pt x="138" y="785"/>
                  </a:lnTo>
                  <a:lnTo>
                    <a:pt x="1359" y="785"/>
                  </a:lnTo>
                  <a:lnTo>
                    <a:pt x="1386" y="782"/>
                  </a:lnTo>
                  <a:lnTo>
                    <a:pt x="1411" y="775"/>
                  </a:lnTo>
                  <a:lnTo>
                    <a:pt x="1436" y="761"/>
                  </a:lnTo>
                  <a:lnTo>
                    <a:pt x="1456" y="747"/>
                  </a:lnTo>
                  <a:lnTo>
                    <a:pt x="1474" y="726"/>
                  </a:lnTo>
                  <a:lnTo>
                    <a:pt x="1486" y="705"/>
                  </a:lnTo>
                  <a:lnTo>
                    <a:pt x="1494" y="679"/>
                  </a:lnTo>
                  <a:lnTo>
                    <a:pt x="1496" y="653"/>
                  </a:lnTo>
                  <a:lnTo>
                    <a:pt x="1496" y="132"/>
                  </a:lnTo>
                  <a:lnTo>
                    <a:pt x="1494" y="106"/>
                  </a:lnTo>
                  <a:lnTo>
                    <a:pt x="1486" y="80"/>
                  </a:lnTo>
                  <a:lnTo>
                    <a:pt x="1474" y="58"/>
                  </a:lnTo>
                  <a:lnTo>
                    <a:pt x="1456" y="37"/>
                  </a:lnTo>
                  <a:lnTo>
                    <a:pt x="1436" y="23"/>
                  </a:lnTo>
                  <a:lnTo>
                    <a:pt x="1411" y="9"/>
                  </a:lnTo>
                  <a:lnTo>
                    <a:pt x="1386" y="2"/>
                  </a:lnTo>
                  <a:lnTo>
                    <a:pt x="1359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77880" y="1123920"/>
              <a:ext cx="2374920" cy="1246320"/>
            </a:xfrm>
            <a:custGeom>
              <a:avLst/>
              <a:gdLst/>
              <a:ahLst/>
              <a:rect l="l" t="t" r="r" b="b"/>
              <a:pathLst>
                <a:path w="1496" h="785">
                  <a:moveTo>
                    <a:pt x="137" y="0"/>
                  </a:moveTo>
                  <a:lnTo>
                    <a:pt x="110" y="2"/>
                  </a:lnTo>
                  <a:lnTo>
                    <a:pt x="82" y="9"/>
                  </a:lnTo>
                  <a:lnTo>
                    <a:pt x="60" y="23"/>
                  </a:lnTo>
                  <a:lnTo>
                    <a:pt x="40" y="37"/>
                  </a:lnTo>
                  <a:lnTo>
                    <a:pt x="22" y="59"/>
                  </a:lnTo>
                  <a:lnTo>
                    <a:pt x="10" y="80"/>
                  </a:lnTo>
                  <a:lnTo>
                    <a:pt x="2" y="106"/>
                  </a:lnTo>
                  <a:lnTo>
                    <a:pt x="0" y="132"/>
                  </a:lnTo>
                  <a:lnTo>
                    <a:pt x="0" y="653"/>
                  </a:lnTo>
                  <a:lnTo>
                    <a:pt x="2" y="679"/>
                  </a:lnTo>
                  <a:lnTo>
                    <a:pt x="10" y="705"/>
                  </a:lnTo>
                  <a:lnTo>
                    <a:pt x="22" y="726"/>
                  </a:lnTo>
                  <a:lnTo>
                    <a:pt x="40" y="747"/>
                  </a:lnTo>
                  <a:lnTo>
                    <a:pt x="60" y="761"/>
                  </a:lnTo>
                  <a:lnTo>
                    <a:pt x="82" y="775"/>
                  </a:lnTo>
                  <a:lnTo>
                    <a:pt x="110" y="783"/>
                  </a:lnTo>
                  <a:lnTo>
                    <a:pt x="137" y="785"/>
                  </a:lnTo>
                  <a:lnTo>
                    <a:pt x="1358" y="785"/>
                  </a:lnTo>
                  <a:lnTo>
                    <a:pt x="1386" y="783"/>
                  </a:lnTo>
                  <a:lnTo>
                    <a:pt x="1411" y="775"/>
                  </a:lnTo>
                  <a:lnTo>
                    <a:pt x="1436" y="761"/>
                  </a:lnTo>
                  <a:lnTo>
                    <a:pt x="1456" y="747"/>
                  </a:lnTo>
                  <a:lnTo>
                    <a:pt x="1473" y="726"/>
                  </a:lnTo>
                  <a:lnTo>
                    <a:pt x="1486" y="705"/>
                  </a:lnTo>
                  <a:lnTo>
                    <a:pt x="1493" y="679"/>
                  </a:lnTo>
                  <a:lnTo>
                    <a:pt x="1496" y="653"/>
                  </a:lnTo>
                  <a:lnTo>
                    <a:pt x="1496" y="132"/>
                  </a:lnTo>
                  <a:lnTo>
                    <a:pt x="1493" y="106"/>
                  </a:lnTo>
                  <a:lnTo>
                    <a:pt x="1486" y="80"/>
                  </a:lnTo>
                  <a:lnTo>
                    <a:pt x="1473" y="59"/>
                  </a:lnTo>
                  <a:lnTo>
                    <a:pt x="1456" y="37"/>
                  </a:lnTo>
                  <a:lnTo>
                    <a:pt x="1436" y="23"/>
                  </a:lnTo>
                  <a:lnTo>
                    <a:pt x="1411" y="9"/>
                  </a:lnTo>
                  <a:lnTo>
                    <a:pt x="1386" y="2"/>
                  </a:lnTo>
                  <a:lnTo>
                    <a:pt x="135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484280" y="1300320"/>
              <a:ext cx="704880" cy="198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 LOOK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55640" y="1498680"/>
              <a:ext cx="2076480" cy="1983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or relationships among da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058760" y="169560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153440" y="1695600"/>
              <a:ext cx="150948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use and effect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062000" y="186696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062000" y="2043000"/>
              <a:ext cx="5400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155960" y="2043000"/>
              <a:ext cx="1632960" cy="18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act and significan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156680" y="1866960"/>
              <a:ext cx="184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milarities and differenc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8" name=""/>
          <p:cNvGrpSpPr/>
          <p:nvPr/>
        </p:nvGrpSpPr>
        <p:grpSpPr>
          <a:xfrm>
            <a:off x="3119400" y="2990880"/>
            <a:ext cx="2710080" cy="1284120"/>
            <a:chOff x="3119400" y="2990880"/>
            <a:chExt cx="2710080" cy="1284120"/>
          </a:xfrm>
        </p:grpSpPr>
        <p:sp>
          <p:nvSpPr>
            <p:cNvPr id="3249" name=""/>
            <p:cNvSpPr/>
            <p:nvPr/>
          </p:nvSpPr>
          <p:spPr>
            <a:xfrm>
              <a:off x="4293720" y="3168720"/>
              <a:ext cx="54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8080"/>
                  </a:solidFill>
                  <a:latin typeface="Arial"/>
                </a:rPr>
                <a:t>5. LI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3637800" y="3367080"/>
              <a:ext cx="181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evidence or proof to tes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676680" y="3767040"/>
              <a:ext cx="1738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808080"/>
                  </a:solidFill>
                  <a:latin typeface="Arial"/>
                </a:rPr>
                <a:t>perspective, or solutio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723840" y="3527280"/>
              <a:ext cx="156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ether the position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886560" y="3924360"/>
              <a:ext cx="127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 be suppor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386160" y="3032280"/>
              <a:ext cx="2443320" cy="1242720"/>
            </a:xfrm>
            <a:custGeom>
              <a:avLst/>
              <a:gdLst/>
              <a:ahLst/>
              <a:rect l="l" t="t" r="r" b="b"/>
              <a:pathLst>
                <a:path w="1539" h="783">
                  <a:moveTo>
                    <a:pt x="138" y="0"/>
                  </a:moveTo>
                  <a:lnTo>
                    <a:pt x="110" y="3"/>
                  </a:lnTo>
                  <a:lnTo>
                    <a:pt x="83" y="10"/>
                  </a:lnTo>
                  <a:lnTo>
                    <a:pt x="60" y="24"/>
                  </a:lnTo>
                  <a:lnTo>
                    <a:pt x="40" y="38"/>
                  </a:lnTo>
                  <a:lnTo>
                    <a:pt x="23" y="57"/>
                  </a:lnTo>
                  <a:lnTo>
                    <a:pt x="10" y="80"/>
                  </a:lnTo>
                  <a:lnTo>
                    <a:pt x="3" y="104"/>
                  </a:lnTo>
                  <a:lnTo>
                    <a:pt x="0" y="130"/>
                  </a:lnTo>
                  <a:lnTo>
                    <a:pt x="0" y="654"/>
                  </a:lnTo>
                  <a:lnTo>
                    <a:pt x="3" y="679"/>
                  </a:lnTo>
                  <a:lnTo>
                    <a:pt x="10" y="703"/>
                  </a:lnTo>
                  <a:lnTo>
                    <a:pt x="23" y="727"/>
                  </a:lnTo>
                  <a:lnTo>
                    <a:pt x="40" y="746"/>
                  </a:lnTo>
                  <a:lnTo>
                    <a:pt x="60" y="762"/>
                  </a:lnTo>
                  <a:lnTo>
                    <a:pt x="83" y="774"/>
                  </a:lnTo>
                  <a:lnTo>
                    <a:pt x="110" y="781"/>
                  </a:lnTo>
                  <a:lnTo>
                    <a:pt x="138" y="783"/>
                  </a:lnTo>
                  <a:lnTo>
                    <a:pt x="1399" y="783"/>
                  </a:lnTo>
                  <a:lnTo>
                    <a:pt x="1426" y="781"/>
                  </a:lnTo>
                  <a:lnTo>
                    <a:pt x="1454" y="774"/>
                  </a:lnTo>
                  <a:lnTo>
                    <a:pt x="1476" y="762"/>
                  </a:lnTo>
                  <a:lnTo>
                    <a:pt x="1499" y="746"/>
                  </a:lnTo>
                  <a:lnTo>
                    <a:pt x="1514" y="727"/>
                  </a:lnTo>
                  <a:lnTo>
                    <a:pt x="1529" y="703"/>
                  </a:lnTo>
                  <a:lnTo>
                    <a:pt x="1536" y="679"/>
                  </a:lnTo>
                  <a:lnTo>
                    <a:pt x="1539" y="654"/>
                  </a:lnTo>
                  <a:lnTo>
                    <a:pt x="1539" y="130"/>
                  </a:lnTo>
                  <a:lnTo>
                    <a:pt x="1536" y="104"/>
                  </a:lnTo>
                  <a:lnTo>
                    <a:pt x="1529" y="80"/>
                  </a:lnTo>
                  <a:lnTo>
                    <a:pt x="1514" y="57"/>
                  </a:lnTo>
                  <a:lnTo>
                    <a:pt x="1499" y="38"/>
                  </a:lnTo>
                  <a:lnTo>
                    <a:pt x="1476" y="24"/>
                  </a:lnTo>
                  <a:lnTo>
                    <a:pt x="1454" y="10"/>
                  </a:lnTo>
                  <a:lnTo>
                    <a:pt x="1426" y="3"/>
                  </a:lnTo>
                  <a:lnTo>
                    <a:pt x="1399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3343320" y="2990880"/>
              <a:ext cx="2441520" cy="1243080"/>
            </a:xfrm>
            <a:custGeom>
              <a:avLst/>
              <a:gdLst/>
              <a:ahLst/>
              <a:rect l="l" t="t" r="r" b="b"/>
              <a:pathLst>
                <a:path w="1538" h="783">
                  <a:moveTo>
                    <a:pt x="137" y="0"/>
                  </a:moveTo>
                  <a:lnTo>
                    <a:pt x="110" y="3"/>
                  </a:lnTo>
                  <a:lnTo>
                    <a:pt x="82" y="10"/>
                  </a:lnTo>
                  <a:lnTo>
                    <a:pt x="60" y="22"/>
                  </a:lnTo>
                  <a:lnTo>
                    <a:pt x="40" y="38"/>
                  </a:lnTo>
                  <a:lnTo>
                    <a:pt x="22" y="57"/>
                  </a:lnTo>
                  <a:lnTo>
                    <a:pt x="10" y="78"/>
                  </a:lnTo>
                  <a:lnTo>
                    <a:pt x="2" y="104"/>
                  </a:lnTo>
                  <a:lnTo>
                    <a:pt x="0" y="130"/>
                  </a:lnTo>
                  <a:lnTo>
                    <a:pt x="0" y="654"/>
                  </a:lnTo>
                  <a:lnTo>
                    <a:pt x="2" y="680"/>
                  </a:lnTo>
                  <a:lnTo>
                    <a:pt x="10" y="703"/>
                  </a:lnTo>
                  <a:lnTo>
                    <a:pt x="22" y="727"/>
                  </a:lnTo>
                  <a:lnTo>
                    <a:pt x="40" y="746"/>
                  </a:lnTo>
                  <a:lnTo>
                    <a:pt x="60" y="762"/>
                  </a:lnTo>
                  <a:lnTo>
                    <a:pt x="82" y="774"/>
                  </a:lnTo>
                  <a:lnTo>
                    <a:pt x="110" y="781"/>
                  </a:lnTo>
                  <a:lnTo>
                    <a:pt x="137" y="783"/>
                  </a:lnTo>
                  <a:lnTo>
                    <a:pt x="1398" y="783"/>
                  </a:lnTo>
                  <a:lnTo>
                    <a:pt x="1426" y="781"/>
                  </a:lnTo>
                  <a:lnTo>
                    <a:pt x="1453" y="774"/>
                  </a:lnTo>
                  <a:lnTo>
                    <a:pt x="1476" y="762"/>
                  </a:lnTo>
                  <a:lnTo>
                    <a:pt x="1498" y="746"/>
                  </a:lnTo>
                  <a:lnTo>
                    <a:pt x="1513" y="727"/>
                  </a:lnTo>
                  <a:lnTo>
                    <a:pt x="1528" y="703"/>
                  </a:lnTo>
                  <a:lnTo>
                    <a:pt x="1536" y="680"/>
                  </a:lnTo>
                  <a:lnTo>
                    <a:pt x="1538" y="654"/>
                  </a:lnTo>
                  <a:lnTo>
                    <a:pt x="1538" y="130"/>
                  </a:lnTo>
                  <a:lnTo>
                    <a:pt x="1536" y="104"/>
                  </a:lnTo>
                  <a:lnTo>
                    <a:pt x="1528" y="78"/>
                  </a:lnTo>
                  <a:lnTo>
                    <a:pt x="1513" y="57"/>
                  </a:lnTo>
                  <a:lnTo>
                    <a:pt x="1498" y="38"/>
                  </a:lnTo>
                  <a:lnTo>
                    <a:pt x="1476" y="22"/>
                  </a:lnTo>
                  <a:lnTo>
                    <a:pt x="1453" y="10"/>
                  </a:lnTo>
                  <a:lnTo>
                    <a:pt x="1426" y="3"/>
                  </a:lnTo>
                  <a:lnTo>
                    <a:pt x="139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eaeaea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249440" y="3127320"/>
              <a:ext cx="54036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. LIS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594960" y="3325680"/>
              <a:ext cx="181116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vidence or proof to tes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633840" y="3726000"/>
              <a:ext cx="169236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spective or solutio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9" name=""/>
            <p:cNvGrpSpPr/>
            <p:nvPr/>
          </p:nvGrpSpPr>
          <p:grpSpPr>
            <a:xfrm>
              <a:off x="3119400" y="3544920"/>
              <a:ext cx="223920" cy="139680"/>
              <a:chOff x="3119400" y="3544920"/>
              <a:chExt cx="223920" cy="139680"/>
            </a:xfrm>
          </p:grpSpPr>
          <p:sp>
            <p:nvSpPr>
              <p:cNvPr id="3260" name=""/>
              <p:cNvSpPr/>
              <p:nvPr/>
            </p:nvSpPr>
            <p:spPr>
              <a:xfrm>
                <a:off x="3119400" y="3597120"/>
                <a:ext cx="84240" cy="3024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3195720" y="3544920"/>
                <a:ext cx="147600" cy="13968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0" y="88"/>
                    </a:moveTo>
                    <a:lnTo>
                      <a:pt x="93" y="45"/>
                    </a:lnTo>
                    <a:lnTo>
                      <a:pt x="0" y="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3768120" y="3568680"/>
              <a:ext cx="156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hether the position,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929400" y="3965400"/>
              <a:ext cx="127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 be support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 Chart: Stage 3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52280" y="1066680"/>
            <a:ext cx="8610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taken care not to plagiarize or be intellectually dishonest in my research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analyzed and evaluated print resources, using a variety of criteria.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analyzed and evaluated electronic and Internet resources, using a variety of criteri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taken effective notes to record the information found in the resources I have us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recorded my own responses to the information found in the resources I have us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 author’s facts corre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 opinions supported with dat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re evidence of good research and document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39160" y="19810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33404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16160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 Chart: Stage 3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152280" y="914400"/>
            <a:ext cx="861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used appropriate visual organizers to sort and record my data and idea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created an effective focus statement to guide the research for my repo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written an outline of my report with an introduction, subtopics, and a conclus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 have crafted an effective thesis statement to guide the research for my essa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 have deepened my thesis statement by applying a variety of criteri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completely and deeply does the work cover the top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work answer the question completel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33520" y="1981080"/>
            <a:ext cx="31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91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895480" cy="13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date of publication giv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information current enough for your topic or tas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8800" y="19810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329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2078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source contain the information you ne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it provide information that is relevant to your top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8440" y="198108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va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688680" y="3050640"/>
            <a:ext cx="2629080" cy="1711800"/>
            <a:chOff x="688680" y="3050640"/>
            <a:chExt cx="2629080" cy="1711800"/>
          </a:xfrm>
        </p:grpSpPr>
        <p:grpSp>
          <p:nvGrpSpPr>
            <p:cNvPr id="883" name=""/>
            <p:cNvGrpSpPr/>
            <p:nvPr/>
          </p:nvGrpSpPr>
          <p:grpSpPr>
            <a:xfrm>
              <a:off x="688680" y="3050640"/>
              <a:ext cx="1356120" cy="1711800"/>
              <a:chOff x="688680" y="3050640"/>
              <a:chExt cx="1356120" cy="1711800"/>
            </a:xfrm>
          </p:grpSpPr>
          <p:sp>
            <p:nvSpPr>
              <p:cNvPr id="884" name=""/>
              <p:cNvSpPr/>
              <p:nvPr/>
            </p:nvSpPr>
            <p:spPr>
              <a:xfrm>
                <a:off x="744480" y="3092400"/>
                <a:ext cx="1300320" cy="1670040"/>
              </a:xfrm>
              <a:custGeom>
                <a:avLst/>
                <a:gdLst/>
                <a:ahLst/>
                <a:rect l="l" t="t" r="r" b="b"/>
                <a:pathLst>
                  <a:path w="819" h="1052">
                    <a:moveTo>
                      <a:pt x="237" y="466"/>
                    </a:moveTo>
                    <a:lnTo>
                      <a:pt x="233" y="459"/>
                    </a:lnTo>
                    <a:lnTo>
                      <a:pt x="226" y="453"/>
                    </a:lnTo>
                    <a:lnTo>
                      <a:pt x="220" y="451"/>
                    </a:lnTo>
                    <a:lnTo>
                      <a:pt x="211" y="446"/>
                    </a:lnTo>
                    <a:lnTo>
                      <a:pt x="205" y="442"/>
                    </a:lnTo>
                    <a:lnTo>
                      <a:pt x="194" y="440"/>
                    </a:lnTo>
                    <a:lnTo>
                      <a:pt x="192" y="440"/>
                    </a:lnTo>
                    <a:lnTo>
                      <a:pt x="174" y="444"/>
                    </a:lnTo>
                    <a:lnTo>
                      <a:pt x="155" y="451"/>
                    </a:lnTo>
                    <a:lnTo>
                      <a:pt x="136" y="453"/>
                    </a:lnTo>
                    <a:lnTo>
                      <a:pt x="120" y="461"/>
                    </a:lnTo>
                    <a:lnTo>
                      <a:pt x="110" y="466"/>
                    </a:lnTo>
                    <a:lnTo>
                      <a:pt x="105" y="468"/>
                    </a:lnTo>
                    <a:lnTo>
                      <a:pt x="95" y="470"/>
                    </a:lnTo>
                    <a:lnTo>
                      <a:pt x="86" y="472"/>
                    </a:lnTo>
                    <a:lnTo>
                      <a:pt x="62" y="472"/>
                    </a:lnTo>
                    <a:lnTo>
                      <a:pt x="51" y="468"/>
                    </a:lnTo>
                    <a:lnTo>
                      <a:pt x="45" y="466"/>
                    </a:lnTo>
                    <a:lnTo>
                      <a:pt x="34" y="459"/>
                    </a:lnTo>
                    <a:lnTo>
                      <a:pt x="26" y="453"/>
                    </a:lnTo>
                    <a:lnTo>
                      <a:pt x="17" y="444"/>
                    </a:lnTo>
                    <a:lnTo>
                      <a:pt x="13" y="438"/>
                    </a:lnTo>
                    <a:lnTo>
                      <a:pt x="6" y="427"/>
                    </a:lnTo>
                    <a:lnTo>
                      <a:pt x="4" y="416"/>
                    </a:lnTo>
                    <a:lnTo>
                      <a:pt x="4" y="405"/>
                    </a:lnTo>
                    <a:lnTo>
                      <a:pt x="0" y="395"/>
                    </a:lnTo>
                    <a:lnTo>
                      <a:pt x="0" y="384"/>
                    </a:lnTo>
                    <a:lnTo>
                      <a:pt x="21" y="179"/>
                    </a:lnTo>
                    <a:lnTo>
                      <a:pt x="215" y="218"/>
                    </a:lnTo>
                    <a:lnTo>
                      <a:pt x="228" y="222"/>
                    </a:lnTo>
                    <a:lnTo>
                      <a:pt x="282" y="222"/>
                    </a:lnTo>
                    <a:lnTo>
                      <a:pt x="286" y="218"/>
                    </a:lnTo>
                    <a:lnTo>
                      <a:pt x="295" y="216"/>
                    </a:lnTo>
                    <a:lnTo>
                      <a:pt x="302" y="211"/>
                    </a:lnTo>
                    <a:lnTo>
                      <a:pt x="310" y="205"/>
                    </a:lnTo>
                    <a:lnTo>
                      <a:pt x="310" y="203"/>
                    </a:lnTo>
                    <a:lnTo>
                      <a:pt x="317" y="196"/>
                    </a:lnTo>
                    <a:lnTo>
                      <a:pt x="323" y="190"/>
                    </a:lnTo>
                    <a:lnTo>
                      <a:pt x="327" y="179"/>
                    </a:lnTo>
                    <a:lnTo>
                      <a:pt x="332" y="175"/>
                    </a:lnTo>
                    <a:lnTo>
                      <a:pt x="332" y="166"/>
                    </a:lnTo>
                    <a:lnTo>
                      <a:pt x="334" y="157"/>
                    </a:lnTo>
                    <a:lnTo>
                      <a:pt x="334" y="140"/>
                    </a:lnTo>
                    <a:lnTo>
                      <a:pt x="332" y="132"/>
                    </a:lnTo>
                    <a:lnTo>
                      <a:pt x="332" y="123"/>
                    </a:lnTo>
                    <a:lnTo>
                      <a:pt x="327" y="114"/>
                    </a:lnTo>
                    <a:lnTo>
                      <a:pt x="325" y="106"/>
                    </a:lnTo>
                    <a:lnTo>
                      <a:pt x="323" y="95"/>
                    </a:lnTo>
                    <a:lnTo>
                      <a:pt x="323" y="78"/>
                    </a:lnTo>
                    <a:lnTo>
                      <a:pt x="325" y="69"/>
                    </a:lnTo>
                    <a:lnTo>
                      <a:pt x="330" y="60"/>
                    </a:lnTo>
                    <a:lnTo>
                      <a:pt x="332" y="50"/>
                    </a:lnTo>
                    <a:lnTo>
                      <a:pt x="336" y="43"/>
                    </a:lnTo>
                    <a:lnTo>
                      <a:pt x="343" y="37"/>
                    </a:lnTo>
                    <a:lnTo>
                      <a:pt x="347" y="26"/>
                    </a:lnTo>
                    <a:lnTo>
                      <a:pt x="353" y="24"/>
                    </a:lnTo>
                    <a:lnTo>
                      <a:pt x="362" y="17"/>
                    </a:lnTo>
                    <a:lnTo>
                      <a:pt x="371" y="13"/>
                    </a:lnTo>
                    <a:lnTo>
                      <a:pt x="379" y="6"/>
                    </a:lnTo>
                    <a:lnTo>
                      <a:pt x="388" y="2"/>
                    </a:lnTo>
                    <a:lnTo>
                      <a:pt x="401" y="0"/>
                    </a:lnTo>
                    <a:lnTo>
                      <a:pt x="409" y="0"/>
                    </a:lnTo>
                    <a:lnTo>
                      <a:pt x="422" y="0"/>
                    </a:lnTo>
                    <a:lnTo>
                      <a:pt x="431" y="0"/>
                    </a:lnTo>
                    <a:lnTo>
                      <a:pt x="442" y="0"/>
                    </a:lnTo>
                    <a:lnTo>
                      <a:pt x="453" y="0"/>
                    </a:lnTo>
                    <a:lnTo>
                      <a:pt x="465" y="2"/>
                    </a:lnTo>
                    <a:lnTo>
                      <a:pt x="474" y="9"/>
                    </a:lnTo>
                    <a:lnTo>
                      <a:pt x="485" y="13"/>
                    </a:lnTo>
                    <a:lnTo>
                      <a:pt x="489" y="15"/>
                    </a:lnTo>
                    <a:lnTo>
                      <a:pt x="496" y="19"/>
                    </a:lnTo>
                    <a:lnTo>
                      <a:pt x="502" y="24"/>
                    </a:lnTo>
                    <a:lnTo>
                      <a:pt x="509" y="30"/>
                    </a:lnTo>
                    <a:lnTo>
                      <a:pt x="511" y="37"/>
                    </a:lnTo>
                    <a:lnTo>
                      <a:pt x="517" y="43"/>
                    </a:lnTo>
                    <a:lnTo>
                      <a:pt x="519" y="47"/>
                    </a:lnTo>
                    <a:lnTo>
                      <a:pt x="524" y="56"/>
                    </a:lnTo>
                    <a:lnTo>
                      <a:pt x="526" y="67"/>
                    </a:lnTo>
                    <a:lnTo>
                      <a:pt x="526" y="97"/>
                    </a:lnTo>
                    <a:lnTo>
                      <a:pt x="524" y="108"/>
                    </a:lnTo>
                    <a:lnTo>
                      <a:pt x="519" y="123"/>
                    </a:lnTo>
                    <a:lnTo>
                      <a:pt x="513" y="136"/>
                    </a:lnTo>
                    <a:lnTo>
                      <a:pt x="511" y="151"/>
                    </a:lnTo>
                    <a:lnTo>
                      <a:pt x="509" y="164"/>
                    </a:lnTo>
                    <a:lnTo>
                      <a:pt x="509" y="179"/>
                    </a:lnTo>
                    <a:lnTo>
                      <a:pt x="511" y="185"/>
                    </a:lnTo>
                    <a:lnTo>
                      <a:pt x="513" y="192"/>
                    </a:lnTo>
                    <a:lnTo>
                      <a:pt x="519" y="201"/>
                    </a:lnTo>
                    <a:lnTo>
                      <a:pt x="524" y="205"/>
                    </a:lnTo>
                    <a:lnTo>
                      <a:pt x="530" y="213"/>
                    </a:lnTo>
                    <a:lnTo>
                      <a:pt x="535" y="216"/>
                    </a:lnTo>
                    <a:lnTo>
                      <a:pt x="543" y="220"/>
                    </a:lnTo>
                    <a:lnTo>
                      <a:pt x="550" y="222"/>
                    </a:lnTo>
                    <a:lnTo>
                      <a:pt x="554" y="224"/>
                    </a:lnTo>
                    <a:lnTo>
                      <a:pt x="599" y="224"/>
                    </a:lnTo>
                    <a:lnTo>
                      <a:pt x="619" y="222"/>
                    </a:lnTo>
                    <a:lnTo>
                      <a:pt x="785" y="201"/>
                    </a:lnTo>
                    <a:lnTo>
                      <a:pt x="817" y="341"/>
                    </a:lnTo>
                    <a:lnTo>
                      <a:pt x="819" y="356"/>
                    </a:lnTo>
                    <a:lnTo>
                      <a:pt x="817" y="373"/>
                    </a:lnTo>
                    <a:lnTo>
                      <a:pt x="813" y="392"/>
                    </a:lnTo>
                    <a:lnTo>
                      <a:pt x="808" y="403"/>
                    </a:lnTo>
                    <a:lnTo>
                      <a:pt x="802" y="412"/>
                    </a:lnTo>
                    <a:lnTo>
                      <a:pt x="785" y="425"/>
                    </a:lnTo>
                    <a:lnTo>
                      <a:pt x="757" y="436"/>
                    </a:lnTo>
                    <a:lnTo>
                      <a:pt x="714" y="438"/>
                    </a:lnTo>
                    <a:lnTo>
                      <a:pt x="660" y="429"/>
                    </a:lnTo>
                    <a:lnTo>
                      <a:pt x="642" y="429"/>
                    </a:lnTo>
                    <a:lnTo>
                      <a:pt x="632" y="431"/>
                    </a:lnTo>
                    <a:lnTo>
                      <a:pt x="627" y="438"/>
                    </a:lnTo>
                    <a:lnTo>
                      <a:pt x="614" y="451"/>
                    </a:lnTo>
                    <a:lnTo>
                      <a:pt x="606" y="468"/>
                    </a:lnTo>
                    <a:lnTo>
                      <a:pt x="601" y="487"/>
                    </a:lnTo>
                    <a:lnTo>
                      <a:pt x="597" y="507"/>
                    </a:lnTo>
                    <a:lnTo>
                      <a:pt x="597" y="533"/>
                    </a:lnTo>
                    <a:lnTo>
                      <a:pt x="599" y="556"/>
                    </a:lnTo>
                    <a:lnTo>
                      <a:pt x="604" y="576"/>
                    </a:lnTo>
                    <a:lnTo>
                      <a:pt x="606" y="593"/>
                    </a:lnTo>
                    <a:lnTo>
                      <a:pt x="614" y="604"/>
                    </a:lnTo>
                    <a:lnTo>
                      <a:pt x="621" y="617"/>
                    </a:lnTo>
                    <a:lnTo>
                      <a:pt x="632" y="627"/>
                    </a:lnTo>
                    <a:lnTo>
                      <a:pt x="662" y="645"/>
                    </a:lnTo>
                    <a:lnTo>
                      <a:pt x="683" y="634"/>
                    </a:lnTo>
                    <a:lnTo>
                      <a:pt x="694" y="630"/>
                    </a:lnTo>
                    <a:lnTo>
                      <a:pt x="703" y="627"/>
                    </a:lnTo>
                    <a:lnTo>
                      <a:pt x="711" y="623"/>
                    </a:lnTo>
                    <a:lnTo>
                      <a:pt x="716" y="621"/>
                    </a:lnTo>
                    <a:lnTo>
                      <a:pt x="724" y="619"/>
                    </a:lnTo>
                    <a:lnTo>
                      <a:pt x="731" y="617"/>
                    </a:lnTo>
                    <a:lnTo>
                      <a:pt x="748" y="617"/>
                    </a:lnTo>
                    <a:lnTo>
                      <a:pt x="752" y="619"/>
                    </a:lnTo>
                    <a:lnTo>
                      <a:pt x="761" y="621"/>
                    </a:lnTo>
                    <a:lnTo>
                      <a:pt x="765" y="625"/>
                    </a:lnTo>
                    <a:lnTo>
                      <a:pt x="772" y="627"/>
                    </a:lnTo>
                    <a:lnTo>
                      <a:pt x="780" y="632"/>
                    </a:lnTo>
                    <a:lnTo>
                      <a:pt x="785" y="638"/>
                    </a:lnTo>
                    <a:lnTo>
                      <a:pt x="787" y="645"/>
                    </a:lnTo>
                    <a:lnTo>
                      <a:pt x="793" y="651"/>
                    </a:lnTo>
                    <a:lnTo>
                      <a:pt x="795" y="658"/>
                    </a:lnTo>
                    <a:lnTo>
                      <a:pt x="795" y="664"/>
                    </a:lnTo>
                    <a:lnTo>
                      <a:pt x="800" y="673"/>
                    </a:lnTo>
                    <a:lnTo>
                      <a:pt x="800" y="688"/>
                    </a:lnTo>
                    <a:lnTo>
                      <a:pt x="798" y="699"/>
                    </a:lnTo>
                    <a:lnTo>
                      <a:pt x="772" y="819"/>
                    </a:lnTo>
                    <a:lnTo>
                      <a:pt x="647" y="815"/>
                    </a:lnTo>
                    <a:lnTo>
                      <a:pt x="550" y="815"/>
                    </a:lnTo>
                    <a:lnTo>
                      <a:pt x="524" y="817"/>
                    </a:lnTo>
                    <a:lnTo>
                      <a:pt x="513" y="819"/>
                    </a:lnTo>
                    <a:lnTo>
                      <a:pt x="500" y="828"/>
                    </a:lnTo>
                    <a:lnTo>
                      <a:pt x="491" y="834"/>
                    </a:lnTo>
                    <a:lnTo>
                      <a:pt x="487" y="843"/>
                    </a:lnTo>
                    <a:lnTo>
                      <a:pt x="481" y="852"/>
                    </a:lnTo>
                    <a:lnTo>
                      <a:pt x="476" y="858"/>
                    </a:lnTo>
                    <a:lnTo>
                      <a:pt x="474" y="867"/>
                    </a:lnTo>
                    <a:lnTo>
                      <a:pt x="472" y="877"/>
                    </a:lnTo>
                    <a:lnTo>
                      <a:pt x="472" y="888"/>
                    </a:lnTo>
                    <a:lnTo>
                      <a:pt x="476" y="899"/>
                    </a:lnTo>
                    <a:lnTo>
                      <a:pt x="476" y="908"/>
                    </a:lnTo>
                    <a:lnTo>
                      <a:pt x="481" y="916"/>
                    </a:lnTo>
                    <a:lnTo>
                      <a:pt x="485" y="925"/>
                    </a:lnTo>
                    <a:lnTo>
                      <a:pt x="491" y="949"/>
                    </a:lnTo>
                    <a:lnTo>
                      <a:pt x="491" y="996"/>
                    </a:lnTo>
                    <a:lnTo>
                      <a:pt x="489" y="1005"/>
                    </a:lnTo>
                    <a:lnTo>
                      <a:pt x="485" y="1013"/>
                    </a:lnTo>
                    <a:lnTo>
                      <a:pt x="478" y="1020"/>
                    </a:lnTo>
                    <a:lnTo>
                      <a:pt x="470" y="1031"/>
                    </a:lnTo>
                    <a:lnTo>
                      <a:pt x="457" y="1037"/>
                    </a:lnTo>
                    <a:lnTo>
                      <a:pt x="448" y="1044"/>
                    </a:lnTo>
                    <a:lnTo>
                      <a:pt x="433" y="1046"/>
                    </a:lnTo>
                    <a:lnTo>
                      <a:pt x="422" y="1050"/>
                    </a:lnTo>
                    <a:lnTo>
                      <a:pt x="409" y="1050"/>
                    </a:lnTo>
                    <a:lnTo>
                      <a:pt x="396" y="1052"/>
                    </a:lnTo>
                    <a:lnTo>
                      <a:pt x="375" y="1052"/>
                    </a:lnTo>
                    <a:lnTo>
                      <a:pt x="362" y="1050"/>
                    </a:lnTo>
                    <a:lnTo>
                      <a:pt x="349" y="1046"/>
                    </a:lnTo>
                    <a:lnTo>
                      <a:pt x="336" y="1044"/>
                    </a:lnTo>
                    <a:lnTo>
                      <a:pt x="325" y="1037"/>
                    </a:lnTo>
                    <a:lnTo>
                      <a:pt x="312" y="1031"/>
                    </a:lnTo>
                    <a:lnTo>
                      <a:pt x="304" y="1024"/>
                    </a:lnTo>
                    <a:lnTo>
                      <a:pt x="297" y="1015"/>
                    </a:lnTo>
                    <a:lnTo>
                      <a:pt x="291" y="1005"/>
                    </a:lnTo>
                    <a:lnTo>
                      <a:pt x="286" y="996"/>
                    </a:lnTo>
                    <a:lnTo>
                      <a:pt x="282" y="985"/>
                    </a:lnTo>
                    <a:lnTo>
                      <a:pt x="278" y="975"/>
                    </a:lnTo>
                    <a:lnTo>
                      <a:pt x="278" y="955"/>
                    </a:lnTo>
                    <a:lnTo>
                      <a:pt x="282" y="944"/>
                    </a:lnTo>
                    <a:lnTo>
                      <a:pt x="286" y="931"/>
                    </a:lnTo>
                    <a:lnTo>
                      <a:pt x="293" y="916"/>
                    </a:lnTo>
                    <a:lnTo>
                      <a:pt x="297" y="901"/>
                    </a:lnTo>
                    <a:lnTo>
                      <a:pt x="299" y="888"/>
                    </a:lnTo>
                    <a:lnTo>
                      <a:pt x="299" y="871"/>
                    </a:lnTo>
                    <a:lnTo>
                      <a:pt x="299" y="862"/>
                    </a:lnTo>
                    <a:lnTo>
                      <a:pt x="297" y="854"/>
                    </a:lnTo>
                    <a:lnTo>
                      <a:pt x="295" y="849"/>
                    </a:lnTo>
                    <a:lnTo>
                      <a:pt x="293" y="841"/>
                    </a:lnTo>
                    <a:lnTo>
                      <a:pt x="286" y="834"/>
                    </a:lnTo>
                    <a:lnTo>
                      <a:pt x="284" y="828"/>
                    </a:lnTo>
                    <a:lnTo>
                      <a:pt x="267" y="811"/>
                    </a:lnTo>
                    <a:lnTo>
                      <a:pt x="261" y="806"/>
                    </a:lnTo>
                    <a:lnTo>
                      <a:pt x="252" y="804"/>
                    </a:lnTo>
                    <a:lnTo>
                      <a:pt x="241" y="800"/>
                    </a:lnTo>
                    <a:lnTo>
                      <a:pt x="233" y="796"/>
                    </a:lnTo>
                    <a:lnTo>
                      <a:pt x="220" y="793"/>
                    </a:lnTo>
                    <a:lnTo>
                      <a:pt x="211" y="791"/>
                    </a:lnTo>
                    <a:lnTo>
                      <a:pt x="198" y="789"/>
                    </a:lnTo>
                    <a:lnTo>
                      <a:pt x="187" y="789"/>
                    </a:lnTo>
                    <a:lnTo>
                      <a:pt x="181" y="787"/>
                    </a:lnTo>
                    <a:lnTo>
                      <a:pt x="151" y="787"/>
                    </a:lnTo>
                    <a:lnTo>
                      <a:pt x="118" y="789"/>
                    </a:lnTo>
                    <a:lnTo>
                      <a:pt x="86" y="789"/>
                    </a:lnTo>
                    <a:lnTo>
                      <a:pt x="54" y="793"/>
                    </a:lnTo>
                    <a:lnTo>
                      <a:pt x="26" y="793"/>
                    </a:lnTo>
                    <a:lnTo>
                      <a:pt x="10" y="688"/>
                    </a:lnTo>
                    <a:lnTo>
                      <a:pt x="10" y="673"/>
                    </a:lnTo>
                    <a:lnTo>
                      <a:pt x="13" y="664"/>
                    </a:lnTo>
                    <a:lnTo>
                      <a:pt x="15" y="660"/>
                    </a:lnTo>
                    <a:lnTo>
                      <a:pt x="15" y="653"/>
                    </a:lnTo>
                    <a:lnTo>
                      <a:pt x="19" y="649"/>
                    </a:lnTo>
                    <a:lnTo>
                      <a:pt x="23" y="640"/>
                    </a:lnTo>
                    <a:lnTo>
                      <a:pt x="34" y="630"/>
                    </a:lnTo>
                    <a:lnTo>
                      <a:pt x="38" y="627"/>
                    </a:lnTo>
                    <a:lnTo>
                      <a:pt x="47" y="623"/>
                    </a:lnTo>
                    <a:lnTo>
                      <a:pt x="54" y="621"/>
                    </a:lnTo>
                    <a:lnTo>
                      <a:pt x="60" y="619"/>
                    </a:lnTo>
                    <a:lnTo>
                      <a:pt x="67" y="617"/>
                    </a:lnTo>
                    <a:lnTo>
                      <a:pt x="79" y="619"/>
                    </a:lnTo>
                    <a:lnTo>
                      <a:pt x="86" y="619"/>
                    </a:lnTo>
                    <a:lnTo>
                      <a:pt x="177" y="625"/>
                    </a:lnTo>
                    <a:lnTo>
                      <a:pt x="187" y="623"/>
                    </a:lnTo>
                    <a:lnTo>
                      <a:pt x="194" y="621"/>
                    </a:lnTo>
                    <a:lnTo>
                      <a:pt x="205" y="617"/>
                    </a:lnTo>
                    <a:lnTo>
                      <a:pt x="211" y="612"/>
                    </a:lnTo>
                    <a:lnTo>
                      <a:pt x="220" y="604"/>
                    </a:lnTo>
                    <a:lnTo>
                      <a:pt x="224" y="602"/>
                    </a:lnTo>
                    <a:lnTo>
                      <a:pt x="230" y="591"/>
                    </a:lnTo>
                    <a:lnTo>
                      <a:pt x="237" y="580"/>
                    </a:lnTo>
                    <a:lnTo>
                      <a:pt x="239" y="569"/>
                    </a:lnTo>
                    <a:lnTo>
                      <a:pt x="246" y="554"/>
                    </a:lnTo>
                    <a:lnTo>
                      <a:pt x="250" y="489"/>
                    </a:lnTo>
                    <a:lnTo>
                      <a:pt x="246" y="481"/>
                    </a:lnTo>
                    <a:lnTo>
                      <a:pt x="241" y="472"/>
                    </a:lnTo>
                    <a:lnTo>
                      <a:pt x="237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89040" y="3051000"/>
                <a:ext cx="1298520" cy="1670400"/>
              </a:xfrm>
              <a:custGeom>
                <a:avLst/>
                <a:gdLst/>
                <a:ahLst/>
                <a:rect l="l" t="t" r="r" b="b"/>
                <a:pathLst>
                  <a:path w="818" h="1052">
                    <a:moveTo>
                      <a:pt x="237" y="466"/>
                    </a:moveTo>
                    <a:lnTo>
                      <a:pt x="231" y="462"/>
                    </a:lnTo>
                    <a:lnTo>
                      <a:pt x="227" y="455"/>
                    </a:lnTo>
                    <a:lnTo>
                      <a:pt x="220" y="451"/>
                    </a:lnTo>
                    <a:lnTo>
                      <a:pt x="212" y="446"/>
                    </a:lnTo>
                    <a:lnTo>
                      <a:pt x="203" y="444"/>
                    </a:lnTo>
                    <a:lnTo>
                      <a:pt x="194" y="442"/>
                    </a:lnTo>
                    <a:lnTo>
                      <a:pt x="192" y="442"/>
                    </a:lnTo>
                    <a:lnTo>
                      <a:pt x="173" y="444"/>
                    </a:lnTo>
                    <a:lnTo>
                      <a:pt x="153" y="451"/>
                    </a:lnTo>
                    <a:lnTo>
                      <a:pt x="136" y="455"/>
                    </a:lnTo>
                    <a:lnTo>
                      <a:pt x="121" y="464"/>
                    </a:lnTo>
                    <a:lnTo>
                      <a:pt x="108" y="466"/>
                    </a:lnTo>
                    <a:lnTo>
                      <a:pt x="106" y="468"/>
                    </a:lnTo>
                    <a:lnTo>
                      <a:pt x="95" y="470"/>
                    </a:lnTo>
                    <a:lnTo>
                      <a:pt x="86" y="472"/>
                    </a:lnTo>
                    <a:lnTo>
                      <a:pt x="63" y="472"/>
                    </a:lnTo>
                    <a:lnTo>
                      <a:pt x="50" y="468"/>
                    </a:lnTo>
                    <a:lnTo>
                      <a:pt x="45" y="466"/>
                    </a:lnTo>
                    <a:lnTo>
                      <a:pt x="33" y="462"/>
                    </a:lnTo>
                    <a:lnTo>
                      <a:pt x="26" y="453"/>
                    </a:lnTo>
                    <a:lnTo>
                      <a:pt x="17" y="444"/>
                    </a:lnTo>
                    <a:lnTo>
                      <a:pt x="13" y="438"/>
                    </a:lnTo>
                    <a:lnTo>
                      <a:pt x="7" y="427"/>
                    </a:lnTo>
                    <a:lnTo>
                      <a:pt x="2" y="416"/>
                    </a:lnTo>
                    <a:lnTo>
                      <a:pt x="2" y="405"/>
                    </a:lnTo>
                    <a:lnTo>
                      <a:pt x="0" y="397"/>
                    </a:lnTo>
                    <a:lnTo>
                      <a:pt x="0" y="384"/>
                    </a:lnTo>
                    <a:lnTo>
                      <a:pt x="22" y="181"/>
                    </a:lnTo>
                    <a:lnTo>
                      <a:pt x="216" y="220"/>
                    </a:lnTo>
                    <a:lnTo>
                      <a:pt x="227" y="222"/>
                    </a:lnTo>
                    <a:lnTo>
                      <a:pt x="283" y="222"/>
                    </a:lnTo>
                    <a:lnTo>
                      <a:pt x="287" y="220"/>
                    </a:lnTo>
                    <a:lnTo>
                      <a:pt x="296" y="216"/>
                    </a:lnTo>
                    <a:lnTo>
                      <a:pt x="302" y="211"/>
                    </a:lnTo>
                    <a:lnTo>
                      <a:pt x="309" y="205"/>
                    </a:lnTo>
                    <a:lnTo>
                      <a:pt x="311" y="205"/>
                    </a:lnTo>
                    <a:lnTo>
                      <a:pt x="317" y="196"/>
                    </a:lnTo>
                    <a:lnTo>
                      <a:pt x="321" y="190"/>
                    </a:lnTo>
                    <a:lnTo>
                      <a:pt x="328" y="181"/>
                    </a:lnTo>
                    <a:lnTo>
                      <a:pt x="330" y="175"/>
                    </a:lnTo>
                    <a:lnTo>
                      <a:pt x="332" y="168"/>
                    </a:lnTo>
                    <a:lnTo>
                      <a:pt x="334" y="158"/>
                    </a:lnTo>
                    <a:lnTo>
                      <a:pt x="334" y="140"/>
                    </a:lnTo>
                    <a:lnTo>
                      <a:pt x="332" y="132"/>
                    </a:lnTo>
                    <a:lnTo>
                      <a:pt x="330" y="123"/>
                    </a:lnTo>
                    <a:lnTo>
                      <a:pt x="328" y="114"/>
                    </a:lnTo>
                    <a:lnTo>
                      <a:pt x="326" y="108"/>
                    </a:lnTo>
                    <a:lnTo>
                      <a:pt x="321" y="97"/>
                    </a:lnTo>
                    <a:lnTo>
                      <a:pt x="321" y="78"/>
                    </a:lnTo>
                    <a:lnTo>
                      <a:pt x="326" y="69"/>
                    </a:lnTo>
                    <a:lnTo>
                      <a:pt x="328" y="61"/>
                    </a:lnTo>
                    <a:lnTo>
                      <a:pt x="330" y="50"/>
                    </a:lnTo>
                    <a:lnTo>
                      <a:pt x="337" y="43"/>
                    </a:lnTo>
                    <a:lnTo>
                      <a:pt x="343" y="39"/>
                    </a:lnTo>
                    <a:lnTo>
                      <a:pt x="345" y="28"/>
                    </a:lnTo>
                    <a:lnTo>
                      <a:pt x="354" y="24"/>
                    </a:lnTo>
                    <a:lnTo>
                      <a:pt x="362" y="17"/>
                    </a:lnTo>
                    <a:lnTo>
                      <a:pt x="369" y="13"/>
                    </a:lnTo>
                    <a:lnTo>
                      <a:pt x="380" y="9"/>
                    </a:lnTo>
                    <a:lnTo>
                      <a:pt x="388" y="4"/>
                    </a:lnTo>
                    <a:lnTo>
                      <a:pt x="399" y="2"/>
                    </a:lnTo>
                    <a:lnTo>
                      <a:pt x="410" y="2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53" y="2"/>
                    </a:lnTo>
                    <a:lnTo>
                      <a:pt x="464" y="4"/>
                    </a:lnTo>
                    <a:lnTo>
                      <a:pt x="475" y="9"/>
                    </a:lnTo>
                    <a:lnTo>
                      <a:pt x="483" y="13"/>
                    </a:lnTo>
                    <a:lnTo>
                      <a:pt x="488" y="15"/>
                    </a:lnTo>
                    <a:lnTo>
                      <a:pt x="496" y="20"/>
                    </a:lnTo>
                    <a:lnTo>
                      <a:pt x="500" y="26"/>
                    </a:lnTo>
                    <a:lnTo>
                      <a:pt x="509" y="32"/>
                    </a:lnTo>
                    <a:lnTo>
                      <a:pt x="511" y="39"/>
                    </a:lnTo>
                    <a:lnTo>
                      <a:pt x="518" y="45"/>
                    </a:lnTo>
                    <a:lnTo>
                      <a:pt x="520" y="50"/>
                    </a:lnTo>
                    <a:lnTo>
                      <a:pt x="522" y="56"/>
                    </a:lnTo>
                    <a:lnTo>
                      <a:pt x="526" y="69"/>
                    </a:lnTo>
                    <a:lnTo>
                      <a:pt x="526" y="97"/>
                    </a:lnTo>
                    <a:lnTo>
                      <a:pt x="524" y="110"/>
                    </a:lnTo>
                    <a:lnTo>
                      <a:pt x="520" y="123"/>
                    </a:lnTo>
                    <a:lnTo>
                      <a:pt x="513" y="136"/>
                    </a:lnTo>
                    <a:lnTo>
                      <a:pt x="511" y="151"/>
                    </a:lnTo>
                    <a:lnTo>
                      <a:pt x="509" y="164"/>
                    </a:lnTo>
                    <a:lnTo>
                      <a:pt x="509" y="179"/>
                    </a:lnTo>
                    <a:lnTo>
                      <a:pt x="511" y="186"/>
                    </a:lnTo>
                    <a:lnTo>
                      <a:pt x="513" y="192"/>
                    </a:lnTo>
                    <a:lnTo>
                      <a:pt x="520" y="201"/>
                    </a:lnTo>
                    <a:lnTo>
                      <a:pt x="524" y="205"/>
                    </a:lnTo>
                    <a:lnTo>
                      <a:pt x="529" y="214"/>
                    </a:lnTo>
                    <a:lnTo>
                      <a:pt x="535" y="216"/>
                    </a:lnTo>
                    <a:lnTo>
                      <a:pt x="544" y="222"/>
                    </a:lnTo>
                    <a:lnTo>
                      <a:pt x="550" y="222"/>
                    </a:lnTo>
                    <a:lnTo>
                      <a:pt x="554" y="227"/>
                    </a:lnTo>
                    <a:lnTo>
                      <a:pt x="600" y="227"/>
                    </a:lnTo>
                    <a:lnTo>
                      <a:pt x="619" y="222"/>
                    </a:lnTo>
                    <a:lnTo>
                      <a:pt x="785" y="201"/>
                    </a:lnTo>
                    <a:lnTo>
                      <a:pt x="818" y="343"/>
                    </a:lnTo>
                    <a:lnTo>
                      <a:pt x="818" y="358"/>
                    </a:lnTo>
                    <a:lnTo>
                      <a:pt x="818" y="375"/>
                    </a:lnTo>
                    <a:lnTo>
                      <a:pt x="813" y="393"/>
                    </a:lnTo>
                    <a:lnTo>
                      <a:pt x="802" y="412"/>
                    </a:lnTo>
                    <a:lnTo>
                      <a:pt x="783" y="427"/>
                    </a:lnTo>
                    <a:lnTo>
                      <a:pt x="755" y="436"/>
                    </a:lnTo>
                    <a:lnTo>
                      <a:pt x="714" y="438"/>
                    </a:lnTo>
                    <a:lnTo>
                      <a:pt x="660" y="429"/>
                    </a:lnTo>
                    <a:lnTo>
                      <a:pt x="641" y="429"/>
                    </a:lnTo>
                    <a:lnTo>
                      <a:pt x="632" y="431"/>
                    </a:lnTo>
                    <a:lnTo>
                      <a:pt x="626" y="440"/>
                    </a:lnTo>
                    <a:lnTo>
                      <a:pt x="615" y="453"/>
                    </a:lnTo>
                    <a:lnTo>
                      <a:pt x="606" y="468"/>
                    </a:lnTo>
                    <a:lnTo>
                      <a:pt x="602" y="487"/>
                    </a:lnTo>
                    <a:lnTo>
                      <a:pt x="598" y="507"/>
                    </a:lnTo>
                    <a:lnTo>
                      <a:pt x="595" y="535"/>
                    </a:lnTo>
                    <a:lnTo>
                      <a:pt x="600" y="559"/>
                    </a:lnTo>
                    <a:lnTo>
                      <a:pt x="602" y="576"/>
                    </a:lnTo>
                    <a:lnTo>
                      <a:pt x="606" y="593"/>
                    </a:lnTo>
                    <a:lnTo>
                      <a:pt x="615" y="606"/>
                    </a:lnTo>
                    <a:lnTo>
                      <a:pt x="621" y="617"/>
                    </a:lnTo>
                    <a:lnTo>
                      <a:pt x="632" y="628"/>
                    </a:lnTo>
                    <a:lnTo>
                      <a:pt x="662" y="645"/>
                    </a:lnTo>
                    <a:lnTo>
                      <a:pt x="684" y="636"/>
                    </a:lnTo>
                    <a:lnTo>
                      <a:pt x="695" y="632"/>
                    </a:lnTo>
                    <a:lnTo>
                      <a:pt x="701" y="630"/>
                    </a:lnTo>
                    <a:lnTo>
                      <a:pt x="712" y="623"/>
                    </a:lnTo>
                    <a:lnTo>
                      <a:pt x="716" y="621"/>
                    </a:lnTo>
                    <a:lnTo>
                      <a:pt x="723" y="621"/>
                    </a:lnTo>
                    <a:lnTo>
                      <a:pt x="731" y="619"/>
                    </a:lnTo>
                    <a:lnTo>
                      <a:pt x="746" y="619"/>
                    </a:lnTo>
                    <a:lnTo>
                      <a:pt x="753" y="621"/>
                    </a:lnTo>
                    <a:lnTo>
                      <a:pt x="761" y="621"/>
                    </a:lnTo>
                    <a:lnTo>
                      <a:pt x="766" y="625"/>
                    </a:lnTo>
                    <a:lnTo>
                      <a:pt x="772" y="630"/>
                    </a:lnTo>
                    <a:lnTo>
                      <a:pt x="781" y="632"/>
                    </a:lnTo>
                    <a:lnTo>
                      <a:pt x="783" y="638"/>
                    </a:lnTo>
                    <a:lnTo>
                      <a:pt x="787" y="645"/>
                    </a:lnTo>
                    <a:lnTo>
                      <a:pt x="794" y="653"/>
                    </a:lnTo>
                    <a:lnTo>
                      <a:pt x="796" y="658"/>
                    </a:lnTo>
                    <a:lnTo>
                      <a:pt x="796" y="664"/>
                    </a:lnTo>
                    <a:lnTo>
                      <a:pt x="798" y="675"/>
                    </a:lnTo>
                    <a:lnTo>
                      <a:pt x="798" y="688"/>
                    </a:lnTo>
                    <a:lnTo>
                      <a:pt x="798" y="699"/>
                    </a:lnTo>
                    <a:lnTo>
                      <a:pt x="772" y="819"/>
                    </a:lnTo>
                    <a:lnTo>
                      <a:pt x="647" y="815"/>
                    </a:lnTo>
                    <a:lnTo>
                      <a:pt x="550" y="815"/>
                    </a:lnTo>
                    <a:lnTo>
                      <a:pt x="522" y="819"/>
                    </a:lnTo>
                    <a:lnTo>
                      <a:pt x="511" y="819"/>
                    </a:lnTo>
                    <a:lnTo>
                      <a:pt x="500" y="828"/>
                    </a:lnTo>
                    <a:lnTo>
                      <a:pt x="492" y="835"/>
                    </a:lnTo>
                    <a:lnTo>
                      <a:pt x="485" y="843"/>
                    </a:lnTo>
                    <a:lnTo>
                      <a:pt x="481" y="852"/>
                    </a:lnTo>
                    <a:lnTo>
                      <a:pt x="477" y="858"/>
                    </a:lnTo>
                    <a:lnTo>
                      <a:pt x="475" y="869"/>
                    </a:lnTo>
                    <a:lnTo>
                      <a:pt x="472" y="880"/>
                    </a:lnTo>
                    <a:lnTo>
                      <a:pt x="472" y="891"/>
                    </a:lnTo>
                    <a:lnTo>
                      <a:pt x="477" y="899"/>
                    </a:lnTo>
                    <a:lnTo>
                      <a:pt x="477" y="910"/>
                    </a:lnTo>
                    <a:lnTo>
                      <a:pt x="481" y="916"/>
                    </a:lnTo>
                    <a:lnTo>
                      <a:pt x="483" y="925"/>
                    </a:lnTo>
                    <a:lnTo>
                      <a:pt x="492" y="951"/>
                    </a:lnTo>
                    <a:lnTo>
                      <a:pt x="492" y="996"/>
                    </a:lnTo>
                    <a:lnTo>
                      <a:pt x="488" y="1007"/>
                    </a:lnTo>
                    <a:lnTo>
                      <a:pt x="483" y="1013"/>
                    </a:lnTo>
                    <a:lnTo>
                      <a:pt x="479" y="1022"/>
                    </a:lnTo>
                    <a:lnTo>
                      <a:pt x="468" y="1031"/>
                    </a:lnTo>
                    <a:lnTo>
                      <a:pt x="457" y="1037"/>
                    </a:lnTo>
                    <a:lnTo>
                      <a:pt x="447" y="1044"/>
                    </a:lnTo>
                    <a:lnTo>
                      <a:pt x="434" y="1046"/>
                    </a:lnTo>
                    <a:lnTo>
                      <a:pt x="423" y="1052"/>
                    </a:lnTo>
                    <a:lnTo>
                      <a:pt x="408" y="1052"/>
                    </a:lnTo>
                    <a:lnTo>
                      <a:pt x="397" y="1052"/>
                    </a:lnTo>
                    <a:lnTo>
                      <a:pt x="375" y="1052"/>
                    </a:lnTo>
                    <a:lnTo>
                      <a:pt x="362" y="1052"/>
                    </a:lnTo>
                    <a:lnTo>
                      <a:pt x="350" y="1046"/>
                    </a:lnTo>
                    <a:lnTo>
                      <a:pt x="337" y="1046"/>
                    </a:lnTo>
                    <a:lnTo>
                      <a:pt x="326" y="1039"/>
                    </a:lnTo>
                    <a:lnTo>
                      <a:pt x="313" y="1031"/>
                    </a:lnTo>
                    <a:lnTo>
                      <a:pt x="304" y="1024"/>
                    </a:lnTo>
                    <a:lnTo>
                      <a:pt x="298" y="1016"/>
                    </a:lnTo>
                    <a:lnTo>
                      <a:pt x="289" y="1007"/>
                    </a:lnTo>
                    <a:lnTo>
                      <a:pt x="287" y="998"/>
                    </a:lnTo>
                    <a:lnTo>
                      <a:pt x="283" y="985"/>
                    </a:lnTo>
                    <a:lnTo>
                      <a:pt x="278" y="975"/>
                    </a:lnTo>
                    <a:lnTo>
                      <a:pt x="278" y="955"/>
                    </a:lnTo>
                    <a:lnTo>
                      <a:pt x="283" y="947"/>
                    </a:lnTo>
                    <a:lnTo>
                      <a:pt x="287" y="932"/>
                    </a:lnTo>
                    <a:lnTo>
                      <a:pt x="291" y="916"/>
                    </a:lnTo>
                    <a:lnTo>
                      <a:pt x="298" y="903"/>
                    </a:lnTo>
                    <a:lnTo>
                      <a:pt x="298" y="888"/>
                    </a:lnTo>
                    <a:lnTo>
                      <a:pt x="300" y="873"/>
                    </a:lnTo>
                    <a:lnTo>
                      <a:pt x="300" y="863"/>
                    </a:lnTo>
                    <a:lnTo>
                      <a:pt x="298" y="856"/>
                    </a:lnTo>
                    <a:lnTo>
                      <a:pt x="296" y="850"/>
                    </a:lnTo>
                    <a:lnTo>
                      <a:pt x="291" y="841"/>
                    </a:lnTo>
                    <a:lnTo>
                      <a:pt x="287" y="835"/>
                    </a:lnTo>
                    <a:lnTo>
                      <a:pt x="285" y="830"/>
                    </a:lnTo>
                    <a:lnTo>
                      <a:pt x="268" y="813"/>
                    </a:lnTo>
                    <a:lnTo>
                      <a:pt x="261" y="809"/>
                    </a:lnTo>
                    <a:lnTo>
                      <a:pt x="252" y="804"/>
                    </a:lnTo>
                    <a:lnTo>
                      <a:pt x="242" y="800"/>
                    </a:lnTo>
                    <a:lnTo>
                      <a:pt x="231" y="798"/>
                    </a:lnTo>
                    <a:lnTo>
                      <a:pt x="220" y="794"/>
                    </a:lnTo>
                    <a:lnTo>
                      <a:pt x="209" y="791"/>
                    </a:lnTo>
                    <a:lnTo>
                      <a:pt x="199" y="791"/>
                    </a:lnTo>
                    <a:lnTo>
                      <a:pt x="186" y="791"/>
                    </a:lnTo>
                    <a:lnTo>
                      <a:pt x="181" y="789"/>
                    </a:lnTo>
                    <a:lnTo>
                      <a:pt x="151" y="789"/>
                    </a:lnTo>
                    <a:lnTo>
                      <a:pt x="119" y="791"/>
                    </a:lnTo>
                    <a:lnTo>
                      <a:pt x="86" y="791"/>
                    </a:lnTo>
                    <a:lnTo>
                      <a:pt x="52" y="794"/>
                    </a:lnTo>
                    <a:lnTo>
                      <a:pt x="26" y="796"/>
                    </a:lnTo>
                    <a:lnTo>
                      <a:pt x="9" y="688"/>
                    </a:lnTo>
                    <a:lnTo>
                      <a:pt x="9" y="675"/>
                    </a:lnTo>
                    <a:lnTo>
                      <a:pt x="13" y="666"/>
                    </a:lnTo>
                    <a:lnTo>
                      <a:pt x="13" y="660"/>
                    </a:lnTo>
                    <a:lnTo>
                      <a:pt x="15" y="656"/>
                    </a:lnTo>
                    <a:lnTo>
                      <a:pt x="20" y="649"/>
                    </a:lnTo>
                    <a:lnTo>
                      <a:pt x="24" y="643"/>
                    </a:lnTo>
                    <a:lnTo>
                      <a:pt x="35" y="630"/>
                    </a:lnTo>
                    <a:lnTo>
                      <a:pt x="39" y="628"/>
                    </a:lnTo>
                    <a:lnTo>
                      <a:pt x="48" y="623"/>
                    </a:lnTo>
                    <a:lnTo>
                      <a:pt x="52" y="621"/>
                    </a:lnTo>
                    <a:lnTo>
                      <a:pt x="61" y="621"/>
                    </a:lnTo>
                    <a:lnTo>
                      <a:pt x="67" y="619"/>
                    </a:lnTo>
                    <a:lnTo>
                      <a:pt x="80" y="621"/>
                    </a:lnTo>
                    <a:lnTo>
                      <a:pt x="86" y="621"/>
                    </a:lnTo>
                    <a:lnTo>
                      <a:pt x="177" y="625"/>
                    </a:lnTo>
                    <a:lnTo>
                      <a:pt x="186" y="623"/>
                    </a:lnTo>
                    <a:lnTo>
                      <a:pt x="194" y="621"/>
                    </a:lnTo>
                    <a:lnTo>
                      <a:pt x="203" y="617"/>
                    </a:lnTo>
                    <a:lnTo>
                      <a:pt x="212" y="612"/>
                    </a:lnTo>
                    <a:lnTo>
                      <a:pt x="220" y="606"/>
                    </a:lnTo>
                    <a:lnTo>
                      <a:pt x="222" y="602"/>
                    </a:lnTo>
                    <a:lnTo>
                      <a:pt x="229" y="593"/>
                    </a:lnTo>
                    <a:lnTo>
                      <a:pt x="237" y="580"/>
                    </a:lnTo>
                    <a:lnTo>
                      <a:pt x="240" y="569"/>
                    </a:lnTo>
                    <a:lnTo>
                      <a:pt x="246" y="554"/>
                    </a:lnTo>
                    <a:lnTo>
                      <a:pt x="248" y="492"/>
                    </a:lnTo>
                    <a:lnTo>
                      <a:pt x="246" y="481"/>
                    </a:lnTo>
                    <a:lnTo>
                      <a:pt x="242" y="474"/>
                    </a:lnTo>
                    <a:lnTo>
                      <a:pt x="237" y="466"/>
                    </a:lnTo>
                    <a:close/>
                  </a:path>
                </a:pathLst>
              </a:custGeom>
              <a:solidFill>
                <a:srgbClr val="c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flipV="1">
                <a:off x="1055160" y="3784320"/>
                <a:ext cx="97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flipV="1">
                <a:off x="1049040" y="3773160"/>
                <a:ext cx="61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 flipV="1">
                <a:off x="1037880" y="3767040"/>
                <a:ext cx="111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1025280" y="375912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 flipV="1">
                <a:off x="1011240" y="37555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 flipV="1">
                <a:off x="996840" y="3753000"/>
                <a:ext cx="14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993240" y="3753000"/>
                <a:ext cx="3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963360" y="3753000"/>
                <a:ext cx="29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932040" y="3755880"/>
                <a:ext cx="316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904680" y="3767040"/>
                <a:ext cx="270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880560" y="3773520"/>
                <a:ext cx="24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860040" y="3787920"/>
                <a:ext cx="2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856800" y="379080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839880" y="3794040"/>
                <a:ext cx="17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825480" y="379728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788760" y="380052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flipV="1">
                <a:off x="768240" y="3794040"/>
                <a:ext cx="208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760320" y="379044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flipV="1">
                <a:off x="740880" y="3784320"/>
                <a:ext cx="190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flipV="1">
                <a:off x="729720" y="377028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 flipV="1">
                <a:off x="715680" y="3755880"/>
                <a:ext cx="140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flipV="1">
                <a:off x="709560" y="374652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flipV="1">
                <a:off x="700200" y="3728520"/>
                <a:ext cx="936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692280" y="3711600"/>
                <a:ext cx="792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692280" y="36936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 flipV="1">
                <a:off x="688680" y="36810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689040" y="36604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689040" y="3338280"/>
                <a:ext cx="34920" cy="32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23960" y="3338640"/>
                <a:ext cx="3078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031760" y="3400560"/>
                <a:ext cx="17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049400" y="3403440"/>
                <a:ext cx="88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1138320" y="3400560"/>
                <a:ext cx="61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144440" y="339408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158840" y="3386160"/>
                <a:ext cx="97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1168560" y="3376080"/>
                <a:ext cx="1080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179360" y="3376440"/>
                <a:ext cx="32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1182600" y="3362040"/>
                <a:ext cx="97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1192320" y="3352320"/>
                <a:ext cx="612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1198440" y="3338280"/>
                <a:ext cx="111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1209600" y="332856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1212840" y="331740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1216080" y="3301920"/>
                <a:ext cx="32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1219320" y="327312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 flipV="1">
                <a:off x="1215720" y="326052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1212480" y="32464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 flipV="1">
                <a:off x="1209240" y="32320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1206000" y="322272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1198440" y="3204720"/>
                <a:ext cx="792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1198440" y="317484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1198440" y="3160440"/>
                <a:ext cx="79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1206360" y="314784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1209600" y="313056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1212840" y="3119040"/>
                <a:ext cx="111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1224000" y="311292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1233360" y="309564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1236600" y="308916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1251000" y="3077640"/>
                <a:ext cx="1260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1263600" y="307152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1274760" y="3065400"/>
                <a:ext cx="176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1292400" y="305748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1305000" y="3053880"/>
                <a:ext cx="17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322280" y="3054240"/>
                <a:ext cx="176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1339920" y="3050640"/>
                <a:ext cx="205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60440" y="3051000"/>
                <a:ext cx="12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73040" y="305100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390680" y="3054240"/>
                <a:ext cx="17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407960" y="305424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425600" y="3057480"/>
                <a:ext cx="172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442880" y="3065400"/>
                <a:ext cx="129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455840" y="307188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463760" y="307512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76360" y="308304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482840" y="3092400"/>
                <a:ext cx="140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496880" y="3102120"/>
                <a:ext cx="324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00120" y="3112920"/>
                <a:ext cx="111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11280" y="312264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14520" y="313056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17760" y="3139920"/>
                <a:ext cx="612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23880" y="3160800"/>
                <a:ext cx="1800" cy="44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1521000" y="3205080"/>
                <a:ext cx="28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514520" y="3225960"/>
                <a:ext cx="64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1503000" y="3246480"/>
                <a:ext cx="1116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1499760" y="326700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1496520" y="3290760"/>
                <a:ext cx="32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96880" y="3311640"/>
                <a:ext cx="180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96880" y="333540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00120" y="334656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503360" y="335592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14520" y="3370320"/>
                <a:ext cx="64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21000" y="3376440"/>
                <a:ext cx="7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528920" y="33908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538280" y="3394080"/>
                <a:ext cx="144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52680" y="34034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562040" y="340344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568520" y="3411360"/>
                <a:ext cx="730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1641600" y="3403440"/>
                <a:ext cx="298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1671480" y="3370320"/>
                <a:ext cx="26352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935000" y="3370320"/>
                <a:ext cx="52560" cy="225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987560" y="3595680"/>
                <a:ext cx="14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987560" y="3619440"/>
                <a:ext cx="144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1979640" y="3646440"/>
                <a:ext cx="7920" cy="28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1961640" y="3675240"/>
                <a:ext cx="17640" cy="29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1931760" y="3705120"/>
                <a:ext cx="2988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1887480" y="3728880"/>
                <a:ext cx="446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1821960" y="3743280"/>
                <a:ext cx="65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 flipV="1">
                <a:off x="1736640" y="3732120"/>
                <a:ext cx="856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1706400" y="3732120"/>
                <a:ext cx="302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1692000" y="373212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1682280" y="3735360"/>
                <a:ext cx="97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1665360" y="3749760"/>
                <a:ext cx="172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1650960" y="3770280"/>
                <a:ext cx="1440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1644480" y="3794040"/>
                <a:ext cx="648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1638000" y="3824280"/>
                <a:ext cx="612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1633320" y="3855960"/>
                <a:ext cx="4680" cy="44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33680" y="3900600"/>
                <a:ext cx="792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41600" y="3938760"/>
                <a:ext cx="2880" cy="26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44480" y="3965400"/>
                <a:ext cx="648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50960" y="3992400"/>
                <a:ext cx="144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65360" y="4013280"/>
                <a:ext cx="936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4720" y="4030560"/>
                <a:ext cx="176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692360" y="4048200"/>
                <a:ext cx="475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1739880" y="4060800"/>
                <a:ext cx="34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1774800" y="4054320"/>
                <a:ext cx="176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792440" y="4051440"/>
                <a:ext cx="93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1801800" y="4039920"/>
                <a:ext cx="176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819440" y="403668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825560" y="403704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V="1">
                <a:off x="1836720" y="403344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849320" y="4033800"/>
                <a:ext cx="237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73080" y="403380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4037040"/>
                <a:ext cx="1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97200" y="403704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905120" y="4043520"/>
                <a:ext cx="93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914480" y="4051440"/>
                <a:ext cx="14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928880" y="405432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932120" y="4064040"/>
                <a:ext cx="61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938240" y="4075200"/>
                <a:ext cx="1116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949400" y="408780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952640" y="4095720"/>
                <a:ext cx="14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52640" y="410544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55880" y="4122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955880" y="414324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1914120" y="4160880"/>
                <a:ext cx="41400" cy="190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1715760" y="4344840"/>
                <a:ext cx="198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1562040" y="4344840"/>
                <a:ext cx="1540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1517400" y="4344840"/>
                <a:ext cx="442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1499760" y="435132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1482840" y="4351320"/>
                <a:ext cx="17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1469880" y="4365720"/>
                <a:ext cx="129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1459080" y="4376880"/>
                <a:ext cx="108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1452600" y="43894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1446120" y="440388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1442520" y="441324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1437840" y="4430880"/>
                <a:ext cx="468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438200" y="444816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438200" y="4465800"/>
                <a:ext cx="792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46120" y="4478400"/>
                <a:ext cx="180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446120" y="449568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452600" y="4505400"/>
                <a:ext cx="32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455840" y="4519440"/>
                <a:ext cx="140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469880" y="4560840"/>
                <a:ext cx="1800" cy="7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1463400" y="4632480"/>
                <a:ext cx="612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455840" y="4649760"/>
                <a:ext cx="792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1449360" y="4659480"/>
                <a:ext cx="648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1432080" y="4673520"/>
                <a:ext cx="17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1414080" y="4687920"/>
                <a:ext cx="176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98600" y="4697280"/>
                <a:ext cx="158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1377720" y="4708440"/>
                <a:ext cx="205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60080" y="4711680"/>
                <a:ext cx="176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1336680" y="4721400"/>
                <a:ext cx="237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1318680" y="472140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1283760" y="4721400"/>
                <a:ext cx="34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263240" y="4721400"/>
                <a:ext cx="20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flipV="1">
                <a:off x="1244160" y="4711320"/>
                <a:ext cx="190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223640" y="4711680"/>
                <a:ext cx="20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flipV="1">
                <a:off x="1206000" y="4700160"/>
                <a:ext cx="176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>
                <a:off x="1185480" y="4687560"/>
                <a:ext cx="2052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 flipV="1">
                <a:off x="1171440" y="4676400"/>
                <a:ext cx="1440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 flipV="1">
                <a:off x="1162080" y="4663800"/>
                <a:ext cx="936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 flipV="1">
                <a:off x="1147680" y="4649760"/>
                <a:ext cx="144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1144080" y="463536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flipV="1">
                <a:off x="1137960" y="4614480"/>
                <a:ext cx="61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1130400" y="4599000"/>
                <a:ext cx="792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1130400" y="4567320"/>
                <a:ext cx="144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1130400" y="4554360"/>
                <a:ext cx="79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1138320" y="4530600"/>
                <a:ext cx="612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1144440" y="4505400"/>
                <a:ext cx="6480" cy="25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1150920" y="4484520"/>
                <a:ext cx="111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1162080" y="4460760"/>
                <a:ext cx="14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1162080" y="443700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1165320" y="4421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1161720" y="440964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 flipV="1">
                <a:off x="1158480" y="440064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 flipV="1">
                <a:off x="1150920" y="4386240"/>
                <a:ext cx="7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>
                <a:off x="1144440" y="437688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flipV="1">
                <a:off x="1141560" y="4368960"/>
                <a:ext cx="28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1114200" y="4341600"/>
                <a:ext cx="2700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flipV="1">
                <a:off x="1103040" y="4335480"/>
                <a:ext cx="111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703440" y="3246120"/>
              <a:ext cx="2614320" cy="1451160"/>
              <a:chOff x="703440" y="3246120"/>
              <a:chExt cx="2614320" cy="1451160"/>
            </a:xfrm>
          </p:grpSpPr>
          <p:sp>
            <p:nvSpPr>
              <p:cNvPr id="1085" name=""/>
              <p:cNvSpPr/>
              <p:nvPr/>
            </p:nvSpPr>
            <p:spPr>
              <a:xfrm flipH="1" flipV="1">
                <a:off x="1089000" y="4327560"/>
                <a:ext cx="144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flipV="1">
                <a:off x="1073160" y="4321080"/>
                <a:ext cx="158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1055160" y="431748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 flipV="1">
                <a:off x="1038240" y="4311360"/>
                <a:ext cx="172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 flipV="1">
                <a:off x="1020240" y="4306680"/>
                <a:ext cx="176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1004760" y="4307040"/>
                <a:ext cx="15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983880" y="4307040"/>
                <a:ext cx="20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 flipV="1">
                <a:off x="976320" y="430344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928800" y="4303800"/>
                <a:ext cx="475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877680" y="4303800"/>
                <a:ext cx="507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825480" y="4307040"/>
                <a:ext cx="52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771480" y="4307040"/>
                <a:ext cx="54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729720" y="4311720"/>
                <a:ext cx="41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 flipV="1">
                <a:off x="703440" y="4142880"/>
                <a:ext cx="26640" cy="171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703440" y="41223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>
                <a:off x="703440" y="4108320"/>
                <a:ext cx="6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>
                <a:off x="709560" y="4098960"/>
                <a:ext cx="18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709560" y="409248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712800" y="4080960"/>
                <a:ext cx="79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720720" y="407196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727200" y="4051080"/>
                <a:ext cx="172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744480" y="4047840"/>
                <a:ext cx="64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750960" y="4040280"/>
                <a:ext cx="140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765000" y="4036680"/>
                <a:ext cx="64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71480" y="4037040"/>
                <a:ext cx="14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785880" y="40334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5240" y="4033800"/>
                <a:ext cx="208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16120" y="403704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25480" y="4037040"/>
                <a:ext cx="144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969840" y="40399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984240" y="40366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996840" y="403056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1011240" y="4022640"/>
                <a:ext cx="144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1025640" y="4013280"/>
                <a:ext cx="126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1038240" y="400680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1041480" y="399240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1052640" y="3971520"/>
                <a:ext cx="126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1065240" y="3954600"/>
                <a:ext cx="468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1069920" y="3930120"/>
                <a:ext cx="972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1079640" y="3831840"/>
                <a:ext cx="2880" cy="98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 flipV="1">
                <a:off x="1079640" y="3814920"/>
                <a:ext cx="288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1073160" y="3803400"/>
                <a:ext cx="64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flipV="1">
                <a:off x="1065240" y="3790800"/>
                <a:ext cx="79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065240" y="379080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819440" y="3308400"/>
                <a:ext cx="1498320" cy="1388880"/>
              </a:xfrm>
              <a:custGeom>
                <a:avLst/>
                <a:gdLst/>
                <a:ahLst/>
                <a:rect l="l" t="t" r="r" b="b"/>
                <a:pathLst>
                  <a:path w="944" h="875">
                    <a:moveTo>
                      <a:pt x="459" y="194"/>
                    </a:moveTo>
                    <a:lnTo>
                      <a:pt x="468" y="164"/>
                    </a:lnTo>
                    <a:lnTo>
                      <a:pt x="474" y="140"/>
                    </a:lnTo>
                    <a:lnTo>
                      <a:pt x="474" y="136"/>
                    </a:lnTo>
                    <a:lnTo>
                      <a:pt x="476" y="127"/>
                    </a:lnTo>
                    <a:lnTo>
                      <a:pt x="479" y="121"/>
                    </a:lnTo>
                    <a:lnTo>
                      <a:pt x="479" y="110"/>
                    </a:lnTo>
                    <a:lnTo>
                      <a:pt x="483" y="99"/>
                    </a:lnTo>
                    <a:lnTo>
                      <a:pt x="483" y="88"/>
                    </a:lnTo>
                    <a:lnTo>
                      <a:pt x="483" y="80"/>
                    </a:lnTo>
                    <a:lnTo>
                      <a:pt x="483" y="69"/>
                    </a:lnTo>
                    <a:lnTo>
                      <a:pt x="483" y="52"/>
                    </a:lnTo>
                    <a:lnTo>
                      <a:pt x="479" y="43"/>
                    </a:lnTo>
                    <a:lnTo>
                      <a:pt x="474" y="34"/>
                    </a:lnTo>
                    <a:lnTo>
                      <a:pt x="466" y="26"/>
                    </a:lnTo>
                    <a:lnTo>
                      <a:pt x="459" y="21"/>
                    </a:lnTo>
                    <a:lnTo>
                      <a:pt x="451" y="13"/>
                    </a:lnTo>
                    <a:lnTo>
                      <a:pt x="442" y="6"/>
                    </a:lnTo>
                    <a:lnTo>
                      <a:pt x="431" y="4"/>
                    </a:lnTo>
                    <a:lnTo>
                      <a:pt x="423" y="0"/>
                    </a:lnTo>
                    <a:lnTo>
                      <a:pt x="414" y="0"/>
                    </a:lnTo>
                    <a:lnTo>
                      <a:pt x="246" y="2"/>
                    </a:lnTo>
                    <a:lnTo>
                      <a:pt x="263" y="144"/>
                    </a:lnTo>
                    <a:lnTo>
                      <a:pt x="263" y="170"/>
                    </a:lnTo>
                    <a:lnTo>
                      <a:pt x="261" y="183"/>
                    </a:lnTo>
                    <a:lnTo>
                      <a:pt x="261" y="187"/>
                    </a:lnTo>
                    <a:lnTo>
                      <a:pt x="261" y="196"/>
                    </a:lnTo>
                    <a:lnTo>
                      <a:pt x="256" y="203"/>
                    </a:lnTo>
                    <a:lnTo>
                      <a:pt x="252" y="213"/>
                    </a:lnTo>
                    <a:lnTo>
                      <a:pt x="248" y="220"/>
                    </a:lnTo>
                    <a:lnTo>
                      <a:pt x="241" y="224"/>
                    </a:lnTo>
                    <a:lnTo>
                      <a:pt x="237" y="233"/>
                    </a:lnTo>
                    <a:lnTo>
                      <a:pt x="228" y="239"/>
                    </a:lnTo>
                    <a:lnTo>
                      <a:pt x="222" y="243"/>
                    </a:lnTo>
                    <a:lnTo>
                      <a:pt x="218" y="248"/>
                    </a:lnTo>
                    <a:lnTo>
                      <a:pt x="211" y="250"/>
                    </a:lnTo>
                    <a:lnTo>
                      <a:pt x="205" y="252"/>
                    </a:lnTo>
                    <a:lnTo>
                      <a:pt x="196" y="254"/>
                    </a:lnTo>
                    <a:lnTo>
                      <a:pt x="190" y="256"/>
                    </a:lnTo>
                    <a:lnTo>
                      <a:pt x="181" y="256"/>
                    </a:lnTo>
                    <a:lnTo>
                      <a:pt x="177" y="254"/>
                    </a:lnTo>
                    <a:lnTo>
                      <a:pt x="166" y="254"/>
                    </a:lnTo>
                    <a:lnTo>
                      <a:pt x="162" y="250"/>
                    </a:lnTo>
                    <a:lnTo>
                      <a:pt x="155" y="248"/>
                    </a:lnTo>
                    <a:lnTo>
                      <a:pt x="149" y="246"/>
                    </a:lnTo>
                    <a:lnTo>
                      <a:pt x="116" y="231"/>
                    </a:lnTo>
                    <a:lnTo>
                      <a:pt x="108" y="228"/>
                    </a:lnTo>
                    <a:lnTo>
                      <a:pt x="101" y="226"/>
                    </a:lnTo>
                    <a:lnTo>
                      <a:pt x="93" y="224"/>
                    </a:lnTo>
                    <a:lnTo>
                      <a:pt x="86" y="224"/>
                    </a:lnTo>
                    <a:lnTo>
                      <a:pt x="80" y="226"/>
                    </a:lnTo>
                    <a:lnTo>
                      <a:pt x="71" y="228"/>
                    </a:lnTo>
                    <a:lnTo>
                      <a:pt x="67" y="231"/>
                    </a:lnTo>
                    <a:lnTo>
                      <a:pt x="60" y="233"/>
                    </a:lnTo>
                    <a:lnTo>
                      <a:pt x="52" y="237"/>
                    </a:lnTo>
                    <a:lnTo>
                      <a:pt x="47" y="239"/>
                    </a:lnTo>
                    <a:lnTo>
                      <a:pt x="41" y="241"/>
                    </a:lnTo>
                    <a:lnTo>
                      <a:pt x="37" y="246"/>
                    </a:lnTo>
                    <a:lnTo>
                      <a:pt x="32" y="250"/>
                    </a:lnTo>
                    <a:lnTo>
                      <a:pt x="26" y="259"/>
                    </a:lnTo>
                    <a:lnTo>
                      <a:pt x="21" y="263"/>
                    </a:lnTo>
                    <a:lnTo>
                      <a:pt x="15" y="272"/>
                    </a:lnTo>
                    <a:lnTo>
                      <a:pt x="13" y="280"/>
                    </a:lnTo>
                    <a:lnTo>
                      <a:pt x="8" y="284"/>
                    </a:lnTo>
                    <a:lnTo>
                      <a:pt x="6" y="293"/>
                    </a:lnTo>
                    <a:lnTo>
                      <a:pt x="2" y="300"/>
                    </a:lnTo>
                    <a:lnTo>
                      <a:pt x="2" y="308"/>
                    </a:lnTo>
                    <a:lnTo>
                      <a:pt x="0" y="317"/>
                    </a:lnTo>
                    <a:lnTo>
                      <a:pt x="0" y="325"/>
                    </a:lnTo>
                    <a:lnTo>
                      <a:pt x="0" y="334"/>
                    </a:lnTo>
                    <a:lnTo>
                      <a:pt x="2" y="347"/>
                    </a:lnTo>
                    <a:lnTo>
                      <a:pt x="2" y="358"/>
                    </a:lnTo>
                    <a:lnTo>
                      <a:pt x="8" y="373"/>
                    </a:lnTo>
                    <a:lnTo>
                      <a:pt x="11" y="377"/>
                    </a:lnTo>
                    <a:lnTo>
                      <a:pt x="32" y="409"/>
                    </a:lnTo>
                    <a:lnTo>
                      <a:pt x="41" y="416"/>
                    </a:lnTo>
                    <a:lnTo>
                      <a:pt x="49" y="420"/>
                    </a:lnTo>
                    <a:lnTo>
                      <a:pt x="62" y="427"/>
                    </a:lnTo>
                    <a:lnTo>
                      <a:pt x="73" y="427"/>
                    </a:lnTo>
                    <a:lnTo>
                      <a:pt x="84" y="429"/>
                    </a:lnTo>
                    <a:lnTo>
                      <a:pt x="95" y="429"/>
                    </a:lnTo>
                    <a:lnTo>
                      <a:pt x="108" y="427"/>
                    </a:lnTo>
                    <a:lnTo>
                      <a:pt x="118" y="425"/>
                    </a:lnTo>
                    <a:lnTo>
                      <a:pt x="129" y="420"/>
                    </a:lnTo>
                    <a:lnTo>
                      <a:pt x="131" y="416"/>
                    </a:lnTo>
                    <a:lnTo>
                      <a:pt x="140" y="416"/>
                    </a:lnTo>
                    <a:lnTo>
                      <a:pt x="146" y="414"/>
                    </a:lnTo>
                    <a:lnTo>
                      <a:pt x="164" y="414"/>
                    </a:lnTo>
                    <a:lnTo>
                      <a:pt x="172" y="416"/>
                    </a:lnTo>
                    <a:lnTo>
                      <a:pt x="181" y="420"/>
                    </a:lnTo>
                    <a:lnTo>
                      <a:pt x="190" y="427"/>
                    </a:lnTo>
                    <a:lnTo>
                      <a:pt x="203" y="440"/>
                    </a:lnTo>
                    <a:lnTo>
                      <a:pt x="207" y="450"/>
                    </a:lnTo>
                    <a:lnTo>
                      <a:pt x="211" y="459"/>
                    </a:lnTo>
                    <a:lnTo>
                      <a:pt x="213" y="468"/>
                    </a:lnTo>
                    <a:lnTo>
                      <a:pt x="213" y="491"/>
                    </a:lnTo>
                    <a:lnTo>
                      <a:pt x="213" y="498"/>
                    </a:lnTo>
                    <a:lnTo>
                      <a:pt x="211" y="504"/>
                    </a:lnTo>
                    <a:lnTo>
                      <a:pt x="172" y="616"/>
                    </a:lnTo>
                    <a:lnTo>
                      <a:pt x="341" y="638"/>
                    </a:lnTo>
                    <a:lnTo>
                      <a:pt x="354" y="640"/>
                    </a:lnTo>
                    <a:lnTo>
                      <a:pt x="358" y="644"/>
                    </a:lnTo>
                    <a:lnTo>
                      <a:pt x="366" y="651"/>
                    </a:lnTo>
                    <a:lnTo>
                      <a:pt x="373" y="651"/>
                    </a:lnTo>
                    <a:lnTo>
                      <a:pt x="379" y="657"/>
                    </a:lnTo>
                    <a:lnTo>
                      <a:pt x="397" y="675"/>
                    </a:lnTo>
                    <a:lnTo>
                      <a:pt x="401" y="681"/>
                    </a:lnTo>
                    <a:lnTo>
                      <a:pt x="403" y="685"/>
                    </a:lnTo>
                    <a:lnTo>
                      <a:pt x="405" y="690"/>
                    </a:lnTo>
                    <a:lnTo>
                      <a:pt x="407" y="698"/>
                    </a:lnTo>
                    <a:lnTo>
                      <a:pt x="410" y="707"/>
                    </a:lnTo>
                    <a:lnTo>
                      <a:pt x="410" y="720"/>
                    </a:lnTo>
                    <a:lnTo>
                      <a:pt x="405" y="735"/>
                    </a:lnTo>
                    <a:lnTo>
                      <a:pt x="403" y="752"/>
                    </a:lnTo>
                    <a:lnTo>
                      <a:pt x="399" y="767"/>
                    </a:lnTo>
                    <a:lnTo>
                      <a:pt x="394" y="778"/>
                    </a:lnTo>
                    <a:lnTo>
                      <a:pt x="394" y="798"/>
                    </a:lnTo>
                    <a:lnTo>
                      <a:pt x="399" y="806"/>
                    </a:lnTo>
                    <a:lnTo>
                      <a:pt x="403" y="819"/>
                    </a:lnTo>
                    <a:lnTo>
                      <a:pt x="403" y="828"/>
                    </a:lnTo>
                    <a:lnTo>
                      <a:pt x="407" y="832"/>
                    </a:lnTo>
                    <a:lnTo>
                      <a:pt x="414" y="841"/>
                    </a:lnTo>
                    <a:lnTo>
                      <a:pt x="423" y="847"/>
                    </a:lnTo>
                    <a:lnTo>
                      <a:pt x="431" y="854"/>
                    </a:lnTo>
                    <a:lnTo>
                      <a:pt x="438" y="862"/>
                    </a:lnTo>
                    <a:lnTo>
                      <a:pt x="448" y="864"/>
                    </a:lnTo>
                    <a:lnTo>
                      <a:pt x="459" y="869"/>
                    </a:lnTo>
                    <a:lnTo>
                      <a:pt x="468" y="871"/>
                    </a:lnTo>
                    <a:lnTo>
                      <a:pt x="479" y="875"/>
                    </a:lnTo>
                    <a:lnTo>
                      <a:pt x="489" y="875"/>
                    </a:lnTo>
                    <a:lnTo>
                      <a:pt x="515" y="873"/>
                    </a:lnTo>
                    <a:lnTo>
                      <a:pt x="524" y="871"/>
                    </a:lnTo>
                    <a:lnTo>
                      <a:pt x="533" y="867"/>
                    </a:lnTo>
                    <a:lnTo>
                      <a:pt x="541" y="864"/>
                    </a:lnTo>
                    <a:lnTo>
                      <a:pt x="550" y="858"/>
                    </a:lnTo>
                    <a:lnTo>
                      <a:pt x="558" y="851"/>
                    </a:lnTo>
                    <a:lnTo>
                      <a:pt x="565" y="843"/>
                    </a:lnTo>
                    <a:lnTo>
                      <a:pt x="569" y="839"/>
                    </a:lnTo>
                    <a:lnTo>
                      <a:pt x="576" y="828"/>
                    </a:lnTo>
                    <a:lnTo>
                      <a:pt x="580" y="821"/>
                    </a:lnTo>
                    <a:lnTo>
                      <a:pt x="582" y="813"/>
                    </a:lnTo>
                    <a:lnTo>
                      <a:pt x="586" y="804"/>
                    </a:lnTo>
                    <a:lnTo>
                      <a:pt x="586" y="793"/>
                    </a:lnTo>
                    <a:lnTo>
                      <a:pt x="589" y="782"/>
                    </a:lnTo>
                    <a:lnTo>
                      <a:pt x="586" y="774"/>
                    </a:lnTo>
                    <a:lnTo>
                      <a:pt x="584" y="765"/>
                    </a:lnTo>
                    <a:lnTo>
                      <a:pt x="584" y="763"/>
                    </a:lnTo>
                    <a:lnTo>
                      <a:pt x="582" y="757"/>
                    </a:lnTo>
                    <a:lnTo>
                      <a:pt x="580" y="746"/>
                    </a:lnTo>
                    <a:lnTo>
                      <a:pt x="580" y="739"/>
                    </a:lnTo>
                    <a:lnTo>
                      <a:pt x="580" y="711"/>
                    </a:lnTo>
                    <a:lnTo>
                      <a:pt x="582" y="703"/>
                    </a:lnTo>
                    <a:lnTo>
                      <a:pt x="586" y="694"/>
                    </a:lnTo>
                    <a:lnTo>
                      <a:pt x="591" y="685"/>
                    </a:lnTo>
                    <a:lnTo>
                      <a:pt x="595" y="681"/>
                    </a:lnTo>
                    <a:lnTo>
                      <a:pt x="599" y="675"/>
                    </a:lnTo>
                    <a:lnTo>
                      <a:pt x="606" y="670"/>
                    </a:lnTo>
                    <a:lnTo>
                      <a:pt x="614" y="664"/>
                    </a:lnTo>
                    <a:lnTo>
                      <a:pt x="621" y="660"/>
                    </a:lnTo>
                    <a:lnTo>
                      <a:pt x="630" y="657"/>
                    </a:lnTo>
                    <a:lnTo>
                      <a:pt x="638" y="655"/>
                    </a:lnTo>
                    <a:lnTo>
                      <a:pt x="662" y="655"/>
                    </a:lnTo>
                    <a:lnTo>
                      <a:pt x="673" y="660"/>
                    </a:lnTo>
                    <a:lnTo>
                      <a:pt x="869" y="718"/>
                    </a:lnTo>
                    <a:lnTo>
                      <a:pt x="908" y="591"/>
                    </a:lnTo>
                    <a:lnTo>
                      <a:pt x="912" y="573"/>
                    </a:lnTo>
                    <a:lnTo>
                      <a:pt x="912" y="565"/>
                    </a:lnTo>
                    <a:lnTo>
                      <a:pt x="912" y="552"/>
                    </a:lnTo>
                    <a:lnTo>
                      <a:pt x="893" y="517"/>
                    </a:lnTo>
                    <a:lnTo>
                      <a:pt x="880" y="509"/>
                    </a:lnTo>
                    <a:lnTo>
                      <a:pt x="875" y="504"/>
                    </a:lnTo>
                    <a:lnTo>
                      <a:pt x="869" y="500"/>
                    </a:lnTo>
                    <a:lnTo>
                      <a:pt x="862" y="498"/>
                    </a:lnTo>
                    <a:lnTo>
                      <a:pt x="854" y="498"/>
                    </a:lnTo>
                    <a:lnTo>
                      <a:pt x="850" y="496"/>
                    </a:lnTo>
                    <a:lnTo>
                      <a:pt x="834" y="496"/>
                    </a:lnTo>
                    <a:lnTo>
                      <a:pt x="828" y="498"/>
                    </a:lnTo>
                    <a:lnTo>
                      <a:pt x="822" y="498"/>
                    </a:lnTo>
                    <a:lnTo>
                      <a:pt x="817" y="500"/>
                    </a:lnTo>
                    <a:lnTo>
                      <a:pt x="811" y="504"/>
                    </a:lnTo>
                    <a:lnTo>
                      <a:pt x="802" y="506"/>
                    </a:lnTo>
                    <a:lnTo>
                      <a:pt x="793" y="509"/>
                    </a:lnTo>
                    <a:lnTo>
                      <a:pt x="776" y="509"/>
                    </a:lnTo>
                    <a:lnTo>
                      <a:pt x="770" y="506"/>
                    </a:lnTo>
                    <a:lnTo>
                      <a:pt x="759" y="506"/>
                    </a:lnTo>
                    <a:lnTo>
                      <a:pt x="752" y="502"/>
                    </a:lnTo>
                    <a:lnTo>
                      <a:pt x="744" y="498"/>
                    </a:lnTo>
                    <a:lnTo>
                      <a:pt x="733" y="489"/>
                    </a:lnTo>
                    <a:lnTo>
                      <a:pt x="729" y="483"/>
                    </a:lnTo>
                    <a:lnTo>
                      <a:pt x="722" y="476"/>
                    </a:lnTo>
                    <a:lnTo>
                      <a:pt x="722" y="468"/>
                    </a:lnTo>
                    <a:lnTo>
                      <a:pt x="716" y="459"/>
                    </a:lnTo>
                    <a:lnTo>
                      <a:pt x="712" y="448"/>
                    </a:lnTo>
                    <a:lnTo>
                      <a:pt x="712" y="435"/>
                    </a:lnTo>
                    <a:lnTo>
                      <a:pt x="709" y="420"/>
                    </a:lnTo>
                    <a:lnTo>
                      <a:pt x="709" y="392"/>
                    </a:lnTo>
                    <a:lnTo>
                      <a:pt x="712" y="379"/>
                    </a:lnTo>
                    <a:lnTo>
                      <a:pt x="714" y="366"/>
                    </a:lnTo>
                    <a:lnTo>
                      <a:pt x="714" y="364"/>
                    </a:lnTo>
                    <a:lnTo>
                      <a:pt x="716" y="356"/>
                    </a:lnTo>
                    <a:lnTo>
                      <a:pt x="722" y="340"/>
                    </a:lnTo>
                    <a:lnTo>
                      <a:pt x="735" y="325"/>
                    </a:lnTo>
                    <a:lnTo>
                      <a:pt x="752" y="317"/>
                    </a:lnTo>
                    <a:lnTo>
                      <a:pt x="770" y="310"/>
                    </a:lnTo>
                    <a:lnTo>
                      <a:pt x="789" y="310"/>
                    </a:lnTo>
                    <a:lnTo>
                      <a:pt x="793" y="312"/>
                    </a:lnTo>
                    <a:lnTo>
                      <a:pt x="800" y="312"/>
                    </a:lnTo>
                    <a:lnTo>
                      <a:pt x="804" y="317"/>
                    </a:lnTo>
                    <a:lnTo>
                      <a:pt x="815" y="323"/>
                    </a:lnTo>
                    <a:lnTo>
                      <a:pt x="826" y="332"/>
                    </a:lnTo>
                    <a:lnTo>
                      <a:pt x="834" y="340"/>
                    </a:lnTo>
                    <a:lnTo>
                      <a:pt x="847" y="345"/>
                    </a:lnTo>
                    <a:lnTo>
                      <a:pt x="854" y="349"/>
                    </a:lnTo>
                    <a:lnTo>
                      <a:pt x="860" y="353"/>
                    </a:lnTo>
                    <a:lnTo>
                      <a:pt x="869" y="356"/>
                    </a:lnTo>
                    <a:lnTo>
                      <a:pt x="895" y="356"/>
                    </a:lnTo>
                    <a:lnTo>
                      <a:pt x="901" y="351"/>
                    </a:lnTo>
                    <a:lnTo>
                      <a:pt x="908" y="347"/>
                    </a:lnTo>
                    <a:lnTo>
                      <a:pt x="914" y="345"/>
                    </a:lnTo>
                    <a:lnTo>
                      <a:pt x="921" y="340"/>
                    </a:lnTo>
                    <a:lnTo>
                      <a:pt x="923" y="334"/>
                    </a:lnTo>
                    <a:lnTo>
                      <a:pt x="931" y="332"/>
                    </a:lnTo>
                    <a:lnTo>
                      <a:pt x="936" y="325"/>
                    </a:lnTo>
                    <a:lnTo>
                      <a:pt x="936" y="319"/>
                    </a:lnTo>
                    <a:lnTo>
                      <a:pt x="938" y="312"/>
                    </a:lnTo>
                    <a:lnTo>
                      <a:pt x="940" y="308"/>
                    </a:lnTo>
                    <a:lnTo>
                      <a:pt x="942" y="300"/>
                    </a:lnTo>
                    <a:lnTo>
                      <a:pt x="942" y="293"/>
                    </a:lnTo>
                    <a:lnTo>
                      <a:pt x="944" y="248"/>
                    </a:lnTo>
                    <a:lnTo>
                      <a:pt x="942" y="213"/>
                    </a:lnTo>
                    <a:lnTo>
                      <a:pt x="940" y="177"/>
                    </a:lnTo>
                    <a:lnTo>
                      <a:pt x="936" y="140"/>
                    </a:lnTo>
                    <a:lnTo>
                      <a:pt x="931" y="105"/>
                    </a:lnTo>
                    <a:lnTo>
                      <a:pt x="927" y="69"/>
                    </a:lnTo>
                    <a:lnTo>
                      <a:pt x="925" y="65"/>
                    </a:lnTo>
                    <a:lnTo>
                      <a:pt x="727" y="15"/>
                    </a:lnTo>
                    <a:lnTo>
                      <a:pt x="718" y="13"/>
                    </a:lnTo>
                    <a:lnTo>
                      <a:pt x="703" y="13"/>
                    </a:lnTo>
                    <a:lnTo>
                      <a:pt x="696" y="15"/>
                    </a:lnTo>
                    <a:lnTo>
                      <a:pt x="686" y="17"/>
                    </a:lnTo>
                    <a:lnTo>
                      <a:pt x="683" y="19"/>
                    </a:lnTo>
                    <a:lnTo>
                      <a:pt x="675" y="24"/>
                    </a:lnTo>
                    <a:lnTo>
                      <a:pt x="671" y="26"/>
                    </a:lnTo>
                    <a:lnTo>
                      <a:pt x="662" y="32"/>
                    </a:lnTo>
                    <a:lnTo>
                      <a:pt x="658" y="37"/>
                    </a:lnTo>
                    <a:lnTo>
                      <a:pt x="655" y="47"/>
                    </a:lnTo>
                    <a:lnTo>
                      <a:pt x="651" y="52"/>
                    </a:lnTo>
                    <a:lnTo>
                      <a:pt x="649" y="60"/>
                    </a:lnTo>
                    <a:lnTo>
                      <a:pt x="647" y="67"/>
                    </a:lnTo>
                    <a:lnTo>
                      <a:pt x="645" y="73"/>
                    </a:lnTo>
                    <a:lnTo>
                      <a:pt x="645" y="82"/>
                    </a:lnTo>
                    <a:lnTo>
                      <a:pt x="647" y="88"/>
                    </a:lnTo>
                    <a:lnTo>
                      <a:pt x="647" y="90"/>
                    </a:lnTo>
                    <a:lnTo>
                      <a:pt x="651" y="103"/>
                    </a:lnTo>
                    <a:lnTo>
                      <a:pt x="653" y="112"/>
                    </a:lnTo>
                    <a:lnTo>
                      <a:pt x="655" y="123"/>
                    </a:lnTo>
                    <a:lnTo>
                      <a:pt x="666" y="140"/>
                    </a:lnTo>
                    <a:lnTo>
                      <a:pt x="675" y="153"/>
                    </a:lnTo>
                    <a:lnTo>
                      <a:pt x="677" y="170"/>
                    </a:lnTo>
                    <a:lnTo>
                      <a:pt x="679" y="183"/>
                    </a:lnTo>
                    <a:lnTo>
                      <a:pt x="677" y="198"/>
                    </a:lnTo>
                    <a:lnTo>
                      <a:pt x="675" y="211"/>
                    </a:lnTo>
                    <a:lnTo>
                      <a:pt x="671" y="222"/>
                    </a:lnTo>
                    <a:lnTo>
                      <a:pt x="662" y="235"/>
                    </a:lnTo>
                    <a:lnTo>
                      <a:pt x="647" y="252"/>
                    </a:lnTo>
                    <a:lnTo>
                      <a:pt x="627" y="269"/>
                    </a:lnTo>
                    <a:lnTo>
                      <a:pt x="612" y="280"/>
                    </a:lnTo>
                    <a:lnTo>
                      <a:pt x="599" y="284"/>
                    </a:lnTo>
                    <a:lnTo>
                      <a:pt x="556" y="295"/>
                    </a:lnTo>
                    <a:lnTo>
                      <a:pt x="520" y="295"/>
                    </a:lnTo>
                    <a:lnTo>
                      <a:pt x="492" y="287"/>
                    </a:lnTo>
                    <a:lnTo>
                      <a:pt x="472" y="276"/>
                    </a:lnTo>
                    <a:lnTo>
                      <a:pt x="461" y="259"/>
                    </a:lnTo>
                    <a:lnTo>
                      <a:pt x="455" y="237"/>
                    </a:lnTo>
                    <a:lnTo>
                      <a:pt x="455" y="213"/>
                    </a:lnTo>
                    <a:lnTo>
                      <a:pt x="459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787400" y="3246480"/>
                <a:ext cx="1500480" cy="1388880"/>
              </a:xfrm>
              <a:custGeom>
                <a:avLst/>
                <a:gdLst/>
                <a:ahLst/>
                <a:rect l="l" t="t" r="r" b="b"/>
                <a:pathLst>
                  <a:path w="945" h="875">
                    <a:moveTo>
                      <a:pt x="460" y="194"/>
                    </a:moveTo>
                    <a:lnTo>
                      <a:pt x="468" y="164"/>
                    </a:lnTo>
                    <a:lnTo>
                      <a:pt x="477" y="140"/>
                    </a:lnTo>
                    <a:lnTo>
                      <a:pt x="477" y="136"/>
                    </a:lnTo>
                    <a:lnTo>
                      <a:pt x="477" y="127"/>
                    </a:lnTo>
                    <a:lnTo>
                      <a:pt x="479" y="123"/>
                    </a:lnTo>
                    <a:lnTo>
                      <a:pt x="479" y="112"/>
                    </a:lnTo>
                    <a:lnTo>
                      <a:pt x="481" y="99"/>
                    </a:lnTo>
                    <a:lnTo>
                      <a:pt x="484" y="88"/>
                    </a:lnTo>
                    <a:lnTo>
                      <a:pt x="484" y="80"/>
                    </a:lnTo>
                    <a:lnTo>
                      <a:pt x="481" y="69"/>
                    </a:lnTo>
                    <a:lnTo>
                      <a:pt x="481" y="52"/>
                    </a:lnTo>
                    <a:lnTo>
                      <a:pt x="479" y="45"/>
                    </a:lnTo>
                    <a:lnTo>
                      <a:pt x="475" y="37"/>
                    </a:lnTo>
                    <a:lnTo>
                      <a:pt x="466" y="28"/>
                    </a:lnTo>
                    <a:lnTo>
                      <a:pt x="460" y="22"/>
                    </a:lnTo>
                    <a:lnTo>
                      <a:pt x="451" y="15"/>
                    </a:lnTo>
                    <a:lnTo>
                      <a:pt x="443" y="7"/>
                    </a:lnTo>
                    <a:lnTo>
                      <a:pt x="432" y="4"/>
                    </a:lnTo>
                    <a:lnTo>
                      <a:pt x="423" y="2"/>
                    </a:lnTo>
                    <a:lnTo>
                      <a:pt x="417" y="0"/>
                    </a:lnTo>
                    <a:lnTo>
                      <a:pt x="246" y="4"/>
                    </a:lnTo>
                    <a:lnTo>
                      <a:pt x="266" y="147"/>
                    </a:lnTo>
                    <a:lnTo>
                      <a:pt x="266" y="170"/>
                    </a:lnTo>
                    <a:lnTo>
                      <a:pt x="264" y="183"/>
                    </a:lnTo>
                    <a:lnTo>
                      <a:pt x="264" y="188"/>
                    </a:lnTo>
                    <a:lnTo>
                      <a:pt x="261" y="196"/>
                    </a:lnTo>
                    <a:lnTo>
                      <a:pt x="257" y="205"/>
                    </a:lnTo>
                    <a:lnTo>
                      <a:pt x="253" y="213"/>
                    </a:lnTo>
                    <a:lnTo>
                      <a:pt x="248" y="220"/>
                    </a:lnTo>
                    <a:lnTo>
                      <a:pt x="242" y="226"/>
                    </a:lnTo>
                    <a:lnTo>
                      <a:pt x="240" y="233"/>
                    </a:lnTo>
                    <a:lnTo>
                      <a:pt x="229" y="242"/>
                    </a:lnTo>
                    <a:lnTo>
                      <a:pt x="225" y="244"/>
                    </a:lnTo>
                    <a:lnTo>
                      <a:pt x="218" y="248"/>
                    </a:lnTo>
                    <a:lnTo>
                      <a:pt x="212" y="252"/>
                    </a:lnTo>
                    <a:lnTo>
                      <a:pt x="205" y="254"/>
                    </a:lnTo>
                    <a:lnTo>
                      <a:pt x="197" y="254"/>
                    </a:lnTo>
                    <a:lnTo>
                      <a:pt x="190" y="257"/>
                    </a:lnTo>
                    <a:lnTo>
                      <a:pt x="182" y="257"/>
                    </a:lnTo>
                    <a:lnTo>
                      <a:pt x="177" y="254"/>
                    </a:lnTo>
                    <a:lnTo>
                      <a:pt x="169" y="254"/>
                    </a:lnTo>
                    <a:lnTo>
                      <a:pt x="162" y="252"/>
                    </a:lnTo>
                    <a:lnTo>
                      <a:pt x="156" y="250"/>
                    </a:lnTo>
                    <a:lnTo>
                      <a:pt x="149" y="246"/>
                    </a:lnTo>
                    <a:lnTo>
                      <a:pt x="117" y="231"/>
                    </a:lnTo>
                    <a:lnTo>
                      <a:pt x="108" y="231"/>
                    </a:lnTo>
                    <a:lnTo>
                      <a:pt x="102" y="229"/>
                    </a:lnTo>
                    <a:lnTo>
                      <a:pt x="93" y="226"/>
                    </a:lnTo>
                    <a:lnTo>
                      <a:pt x="87" y="226"/>
                    </a:lnTo>
                    <a:lnTo>
                      <a:pt x="80" y="229"/>
                    </a:lnTo>
                    <a:lnTo>
                      <a:pt x="74" y="231"/>
                    </a:lnTo>
                    <a:lnTo>
                      <a:pt x="67" y="231"/>
                    </a:lnTo>
                    <a:lnTo>
                      <a:pt x="61" y="233"/>
                    </a:lnTo>
                    <a:lnTo>
                      <a:pt x="52" y="237"/>
                    </a:lnTo>
                    <a:lnTo>
                      <a:pt x="48" y="242"/>
                    </a:lnTo>
                    <a:lnTo>
                      <a:pt x="41" y="242"/>
                    </a:lnTo>
                    <a:lnTo>
                      <a:pt x="39" y="246"/>
                    </a:lnTo>
                    <a:lnTo>
                      <a:pt x="31" y="252"/>
                    </a:lnTo>
                    <a:lnTo>
                      <a:pt x="28" y="261"/>
                    </a:lnTo>
                    <a:lnTo>
                      <a:pt x="22" y="265"/>
                    </a:lnTo>
                    <a:lnTo>
                      <a:pt x="16" y="272"/>
                    </a:lnTo>
                    <a:lnTo>
                      <a:pt x="13" y="280"/>
                    </a:lnTo>
                    <a:lnTo>
                      <a:pt x="9" y="287"/>
                    </a:lnTo>
                    <a:lnTo>
                      <a:pt x="7" y="293"/>
                    </a:lnTo>
                    <a:lnTo>
                      <a:pt x="5" y="302"/>
                    </a:lnTo>
                    <a:lnTo>
                      <a:pt x="5" y="311"/>
                    </a:lnTo>
                    <a:lnTo>
                      <a:pt x="3" y="317"/>
                    </a:lnTo>
                    <a:lnTo>
                      <a:pt x="0" y="326"/>
                    </a:lnTo>
                    <a:lnTo>
                      <a:pt x="0" y="336"/>
                    </a:lnTo>
                    <a:lnTo>
                      <a:pt x="5" y="349"/>
                    </a:lnTo>
                    <a:lnTo>
                      <a:pt x="5" y="360"/>
                    </a:lnTo>
                    <a:lnTo>
                      <a:pt x="9" y="373"/>
                    </a:lnTo>
                    <a:lnTo>
                      <a:pt x="11" y="375"/>
                    </a:lnTo>
                    <a:lnTo>
                      <a:pt x="33" y="410"/>
                    </a:lnTo>
                    <a:lnTo>
                      <a:pt x="41" y="418"/>
                    </a:lnTo>
                    <a:lnTo>
                      <a:pt x="52" y="420"/>
                    </a:lnTo>
                    <a:lnTo>
                      <a:pt x="63" y="427"/>
                    </a:lnTo>
                    <a:lnTo>
                      <a:pt x="74" y="429"/>
                    </a:lnTo>
                    <a:lnTo>
                      <a:pt x="87" y="431"/>
                    </a:lnTo>
                    <a:lnTo>
                      <a:pt x="97" y="431"/>
                    </a:lnTo>
                    <a:lnTo>
                      <a:pt x="108" y="429"/>
                    </a:lnTo>
                    <a:lnTo>
                      <a:pt x="119" y="425"/>
                    </a:lnTo>
                    <a:lnTo>
                      <a:pt x="130" y="420"/>
                    </a:lnTo>
                    <a:lnTo>
                      <a:pt x="134" y="418"/>
                    </a:lnTo>
                    <a:lnTo>
                      <a:pt x="141" y="418"/>
                    </a:lnTo>
                    <a:lnTo>
                      <a:pt x="147" y="416"/>
                    </a:lnTo>
                    <a:lnTo>
                      <a:pt x="166" y="416"/>
                    </a:lnTo>
                    <a:lnTo>
                      <a:pt x="173" y="418"/>
                    </a:lnTo>
                    <a:lnTo>
                      <a:pt x="182" y="420"/>
                    </a:lnTo>
                    <a:lnTo>
                      <a:pt x="190" y="429"/>
                    </a:lnTo>
                    <a:lnTo>
                      <a:pt x="205" y="442"/>
                    </a:lnTo>
                    <a:lnTo>
                      <a:pt x="207" y="451"/>
                    </a:lnTo>
                    <a:lnTo>
                      <a:pt x="212" y="457"/>
                    </a:lnTo>
                    <a:lnTo>
                      <a:pt x="216" y="468"/>
                    </a:lnTo>
                    <a:lnTo>
                      <a:pt x="216" y="492"/>
                    </a:lnTo>
                    <a:lnTo>
                      <a:pt x="214" y="500"/>
                    </a:lnTo>
                    <a:lnTo>
                      <a:pt x="212" y="505"/>
                    </a:lnTo>
                    <a:lnTo>
                      <a:pt x="173" y="617"/>
                    </a:lnTo>
                    <a:lnTo>
                      <a:pt x="341" y="638"/>
                    </a:lnTo>
                    <a:lnTo>
                      <a:pt x="354" y="643"/>
                    </a:lnTo>
                    <a:lnTo>
                      <a:pt x="358" y="645"/>
                    </a:lnTo>
                    <a:lnTo>
                      <a:pt x="369" y="651"/>
                    </a:lnTo>
                    <a:lnTo>
                      <a:pt x="374" y="653"/>
                    </a:lnTo>
                    <a:lnTo>
                      <a:pt x="380" y="658"/>
                    </a:lnTo>
                    <a:lnTo>
                      <a:pt x="397" y="677"/>
                    </a:lnTo>
                    <a:lnTo>
                      <a:pt x="402" y="681"/>
                    </a:lnTo>
                    <a:lnTo>
                      <a:pt x="404" y="688"/>
                    </a:lnTo>
                    <a:lnTo>
                      <a:pt x="406" y="692"/>
                    </a:lnTo>
                    <a:lnTo>
                      <a:pt x="408" y="701"/>
                    </a:lnTo>
                    <a:lnTo>
                      <a:pt x="410" y="707"/>
                    </a:lnTo>
                    <a:lnTo>
                      <a:pt x="410" y="720"/>
                    </a:lnTo>
                    <a:lnTo>
                      <a:pt x="406" y="737"/>
                    </a:lnTo>
                    <a:lnTo>
                      <a:pt x="404" y="752"/>
                    </a:lnTo>
                    <a:lnTo>
                      <a:pt x="397" y="768"/>
                    </a:lnTo>
                    <a:lnTo>
                      <a:pt x="395" y="778"/>
                    </a:lnTo>
                    <a:lnTo>
                      <a:pt x="395" y="798"/>
                    </a:lnTo>
                    <a:lnTo>
                      <a:pt x="397" y="809"/>
                    </a:lnTo>
                    <a:lnTo>
                      <a:pt x="404" y="821"/>
                    </a:lnTo>
                    <a:lnTo>
                      <a:pt x="406" y="830"/>
                    </a:lnTo>
                    <a:lnTo>
                      <a:pt x="408" y="834"/>
                    </a:lnTo>
                    <a:lnTo>
                      <a:pt x="417" y="843"/>
                    </a:lnTo>
                    <a:lnTo>
                      <a:pt x="423" y="847"/>
                    </a:lnTo>
                    <a:lnTo>
                      <a:pt x="432" y="856"/>
                    </a:lnTo>
                    <a:lnTo>
                      <a:pt x="440" y="862"/>
                    </a:lnTo>
                    <a:lnTo>
                      <a:pt x="449" y="869"/>
                    </a:lnTo>
                    <a:lnTo>
                      <a:pt x="460" y="869"/>
                    </a:lnTo>
                    <a:lnTo>
                      <a:pt x="468" y="871"/>
                    </a:lnTo>
                    <a:lnTo>
                      <a:pt x="479" y="875"/>
                    </a:lnTo>
                    <a:lnTo>
                      <a:pt x="490" y="875"/>
                    </a:lnTo>
                    <a:lnTo>
                      <a:pt x="516" y="873"/>
                    </a:lnTo>
                    <a:lnTo>
                      <a:pt x="524" y="871"/>
                    </a:lnTo>
                    <a:lnTo>
                      <a:pt x="535" y="869"/>
                    </a:lnTo>
                    <a:lnTo>
                      <a:pt x="542" y="865"/>
                    </a:lnTo>
                    <a:lnTo>
                      <a:pt x="550" y="858"/>
                    </a:lnTo>
                    <a:lnTo>
                      <a:pt x="559" y="854"/>
                    </a:lnTo>
                    <a:lnTo>
                      <a:pt x="565" y="845"/>
                    </a:lnTo>
                    <a:lnTo>
                      <a:pt x="572" y="839"/>
                    </a:lnTo>
                    <a:lnTo>
                      <a:pt x="576" y="830"/>
                    </a:lnTo>
                    <a:lnTo>
                      <a:pt x="583" y="821"/>
                    </a:lnTo>
                    <a:lnTo>
                      <a:pt x="583" y="813"/>
                    </a:lnTo>
                    <a:lnTo>
                      <a:pt x="587" y="804"/>
                    </a:lnTo>
                    <a:lnTo>
                      <a:pt x="587" y="796"/>
                    </a:lnTo>
                    <a:lnTo>
                      <a:pt x="589" y="785"/>
                    </a:lnTo>
                    <a:lnTo>
                      <a:pt x="587" y="774"/>
                    </a:lnTo>
                    <a:lnTo>
                      <a:pt x="585" y="765"/>
                    </a:lnTo>
                    <a:lnTo>
                      <a:pt x="585" y="763"/>
                    </a:lnTo>
                    <a:lnTo>
                      <a:pt x="583" y="757"/>
                    </a:lnTo>
                    <a:lnTo>
                      <a:pt x="583" y="748"/>
                    </a:lnTo>
                    <a:lnTo>
                      <a:pt x="581" y="740"/>
                    </a:lnTo>
                    <a:lnTo>
                      <a:pt x="581" y="714"/>
                    </a:lnTo>
                    <a:lnTo>
                      <a:pt x="583" y="703"/>
                    </a:lnTo>
                    <a:lnTo>
                      <a:pt x="587" y="694"/>
                    </a:lnTo>
                    <a:lnTo>
                      <a:pt x="591" y="688"/>
                    </a:lnTo>
                    <a:lnTo>
                      <a:pt x="596" y="681"/>
                    </a:lnTo>
                    <a:lnTo>
                      <a:pt x="600" y="677"/>
                    </a:lnTo>
                    <a:lnTo>
                      <a:pt x="606" y="668"/>
                    </a:lnTo>
                    <a:lnTo>
                      <a:pt x="615" y="666"/>
                    </a:lnTo>
                    <a:lnTo>
                      <a:pt x="622" y="660"/>
                    </a:lnTo>
                    <a:lnTo>
                      <a:pt x="630" y="658"/>
                    </a:lnTo>
                    <a:lnTo>
                      <a:pt x="639" y="658"/>
                    </a:lnTo>
                    <a:lnTo>
                      <a:pt x="665" y="658"/>
                    </a:lnTo>
                    <a:lnTo>
                      <a:pt x="673" y="660"/>
                    </a:lnTo>
                    <a:lnTo>
                      <a:pt x="872" y="718"/>
                    </a:lnTo>
                    <a:lnTo>
                      <a:pt x="908" y="591"/>
                    </a:lnTo>
                    <a:lnTo>
                      <a:pt x="913" y="576"/>
                    </a:lnTo>
                    <a:lnTo>
                      <a:pt x="915" y="565"/>
                    </a:lnTo>
                    <a:lnTo>
                      <a:pt x="913" y="552"/>
                    </a:lnTo>
                    <a:lnTo>
                      <a:pt x="893" y="517"/>
                    </a:lnTo>
                    <a:lnTo>
                      <a:pt x="880" y="509"/>
                    </a:lnTo>
                    <a:lnTo>
                      <a:pt x="876" y="505"/>
                    </a:lnTo>
                    <a:lnTo>
                      <a:pt x="870" y="502"/>
                    </a:lnTo>
                    <a:lnTo>
                      <a:pt x="863" y="500"/>
                    </a:lnTo>
                    <a:lnTo>
                      <a:pt x="857" y="500"/>
                    </a:lnTo>
                    <a:lnTo>
                      <a:pt x="850" y="498"/>
                    </a:lnTo>
                    <a:lnTo>
                      <a:pt x="837" y="498"/>
                    </a:lnTo>
                    <a:lnTo>
                      <a:pt x="831" y="500"/>
                    </a:lnTo>
                    <a:lnTo>
                      <a:pt x="822" y="500"/>
                    </a:lnTo>
                    <a:lnTo>
                      <a:pt x="820" y="502"/>
                    </a:lnTo>
                    <a:lnTo>
                      <a:pt x="811" y="505"/>
                    </a:lnTo>
                    <a:lnTo>
                      <a:pt x="803" y="507"/>
                    </a:lnTo>
                    <a:lnTo>
                      <a:pt x="796" y="509"/>
                    </a:lnTo>
                    <a:lnTo>
                      <a:pt x="777" y="509"/>
                    </a:lnTo>
                    <a:lnTo>
                      <a:pt x="770" y="507"/>
                    </a:lnTo>
                    <a:lnTo>
                      <a:pt x="762" y="507"/>
                    </a:lnTo>
                    <a:lnTo>
                      <a:pt x="753" y="502"/>
                    </a:lnTo>
                    <a:lnTo>
                      <a:pt x="744" y="500"/>
                    </a:lnTo>
                    <a:lnTo>
                      <a:pt x="736" y="492"/>
                    </a:lnTo>
                    <a:lnTo>
                      <a:pt x="729" y="483"/>
                    </a:lnTo>
                    <a:lnTo>
                      <a:pt x="725" y="477"/>
                    </a:lnTo>
                    <a:lnTo>
                      <a:pt x="721" y="468"/>
                    </a:lnTo>
                    <a:lnTo>
                      <a:pt x="716" y="459"/>
                    </a:lnTo>
                    <a:lnTo>
                      <a:pt x="714" y="448"/>
                    </a:lnTo>
                    <a:lnTo>
                      <a:pt x="714" y="433"/>
                    </a:lnTo>
                    <a:lnTo>
                      <a:pt x="712" y="420"/>
                    </a:lnTo>
                    <a:lnTo>
                      <a:pt x="712" y="395"/>
                    </a:lnTo>
                    <a:lnTo>
                      <a:pt x="714" y="382"/>
                    </a:lnTo>
                    <a:lnTo>
                      <a:pt x="714" y="369"/>
                    </a:lnTo>
                    <a:lnTo>
                      <a:pt x="714" y="364"/>
                    </a:lnTo>
                    <a:lnTo>
                      <a:pt x="719" y="358"/>
                    </a:lnTo>
                    <a:lnTo>
                      <a:pt x="725" y="341"/>
                    </a:lnTo>
                    <a:lnTo>
                      <a:pt x="738" y="326"/>
                    </a:lnTo>
                    <a:lnTo>
                      <a:pt x="753" y="317"/>
                    </a:lnTo>
                    <a:lnTo>
                      <a:pt x="772" y="313"/>
                    </a:lnTo>
                    <a:lnTo>
                      <a:pt x="790" y="313"/>
                    </a:lnTo>
                    <a:lnTo>
                      <a:pt x="796" y="313"/>
                    </a:lnTo>
                    <a:lnTo>
                      <a:pt x="801" y="313"/>
                    </a:lnTo>
                    <a:lnTo>
                      <a:pt x="805" y="317"/>
                    </a:lnTo>
                    <a:lnTo>
                      <a:pt x="813" y="326"/>
                    </a:lnTo>
                    <a:lnTo>
                      <a:pt x="826" y="332"/>
                    </a:lnTo>
                    <a:lnTo>
                      <a:pt x="837" y="341"/>
                    </a:lnTo>
                    <a:lnTo>
                      <a:pt x="848" y="347"/>
                    </a:lnTo>
                    <a:lnTo>
                      <a:pt x="857" y="349"/>
                    </a:lnTo>
                    <a:lnTo>
                      <a:pt x="861" y="354"/>
                    </a:lnTo>
                    <a:lnTo>
                      <a:pt x="870" y="356"/>
                    </a:lnTo>
                    <a:lnTo>
                      <a:pt x="895" y="356"/>
                    </a:lnTo>
                    <a:lnTo>
                      <a:pt x="902" y="351"/>
                    </a:lnTo>
                    <a:lnTo>
                      <a:pt x="908" y="349"/>
                    </a:lnTo>
                    <a:lnTo>
                      <a:pt x="915" y="347"/>
                    </a:lnTo>
                    <a:lnTo>
                      <a:pt x="921" y="341"/>
                    </a:lnTo>
                    <a:lnTo>
                      <a:pt x="926" y="336"/>
                    </a:lnTo>
                    <a:lnTo>
                      <a:pt x="932" y="332"/>
                    </a:lnTo>
                    <a:lnTo>
                      <a:pt x="936" y="326"/>
                    </a:lnTo>
                    <a:lnTo>
                      <a:pt x="939" y="323"/>
                    </a:lnTo>
                    <a:lnTo>
                      <a:pt x="939" y="313"/>
                    </a:lnTo>
                    <a:lnTo>
                      <a:pt x="941" y="308"/>
                    </a:lnTo>
                    <a:lnTo>
                      <a:pt x="943" y="300"/>
                    </a:lnTo>
                    <a:lnTo>
                      <a:pt x="943" y="293"/>
                    </a:lnTo>
                    <a:lnTo>
                      <a:pt x="945" y="250"/>
                    </a:lnTo>
                    <a:lnTo>
                      <a:pt x="943" y="213"/>
                    </a:lnTo>
                    <a:lnTo>
                      <a:pt x="941" y="177"/>
                    </a:lnTo>
                    <a:lnTo>
                      <a:pt x="939" y="140"/>
                    </a:lnTo>
                    <a:lnTo>
                      <a:pt x="932" y="104"/>
                    </a:lnTo>
                    <a:lnTo>
                      <a:pt x="928" y="69"/>
                    </a:lnTo>
                    <a:lnTo>
                      <a:pt x="926" y="67"/>
                    </a:lnTo>
                    <a:lnTo>
                      <a:pt x="727" y="17"/>
                    </a:lnTo>
                    <a:lnTo>
                      <a:pt x="719" y="15"/>
                    </a:lnTo>
                    <a:lnTo>
                      <a:pt x="703" y="15"/>
                    </a:lnTo>
                    <a:lnTo>
                      <a:pt x="697" y="17"/>
                    </a:lnTo>
                    <a:lnTo>
                      <a:pt x="688" y="17"/>
                    </a:lnTo>
                    <a:lnTo>
                      <a:pt x="684" y="19"/>
                    </a:lnTo>
                    <a:lnTo>
                      <a:pt x="678" y="22"/>
                    </a:lnTo>
                    <a:lnTo>
                      <a:pt x="671" y="28"/>
                    </a:lnTo>
                    <a:lnTo>
                      <a:pt x="665" y="32"/>
                    </a:lnTo>
                    <a:lnTo>
                      <a:pt x="658" y="39"/>
                    </a:lnTo>
                    <a:lnTo>
                      <a:pt x="656" y="47"/>
                    </a:lnTo>
                    <a:lnTo>
                      <a:pt x="652" y="52"/>
                    </a:lnTo>
                    <a:lnTo>
                      <a:pt x="650" y="63"/>
                    </a:lnTo>
                    <a:lnTo>
                      <a:pt x="647" y="67"/>
                    </a:lnTo>
                    <a:lnTo>
                      <a:pt x="645" y="76"/>
                    </a:lnTo>
                    <a:lnTo>
                      <a:pt x="645" y="84"/>
                    </a:lnTo>
                    <a:lnTo>
                      <a:pt x="647" y="88"/>
                    </a:lnTo>
                    <a:lnTo>
                      <a:pt x="647" y="93"/>
                    </a:lnTo>
                    <a:lnTo>
                      <a:pt x="652" y="104"/>
                    </a:lnTo>
                    <a:lnTo>
                      <a:pt x="654" y="112"/>
                    </a:lnTo>
                    <a:lnTo>
                      <a:pt x="656" y="123"/>
                    </a:lnTo>
                    <a:lnTo>
                      <a:pt x="667" y="140"/>
                    </a:lnTo>
                    <a:lnTo>
                      <a:pt x="675" y="157"/>
                    </a:lnTo>
                    <a:lnTo>
                      <a:pt x="678" y="170"/>
                    </a:lnTo>
                    <a:lnTo>
                      <a:pt x="680" y="183"/>
                    </a:lnTo>
                    <a:lnTo>
                      <a:pt x="678" y="198"/>
                    </a:lnTo>
                    <a:lnTo>
                      <a:pt x="675" y="211"/>
                    </a:lnTo>
                    <a:lnTo>
                      <a:pt x="671" y="222"/>
                    </a:lnTo>
                    <a:lnTo>
                      <a:pt x="665" y="235"/>
                    </a:lnTo>
                    <a:lnTo>
                      <a:pt x="647" y="254"/>
                    </a:lnTo>
                    <a:lnTo>
                      <a:pt x="630" y="270"/>
                    </a:lnTo>
                    <a:lnTo>
                      <a:pt x="613" y="280"/>
                    </a:lnTo>
                    <a:lnTo>
                      <a:pt x="600" y="287"/>
                    </a:lnTo>
                    <a:lnTo>
                      <a:pt x="557" y="295"/>
                    </a:lnTo>
                    <a:lnTo>
                      <a:pt x="520" y="295"/>
                    </a:lnTo>
                    <a:lnTo>
                      <a:pt x="492" y="289"/>
                    </a:lnTo>
                    <a:lnTo>
                      <a:pt x="475" y="276"/>
                    </a:lnTo>
                    <a:lnTo>
                      <a:pt x="462" y="259"/>
                    </a:lnTo>
                    <a:lnTo>
                      <a:pt x="455" y="239"/>
                    </a:lnTo>
                    <a:lnTo>
                      <a:pt x="455" y="218"/>
                    </a:lnTo>
                    <a:lnTo>
                      <a:pt x="460" y="194"/>
                    </a:lnTo>
                    <a:close/>
                  </a:path>
                </a:pathLst>
              </a:custGeom>
              <a:solidFill>
                <a:srgbClr val="c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2517840" y="3506760"/>
                <a:ext cx="12600" cy="47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2530440" y="3468600"/>
                <a:ext cx="144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2544840" y="3462120"/>
                <a:ext cx="14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2544840" y="3448080"/>
                <a:ext cx="14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544840" y="344160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2548080" y="3424320"/>
                <a:ext cx="14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548080" y="3403440"/>
                <a:ext cx="28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2550960" y="3386160"/>
                <a:ext cx="50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2556000" y="337320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flipV="1">
                <a:off x="2550960" y="3355560"/>
                <a:ext cx="50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2550960" y="3328560"/>
                <a:ext cx="180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 flipV="1">
                <a:off x="2548080" y="3317400"/>
                <a:ext cx="28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 flipV="1">
                <a:off x="2541600" y="3304800"/>
                <a:ext cx="648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 flipV="1">
                <a:off x="2527200" y="3290760"/>
                <a:ext cx="144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 flipV="1">
                <a:off x="2517840" y="3281400"/>
                <a:ext cx="93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 flipV="1">
                <a:off x="2503440" y="3269880"/>
                <a:ext cx="1440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2490480" y="3257280"/>
                <a:ext cx="126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472840" y="3252600"/>
                <a:ext cx="176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2458800" y="324936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2449080" y="324612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2178000" y="3246480"/>
                <a:ext cx="2714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178000" y="3252960"/>
                <a:ext cx="31680" cy="22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209680" y="347976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2206800" y="3516480"/>
                <a:ext cx="28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6800" y="3537000"/>
                <a:ext cx="14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2201760" y="3544920"/>
                <a:ext cx="50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2195280" y="3557520"/>
                <a:ext cx="6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2189160" y="3571920"/>
                <a:ext cx="648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2181240" y="3584520"/>
                <a:ext cx="79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2171880" y="3595680"/>
                <a:ext cx="93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2168280" y="360504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2150640" y="3616200"/>
                <a:ext cx="176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2144520" y="363060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2133360" y="363384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2123640" y="3639960"/>
                <a:ext cx="9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2112480" y="364644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2099880" y="364968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2088720" y="3649680"/>
                <a:ext cx="111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2076120" y="3654360"/>
                <a:ext cx="12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 flipV="1">
                <a:off x="2068560" y="3649320"/>
                <a:ext cx="79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2055600" y="364968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 flipV="1">
                <a:off x="2044440" y="364608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 flipV="1">
                <a:off x="2034720" y="364284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 flipV="1">
                <a:off x="2023560" y="363672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 flipV="1">
                <a:off x="1972800" y="3613320"/>
                <a:ext cx="5076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1958760" y="3613320"/>
                <a:ext cx="14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1949040" y="360972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 flipV="1">
                <a:off x="1935000" y="3605040"/>
                <a:ext cx="144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1925640" y="36050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1914120" y="3605040"/>
                <a:ext cx="111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1905120" y="361008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1893600" y="361332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1883880" y="3613320"/>
                <a:ext cx="97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1869840" y="3616200"/>
                <a:ext cx="140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1863720" y="362268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1852200" y="363060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1848960" y="363060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1836360" y="3637080"/>
                <a:ext cx="126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1831680" y="3646440"/>
                <a:ext cx="46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1821960" y="3660840"/>
                <a:ext cx="97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1812960" y="3666960"/>
                <a:ext cx="93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1807920" y="3678120"/>
                <a:ext cx="468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1801800" y="3691080"/>
                <a:ext cx="648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1798200" y="370188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1794960" y="371160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795320" y="3726000"/>
                <a:ext cx="18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1792440" y="37400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1787400" y="3749760"/>
                <a:ext cx="50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87400" y="376380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787400" y="3780000"/>
                <a:ext cx="79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95320" y="3800520"/>
                <a:ext cx="180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5320" y="3817800"/>
                <a:ext cx="64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801800" y="383868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05040" y="3841920"/>
                <a:ext cx="3492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839960" y="3897360"/>
                <a:ext cx="126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852560" y="390996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870200" y="3913200"/>
                <a:ext cx="17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87480" y="392436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905120" y="3927600"/>
                <a:ext cx="2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925640" y="3930480"/>
                <a:ext cx="15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1941480" y="3927600"/>
                <a:ext cx="17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V="1">
                <a:off x="1959120" y="3921120"/>
                <a:ext cx="172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1976400" y="3913200"/>
                <a:ext cx="176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1994040" y="390960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000160" y="3909960"/>
                <a:ext cx="11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2011320" y="390636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021040" y="39067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050920" y="39067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062080" y="390996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76480" y="3913200"/>
                <a:ext cx="126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89080" y="3927600"/>
                <a:ext cx="2376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112840" y="394812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116080" y="3962520"/>
                <a:ext cx="79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124000" y="3971880"/>
                <a:ext cx="648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130480" y="3989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>
                <a:off x="2126880" y="402732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2123640" y="404028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>
                <a:off x="2062080" y="4048200"/>
                <a:ext cx="61920" cy="177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062080" y="4226040"/>
                <a:ext cx="26676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328840" y="4259160"/>
                <a:ext cx="205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349360" y="4267080"/>
                <a:ext cx="64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355840" y="4270320"/>
                <a:ext cx="176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373480" y="4280040"/>
                <a:ext cx="79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381400" y="4282920"/>
                <a:ext cx="93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390760" y="4290840"/>
                <a:ext cx="270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417760" y="432108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425680" y="432756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428920" y="4338720"/>
                <a:ext cx="32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432160" y="434484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435400" y="43592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438280" y="43689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2431800" y="4389480"/>
                <a:ext cx="61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2428560" y="441648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2417400" y="4440240"/>
                <a:ext cx="1116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2414160" y="4465800"/>
                <a:ext cx="32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414520" y="44816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414520" y="451332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417760" y="4530600"/>
                <a:ext cx="1116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428920" y="45496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432160" y="456408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435400" y="4570560"/>
                <a:ext cx="140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449440" y="4584600"/>
                <a:ext cx="9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2459160" y="4591080"/>
                <a:ext cx="140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473200" y="4605480"/>
                <a:ext cx="129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486160" y="4614840"/>
                <a:ext cx="140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500200" y="462600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517840" y="462600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2530440" y="4629240"/>
                <a:ext cx="176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548080" y="4635360"/>
                <a:ext cx="17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2565360" y="4632480"/>
                <a:ext cx="41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2606760" y="46288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2619360" y="462564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2637000" y="461952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2647800" y="4608000"/>
                <a:ext cx="129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2660760" y="4601880"/>
                <a:ext cx="140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2674800" y="4587840"/>
                <a:ext cx="97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2684520" y="4578480"/>
                <a:ext cx="111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2695680" y="4564080"/>
                <a:ext cx="6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2701800" y="454968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2712960" y="4536720"/>
                <a:ext cx="18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2712960" y="45226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2719440" y="450972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2719440" y="449280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 flipV="1">
                <a:off x="2719080" y="447480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 flipV="1">
                <a:off x="2715840" y="446076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2716200" y="44578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 flipV="1">
                <a:off x="2712600" y="444780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2712960" y="4433760"/>
                <a:ext cx="18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flipV="1">
                <a:off x="2709360" y="44208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2709720" y="4379400"/>
                <a:ext cx="180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2709720" y="436248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2712960" y="43480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2719440" y="4338720"/>
                <a:ext cx="61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2725560" y="4327200"/>
                <a:ext cx="8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88680" y="3050640"/>
              <a:ext cx="2599200" cy="1711800"/>
              <a:chOff x="688680" y="3050640"/>
              <a:chExt cx="2599200" cy="1711800"/>
            </a:xfrm>
          </p:grpSpPr>
          <p:sp>
            <p:nvSpPr>
              <p:cNvPr id="1286" name=""/>
              <p:cNvSpPr/>
              <p:nvPr/>
            </p:nvSpPr>
            <p:spPr>
              <a:xfrm flipV="1">
                <a:off x="2733840" y="432108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2739960" y="4306680"/>
                <a:ext cx="97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2749680" y="430344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2763720" y="4293720"/>
                <a:ext cx="111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V="1">
                <a:off x="2774880" y="42904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787480" y="4290840"/>
                <a:ext cx="14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01880" y="4290840"/>
                <a:ext cx="41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843280" y="429084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855880" y="4294080"/>
                <a:ext cx="316080" cy="9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3171960" y="4184640"/>
                <a:ext cx="56880" cy="20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3228840" y="4160880"/>
                <a:ext cx="792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3236760" y="414288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 flipV="1">
                <a:off x="3236400" y="412236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 flipV="1">
                <a:off x="3205080" y="4067280"/>
                <a:ext cx="3168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3184200" y="4054320"/>
                <a:ext cx="205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 flipV="1">
                <a:off x="3178080" y="4047840"/>
                <a:ext cx="64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flipV="1">
                <a:off x="3168720" y="404316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 flipV="1">
                <a:off x="3157200" y="40399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3147480" y="404028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 flipV="1">
                <a:off x="3137040" y="40366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3116160" y="4037040"/>
                <a:ext cx="20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3106800" y="40370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H="1">
                <a:off x="3092400" y="4040280"/>
                <a:ext cx="14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3088800" y="404028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H="1">
                <a:off x="3074760" y="4043520"/>
                <a:ext cx="140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3062160" y="4048200"/>
                <a:ext cx="129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3050640" y="4051440"/>
                <a:ext cx="111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3020760" y="40543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flipV="1">
                <a:off x="3009600" y="4051440"/>
                <a:ext cx="111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2997000" y="405144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flipV="1">
                <a:off x="2982960" y="4043520"/>
                <a:ext cx="144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flipV="1">
                <a:off x="2968560" y="40399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flipV="1">
                <a:off x="2955600" y="4027320"/>
                <a:ext cx="126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 flipV="1">
                <a:off x="2944440" y="4012920"/>
                <a:ext cx="111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 flipV="1">
                <a:off x="2938320" y="400320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 flipV="1">
                <a:off x="2931840" y="3989160"/>
                <a:ext cx="61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 flipV="1">
                <a:off x="2924280" y="3975120"/>
                <a:ext cx="7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 flipV="1">
                <a:off x="2920680" y="395712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2921040" y="3933720"/>
                <a:ext cx="14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 flipV="1">
                <a:off x="2917440" y="391284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2917800" y="38736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V="1">
                <a:off x="2917800" y="3852720"/>
                <a:ext cx="32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2921040" y="383184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2921040" y="3824280"/>
                <a:ext cx="14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2921040" y="3814920"/>
                <a:ext cx="79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V="1">
                <a:off x="2928960" y="3787560"/>
                <a:ext cx="936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2938320" y="3763440"/>
                <a:ext cx="2088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2959200" y="3749400"/>
                <a:ext cx="237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2982960" y="3743280"/>
                <a:ext cx="30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013200" y="3743280"/>
                <a:ext cx="28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041640" y="374328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051000" y="3743280"/>
                <a:ext cx="8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059280" y="374328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065400" y="3749760"/>
                <a:ext cx="126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078000" y="3763800"/>
                <a:ext cx="20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098880" y="3773520"/>
                <a:ext cx="17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116160" y="3787920"/>
                <a:ext cx="176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133800" y="379728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147840" y="380052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154320" y="380844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168720" y="38116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3208320" y="3803760"/>
                <a:ext cx="111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V="1">
                <a:off x="3219480" y="380016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3228840" y="37969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3240000" y="3787920"/>
                <a:ext cx="97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3249720" y="3780000"/>
                <a:ext cx="79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3257640" y="377352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267000" y="376344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3273480" y="375876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3278160" y="374328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3278160" y="373536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3281400" y="37224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3284640" y="371124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3284640" y="3643200"/>
                <a:ext cx="3240" cy="68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flipV="1">
                <a:off x="3284280" y="3584160"/>
                <a:ext cx="32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flipV="1">
                <a:off x="3281040" y="3526920"/>
                <a:ext cx="324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flipV="1">
                <a:off x="3277800" y="3468240"/>
                <a:ext cx="32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flipV="1">
                <a:off x="3266640" y="3411000"/>
                <a:ext cx="1116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flipV="1">
                <a:off x="3260520" y="3355920"/>
                <a:ext cx="612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flipV="1">
                <a:off x="3257280" y="335232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flipV="1">
                <a:off x="2941560" y="3273480"/>
                <a:ext cx="316080" cy="79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 flipV="1">
                <a:off x="2928600" y="32698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903040" y="3270240"/>
                <a:ext cx="25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2894040" y="32702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879640" y="3273480"/>
                <a:ext cx="14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873160" y="327348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2863440" y="3276720"/>
                <a:ext cx="97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2852280" y="3281400"/>
                <a:ext cx="111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2843280" y="329076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2831760" y="3297240"/>
                <a:ext cx="111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2828520" y="33084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2822400" y="332100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2819520" y="3328920"/>
                <a:ext cx="288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814480" y="3346560"/>
                <a:ext cx="50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2811600" y="3352680"/>
                <a:ext cx="28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11600" y="336708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811600" y="3379680"/>
                <a:ext cx="28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814480" y="3386160"/>
                <a:ext cx="18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814480" y="3394080"/>
                <a:ext cx="792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822400" y="341136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825640" y="342432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828880" y="3441600"/>
                <a:ext cx="1764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846520" y="3468600"/>
                <a:ext cx="1260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859120" y="3495600"/>
                <a:ext cx="46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863800" y="351648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2863440" y="353700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2858760" y="3560760"/>
                <a:ext cx="46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2852640" y="3581280"/>
                <a:ext cx="648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2843280" y="3598920"/>
                <a:ext cx="936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2814480" y="3619440"/>
                <a:ext cx="28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2787120" y="3649680"/>
                <a:ext cx="2700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2760840" y="3675240"/>
                <a:ext cx="266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>
                <a:off x="2739960" y="3691080"/>
                <a:ext cx="2088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2671560" y="3701880"/>
                <a:ext cx="680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2612880" y="371484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flipV="1">
                <a:off x="2568240" y="3704760"/>
                <a:ext cx="442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flipV="1">
                <a:off x="2541240" y="3684240"/>
                <a:ext cx="270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2520720" y="3657240"/>
                <a:ext cx="205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 flipV="1">
                <a:off x="2509560" y="3625920"/>
                <a:ext cx="1116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2509920" y="3592080"/>
                <a:ext cx="144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2509920" y="3554280"/>
                <a:ext cx="792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517840" y="355428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4480" y="3092400"/>
                <a:ext cx="1300320" cy="1670040"/>
              </a:xfrm>
              <a:custGeom>
                <a:avLst/>
                <a:gdLst/>
                <a:ahLst/>
                <a:rect l="l" t="t" r="r" b="b"/>
                <a:pathLst>
                  <a:path w="819" h="1052">
                    <a:moveTo>
                      <a:pt x="237" y="466"/>
                    </a:moveTo>
                    <a:lnTo>
                      <a:pt x="233" y="459"/>
                    </a:lnTo>
                    <a:lnTo>
                      <a:pt x="226" y="453"/>
                    </a:lnTo>
                    <a:lnTo>
                      <a:pt x="220" y="451"/>
                    </a:lnTo>
                    <a:lnTo>
                      <a:pt x="211" y="446"/>
                    </a:lnTo>
                    <a:lnTo>
                      <a:pt x="205" y="442"/>
                    </a:lnTo>
                    <a:lnTo>
                      <a:pt x="194" y="440"/>
                    </a:lnTo>
                    <a:lnTo>
                      <a:pt x="192" y="440"/>
                    </a:lnTo>
                    <a:lnTo>
                      <a:pt x="174" y="444"/>
                    </a:lnTo>
                    <a:lnTo>
                      <a:pt x="155" y="451"/>
                    </a:lnTo>
                    <a:lnTo>
                      <a:pt x="136" y="453"/>
                    </a:lnTo>
                    <a:lnTo>
                      <a:pt x="120" y="461"/>
                    </a:lnTo>
                    <a:lnTo>
                      <a:pt x="110" y="466"/>
                    </a:lnTo>
                    <a:lnTo>
                      <a:pt x="105" y="468"/>
                    </a:lnTo>
                    <a:lnTo>
                      <a:pt x="95" y="470"/>
                    </a:lnTo>
                    <a:lnTo>
                      <a:pt x="86" y="472"/>
                    </a:lnTo>
                    <a:lnTo>
                      <a:pt x="62" y="472"/>
                    </a:lnTo>
                    <a:lnTo>
                      <a:pt x="51" y="468"/>
                    </a:lnTo>
                    <a:lnTo>
                      <a:pt x="45" y="466"/>
                    </a:lnTo>
                    <a:lnTo>
                      <a:pt x="34" y="459"/>
                    </a:lnTo>
                    <a:lnTo>
                      <a:pt x="26" y="453"/>
                    </a:lnTo>
                    <a:lnTo>
                      <a:pt x="17" y="444"/>
                    </a:lnTo>
                    <a:lnTo>
                      <a:pt x="13" y="438"/>
                    </a:lnTo>
                    <a:lnTo>
                      <a:pt x="6" y="427"/>
                    </a:lnTo>
                    <a:lnTo>
                      <a:pt x="4" y="416"/>
                    </a:lnTo>
                    <a:lnTo>
                      <a:pt x="4" y="405"/>
                    </a:lnTo>
                    <a:lnTo>
                      <a:pt x="0" y="395"/>
                    </a:lnTo>
                    <a:lnTo>
                      <a:pt x="0" y="384"/>
                    </a:lnTo>
                    <a:lnTo>
                      <a:pt x="21" y="179"/>
                    </a:lnTo>
                    <a:lnTo>
                      <a:pt x="215" y="218"/>
                    </a:lnTo>
                    <a:lnTo>
                      <a:pt x="228" y="222"/>
                    </a:lnTo>
                    <a:lnTo>
                      <a:pt x="282" y="222"/>
                    </a:lnTo>
                    <a:lnTo>
                      <a:pt x="286" y="218"/>
                    </a:lnTo>
                    <a:lnTo>
                      <a:pt x="295" y="216"/>
                    </a:lnTo>
                    <a:lnTo>
                      <a:pt x="302" y="211"/>
                    </a:lnTo>
                    <a:lnTo>
                      <a:pt x="310" y="205"/>
                    </a:lnTo>
                    <a:lnTo>
                      <a:pt x="310" y="203"/>
                    </a:lnTo>
                    <a:lnTo>
                      <a:pt x="317" y="196"/>
                    </a:lnTo>
                    <a:lnTo>
                      <a:pt x="323" y="190"/>
                    </a:lnTo>
                    <a:lnTo>
                      <a:pt x="327" y="179"/>
                    </a:lnTo>
                    <a:lnTo>
                      <a:pt x="332" y="175"/>
                    </a:lnTo>
                    <a:lnTo>
                      <a:pt x="332" y="166"/>
                    </a:lnTo>
                    <a:lnTo>
                      <a:pt x="334" y="157"/>
                    </a:lnTo>
                    <a:lnTo>
                      <a:pt x="334" y="140"/>
                    </a:lnTo>
                    <a:lnTo>
                      <a:pt x="332" y="132"/>
                    </a:lnTo>
                    <a:lnTo>
                      <a:pt x="332" y="123"/>
                    </a:lnTo>
                    <a:lnTo>
                      <a:pt x="327" y="114"/>
                    </a:lnTo>
                    <a:lnTo>
                      <a:pt x="325" y="106"/>
                    </a:lnTo>
                    <a:lnTo>
                      <a:pt x="323" y="95"/>
                    </a:lnTo>
                    <a:lnTo>
                      <a:pt x="323" y="78"/>
                    </a:lnTo>
                    <a:lnTo>
                      <a:pt x="325" y="69"/>
                    </a:lnTo>
                    <a:lnTo>
                      <a:pt x="330" y="60"/>
                    </a:lnTo>
                    <a:lnTo>
                      <a:pt x="332" y="50"/>
                    </a:lnTo>
                    <a:lnTo>
                      <a:pt x="336" y="43"/>
                    </a:lnTo>
                    <a:lnTo>
                      <a:pt x="343" y="37"/>
                    </a:lnTo>
                    <a:lnTo>
                      <a:pt x="347" y="26"/>
                    </a:lnTo>
                    <a:lnTo>
                      <a:pt x="353" y="24"/>
                    </a:lnTo>
                    <a:lnTo>
                      <a:pt x="362" y="17"/>
                    </a:lnTo>
                    <a:lnTo>
                      <a:pt x="371" y="13"/>
                    </a:lnTo>
                    <a:lnTo>
                      <a:pt x="379" y="6"/>
                    </a:lnTo>
                    <a:lnTo>
                      <a:pt x="388" y="2"/>
                    </a:lnTo>
                    <a:lnTo>
                      <a:pt x="401" y="0"/>
                    </a:lnTo>
                    <a:lnTo>
                      <a:pt x="409" y="0"/>
                    </a:lnTo>
                    <a:lnTo>
                      <a:pt x="422" y="0"/>
                    </a:lnTo>
                    <a:lnTo>
                      <a:pt x="431" y="0"/>
                    </a:lnTo>
                    <a:lnTo>
                      <a:pt x="442" y="0"/>
                    </a:lnTo>
                    <a:lnTo>
                      <a:pt x="453" y="0"/>
                    </a:lnTo>
                    <a:lnTo>
                      <a:pt x="465" y="2"/>
                    </a:lnTo>
                    <a:lnTo>
                      <a:pt x="474" y="9"/>
                    </a:lnTo>
                    <a:lnTo>
                      <a:pt x="485" y="13"/>
                    </a:lnTo>
                    <a:lnTo>
                      <a:pt x="489" y="15"/>
                    </a:lnTo>
                    <a:lnTo>
                      <a:pt x="496" y="19"/>
                    </a:lnTo>
                    <a:lnTo>
                      <a:pt x="502" y="24"/>
                    </a:lnTo>
                    <a:lnTo>
                      <a:pt x="509" y="30"/>
                    </a:lnTo>
                    <a:lnTo>
                      <a:pt x="511" y="37"/>
                    </a:lnTo>
                    <a:lnTo>
                      <a:pt x="517" y="43"/>
                    </a:lnTo>
                    <a:lnTo>
                      <a:pt x="519" y="47"/>
                    </a:lnTo>
                    <a:lnTo>
                      <a:pt x="524" y="56"/>
                    </a:lnTo>
                    <a:lnTo>
                      <a:pt x="526" y="67"/>
                    </a:lnTo>
                    <a:lnTo>
                      <a:pt x="526" y="97"/>
                    </a:lnTo>
                    <a:lnTo>
                      <a:pt x="524" y="108"/>
                    </a:lnTo>
                    <a:lnTo>
                      <a:pt x="519" y="123"/>
                    </a:lnTo>
                    <a:lnTo>
                      <a:pt x="513" y="136"/>
                    </a:lnTo>
                    <a:lnTo>
                      <a:pt x="511" y="151"/>
                    </a:lnTo>
                    <a:lnTo>
                      <a:pt x="509" y="164"/>
                    </a:lnTo>
                    <a:lnTo>
                      <a:pt x="509" y="179"/>
                    </a:lnTo>
                    <a:lnTo>
                      <a:pt x="511" y="185"/>
                    </a:lnTo>
                    <a:lnTo>
                      <a:pt x="513" y="192"/>
                    </a:lnTo>
                    <a:lnTo>
                      <a:pt x="519" y="201"/>
                    </a:lnTo>
                    <a:lnTo>
                      <a:pt x="524" y="205"/>
                    </a:lnTo>
                    <a:lnTo>
                      <a:pt x="530" y="213"/>
                    </a:lnTo>
                    <a:lnTo>
                      <a:pt x="535" y="216"/>
                    </a:lnTo>
                    <a:lnTo>
                      <a:pt x="543" y="220"/>
                    </a:lnTo>
                    <a:lnTo>
                      <a:pt x="550" y="222"/>
                    </a:lnTo>
                    <a:lnTo>
                      <a:pt x="554" y="224"/>
                    </a:lnTo>
                    <a:lnTo>
                      <a:pt x="599" y="224"/>
                    </a:lnTo>
                    <a:lnTo>
                      <a:pt x="619" y="222"/>
                    </a:lnTo>
                    <a:lnTo>
                      <a:pt x="785" y="201"/>
                    </a:lnTo>
                    <a:lnTo>
                      <a:pt x="817" y="341"/>
                    </a:lnTo>
                    <a:lnTo>
                      <a:pt x="819" y="356"/>
                    </a:lnTo>
                    <a:lnTo>
                      <a:pt x="817" y="373"/>
                    </a:lnTo>
                    <a:lnTo>
                      <a:pt x="813" y="392"/>
                    </a:lnTo>
                    <a:lnTo>
                      <a:pt x="808" y="403"/>
                    </a:lnTo>
                    <a:lnTo>
                      <a:pt x="802" y="412"/>
                    </a:lnTo>
                    <a:lnTo>
                      <a:pt x="785" y="425"/>
                    </a:lnTo>
                    <a:lnTo>
                      <a:pt x="757" y="436"/>
                    </a:lnTo>
                    <a:lnTo>
                      <a:pt x="714" y="438"/>
                    </a:lnTo>
                    <a:lnTo>
                      <a:pt x="660" y="429"/>
                    </a:lnTo>
                    <a:lnTo>
                      <a:pt x="642" y="429"/>
                    </a:lnTo>
                    <a:lnTo>
                      <a:pt x="632" y="431"/>
                    </a:lnTo>
                    <a:lnTo>
                      <a:pt x="627" y="438"/>
                    </a:lnTo>
                    <a:lnTo>
                      <a:pt x="614" y="451"/>
                    </a:lnTo>
                    <a:lnTo>
                      <a:pt x="606" y="468"/>
                    </a:lnTo>
                    <a:lnTo>
                      <a:pt x="601" y="487"/>
                    </a:lnTo>
                    <a:lnTo>
                      <a:pt x="597" y="507"/>
                    </a:lnTo>
                    <a:lnTo>
                      <a:pt x="597" y="533"/>
                    </a:lnTo>
                    <a:lnTo>
                      <a:pt x="599" y="556"/>
                    </a:lnTo>
                    <a:lnTo>
                      <a:pt x="604" y="576"/>
                    </a:lnTo>
                    <a:lnTo>
                      <a:pt x="606" y="593"/>
                    </a:lnTo>
                    <a:lnTo>
                      <a:pt x="614" y="604"/>
                    </a:lnTo>
                    <a:lnTo>
                      <a:pt x="621" y="617"/>
                    </a:lnTo>
                    <a:lnTo>
                      <a:pt x="632" y="627"/>
                    </a:lnTo>
                    <a:lnTo>
                      <a:pt x="662" y="645"/>
                    </a:lnTo>
                    <a:lnTo>
                      <a:pt x="683" y="634"/>
                    </a:lnTo>
                    <a:lnTo>
                      <a:pt x="694" y="630"/>
                    </a:lnTo>
                    <a:lnTo>
                      <a:pt x="703" y="627"/>
                    </a:lnTo>
                    <a:lnTo>
                      <a:pt x="711" y="623"/>
                    </a:lnTo>
                    <a:lnTo>
                      <a:pt x="716" y="621"/>
                    </a:lnTo>
                    <a:lnTo>
                      <a:pt x="724" y="619"/>
                    </a:lnTo>
                    <a:lnTo>
                      <a:pt x="731" y="617"/>
                    </a:lnTo>
                    <a:lnTo>
                      <a:pt x="748" y="617"/>
                    </a:lnTo>
                    <a:lnTo>
                      <a:pt x="752" y="619"/>
                    </a:lnTo>
                    <a:lnTo>
                      <a:pt x="761" y="621"/>
                    </a:lnTo>
                    <a:lnTo>
                      <a:pt x="765" y="625"/>
                    </a:lnTo>
                    <a:lnTo>
                      <a:pt x="772" y="627"/>
                    </a:lnTo>
                    <a:lnTo>
                      <a:pt x="780" y="632"/>
                    </a:lnTo>
                    <a:lnTo>
                      <a:pt x="785" y="638"/>
                    </a:lnTo>
                    <a:lnTo>
                      <a:pt x="787" y="645"/>
                    </a:lnTo>
                    <a:lnTo>
                      <a:pt x="793" y="651"/>
                    </a:lnTo>
                    <a:lnTo>
                      <a:pt x="795" y="658"/>
                    </a:lnTo>
                    <a:lnTo>
                      <a:pt x="795" y="664"/>
                    </a:lnTo>
                    <a:lnTo>
                      <a:pt x="800" y="673"/>
                    </a:lnTo>
                    <a:lnTo>
                      <a:pt x="800" y="688"/>
                    </a:lnTo>
                    <a:lnTo>
                      <a:pt x="798" y="699"/>
                    </a:lnTo>
                    <a:lnTo>
                      <a:pt x="772" y="819"/>
                    </a:lnTo>
                    <a:lnTo>
                      <a:pt x="647" y="815"/>
                    </a:lnTo>
                    <a:lnTo>
                      <a:pt x="550" y="815"/>
                    </a:lnTo>
                    <a:lnTo>
                      <a:pt x="524" y="817"/>
                    </a:lnTo>
                    <a:lnTo>
                      <a:pt x="513" y="819"/>
                    </a:lnTo>
                    <a:lnTo>
                      <a:pt x="500" y="828"/>
                    </a:lnTo>
                    <a:lnTo>
                      <a:pt x="491" y="834"/>
                    </a:lnTo>
                    <a:lnTo>
                      <a:pt x="487" y="843"/>
                    </a:lnTo>
                    <a:lnTo>
                      <a:pt x="481" y="852"/>
                    </a:lnTo>
                    <a:lnTo>
                      <a:pt x="476" y="858"/>
                    </a:lnTo>
                    <a:lnTo>
                      <a:pt x="474" y="867"/>
                    </a:lnTo>
                    <a:lnTo>
                      <a:pt x="472" y="877"/>
                    </a:lnTo>
                    <a:lnTo>
                      <a:pt x="472" y="888"/>
                    </a:lnTo>
                    <a:lnTo>
                      <a:pt x="476" y="899"/>
                    </a:lnTo>
                    <a:lnTo>
                      <a:pt x="476" y="908"/>
                    </a:lnTo>
                    <a:lnTo>
                      <a:pt x="481" y="916"/>
                    </a:lnTo>
                    <a:lnTo>
                      <a:pt x="485" y="925"/>
                    </a:lnTo>
                    <a:lnTo>
                      <a:pt x="491" y="949"/>
                    </a:lnTo>
                    <a:lnTo>
                      <a:pt x="491" y="996"/>
                    </a:lnTo>
                    <a:lnTo>
                      <a:pt x="489" y="1005"/>
                    </a:lnTo>
                    <a:lnTo>
                      <a:pt x="485" y="1013"/>
                    </a:lnTo>
                    <a:lnTo>
                      <a:pt x="478" y="1020"/>
                    </a:lnTo>
                    <a:lnTo>
                      <a:pt x="470" y="1031"/>
                    </a:lnTo>
                    <a:lnTo>
                      <a:pt x="457" y="1037"/>
                    </a:lnTo>
                    <a:lnTo>
                      <a:pt x="448" y="1044"/>
                    </a:lnTo>
                    <a:lnTo>
                      <a:pt x="433" y="1046"/>
                    </a:lnTo>
                    <a:lnTo>
                      <a:pt x="422" y="1050"/>
                    </a:lnTo>
                    <a:lnTo>
                      <a:pt x="409" y="1050"/>
                    </a:lnTo>
                    <a:lnTo>
                      <a:pt x="396" y="1052"/>
                    </a:lnTo>
                    <a:lnTo>
                      <a:pt x="375" y="1052"/>
                    </a:lnTo>
                    <a:lnTo>
                      <a:pt x="362" y="1050"/>
                    </a:lnTo>
                    <a:lnTo>
                      <a:pt x="349" y="1046"/>
                    </a:lnTo>
                    <a:lnTo>
                      <a:pt x="336" y="1044"/>
                    </a:lnTo>
                    <a:lnTo>
                      <a:pt x="325" y="1037"/>
                    </a:lnTo>
                    <a:lnTo>
                      <a:pt x="312" y="1031"/>
                    </a:lnTo>
                    <a:lnTo>
                      <a:pt x="304" y="1024"/>
                    </a:lnTo>
                    <a:lnTo>
                      <a:pt x="297" y="1015"/>
                    </a:lnTo>
                    <a:lnTo>
                      <a:pt x="291" y="1005"/>
                    </a:lnTo>
                    <a:lnTo>
                      <a:pt x="286" y="996"/>
                    </a:lnTo>
                    <a:lnTo>
                      <a:pt x="282" y="985"/>
                    </a:lnTo>
                    <a:lnTo>
                      <a:pt x="278" y="975"/>
                    </a:lnTo>
                    <a:lnTo>
                      <a:pt x="278" y="955"/>
                    </a:lnTo>
                    <a:lnTo>
                      <a:pt x="282" y="944"/>
                    </a:lnTo>
                    <a:lnTo>
                      <a:pt x="286" y="931"/>
                    </a:lnTo>
                    <a:lnTo>
                      <a:pt x="293" y="916"/>
                    </a:lnTo>
                    <a:lnTo>
                      <a:pt x="297" y="901"/>
                    </a:lnTo>
                    <a:lnTo>
                      <a:pt x="299" y="888"/>
                    </a:lnTo>
                    <a:lnTo>
                      <a:pt x="299" y="871"/>
                    </a:lnTo>
                    <a:lnTo>
                      <a:pt x="299" y="862"/>
                    </a:lnTo>
                    <a:lnTo>
                      <a:pt x="297" y="854"/>
                    </a:lnTo>
                    <a:lnTo>
                      <a:pt x="295" y="849"/>
                    </a:lnTo>
                    <a:lnTo>
                      <a:pt x="293" y="841"/>
                    </a:lnTo>
                    <a:lnTo>
                      <a:pt x="286" y="834"/>
                    </a:lnTo>
                    <a:lnTo>
                      <a:pt x="284" y="828"/>
                    </a:lnTo>
                    <a:lnTo>
                      <a:pt x="267" y="811"/>
                    </a:lnTo>
                    <a:lnTo>
                      <a:pt x="261" y="806"/>
                    </a:lnTo>
                    <a:lnTo>
                      <a:pt x="252" y="804"/>
                    </a:lnTo>
                    <a:lnTo>
                      <a:pt x="241" y="800"/>
                    </a:lnTo>
                    <a:lnTo>
                      <a:pt x="233" y="796"/>
                    </a:lnTo>
                    <a:lnTo>
                      <a:pt x="220" y="793"/>
                    </a:lnTo>
                    <a:lnTo>
                      <a:pt x="211" y="791"/>
                    </a:lnTo>
                    <a:lnTo>
                      <a:pt x="198" y="789"/>
                    </a:lnTo>
                    <a:lnTo>
                      <a:pt x="187" y="789"/>
                    </a:lnTo>
                    <a:lnTo>
                      <a:pt x="181" y="787"/>
                    </a:lnTo>
                    <a:lnTo>
                      <a:pt x="151" y="787"/>
                    </a:lnTo>
                    <a:lnTo>
                      <a:pt x="118" y="789"/>
                    </a:lnTo>
                    <a:lnTo>
                      <a:pt x="86" y="789"/>
                    </a:lnTo>
                    <a:lnTo>
                      <a:pt x="54" y="793"/>
                    </a:lnTo>
                    <a:lnTo>
                      <a:pt x="26" y="793"/>
                    </a:lnTo>
                    <a:lnTo>
                      <a:pt x="10" y="688"/>
                    </a:lnTo>
                    <a:lnTo>
                      <a:pt x="10" y="673"/>
                    </a:lnTo>
                    <a:lnTo>
                      <a:pt x="13" y="664"/>
                    </a:lnTo>
                    <a:lnTo>
                      <a:pt x="15" y="660"/>
                    </a:lnTo>
                    <a:lnTo>
                      <a:pt x="15" y="653"/>
                    </a:lnTo>
                    <a:lnTo>
                      <a:pt x="19" y="649"/>
                    </a:lnTo>
                    <a:lnTo>
                      <a:pt x="23" y="640"/>
                    </a:lnTo>
                    <a:lnTo>
                      <a:pt x="34" y="630"/>
                    </a:lnTo>
                    <a:lnTo>
                      <a:pt x="38" y="627"/>
                    </a:lnTo>
                    <a:lnTo>
                      <a:pt x="47" y="623"/>
                    </a:lnTo>
                    <a:lnTo>
                      <a:pt x="54" y="621"/>
                    </a:lnTo>
                    <a:lnTo>
                      <a:pt x="60" y="619"/>
                    </a:lnTo>
                    <a:lnTo>
                      <a:pt x="67" y="617"/>
                    </a:lnTo>
                    <a:lnTo>
                      <a:pt x="79" y="619"/>
                    </a:lnTo>
                    <a:lnTo>
                      <a:pt x="86" y="619"/>
                    </a:lnTo>
                    <a:lnTo>
                      <a:pt x="177" y="625"/>
                    </a:lnTo>
                    <a:lnTo>
                      <a:pt x="187" y="623"/>
                    </a:lnTo>
                    <a:lnTo>
                      <a:pt x="194" y="621"/>
                    </a:lnTo>
                    <a:lnTo>
                      <a:pt x="205" y="617"/>
                    </a:lnTo>
                    <a:lnTo>
                      <a:pt x="211" y="612"/>
                    </a:lnTo>
                    <a:lnTo>
                      <a:pt x="220" y="604"/>
                    </a:lnTo>
                    <a:lnTo>
                      <a:pt x="224" y="602"/>
                    </a:lnTo>
                    <a:lnTo>
                      <a:pt x="230" y="591"/>
                    </a:lnTo>
                    <a:lnTo>
                      <a:pt x="237" y="580"/>
                    </a:lnTo>
                    <a:lnTo>
                      <a:pt x="239" y="569"/>
                    </a:lnTo>
                    <a:lnTo>
                      <a:pt x="246" y="554"/>
                    </a:lnTo>
                    <a:lnTo>
                      <a:pt x="250" y="489"/>
                    </a:lnTo>
                    <a:lnTo>
                      <a:pt x="246" y="481"/>
                    </a:lnTo>
                    <a:lnTo>
                      <a:pt x="241" y="472"/>
                    </a:lnTo>
                    <a:lnTo>
                      <a:pt x="237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9040" y="3051000"/>
                <a:ext cx="1298520" cy="1670400"/>
              </a:xfrm>
              <a:custGeom>
                <a:avLst/>
                <a:gdLst/>
                <a:ahLst/>
                <a:rect l="l" t="t" r="r" b="b"/>
                <a:pathLst>
                  <a:path w="818" h="1052">
                    <a:moveTo>
                      <a:pt x="237" y="466"/>
                    </a:moveTo>
                    <a:lnTo>
                      <a:pt x="231" y="462"/>
                    </a:lnTo>
                    <a:lnTo>
                      <a:pt x="227" y="455"/>
                    </a:lnTo>
                    <a:lnTo>
                      <a:pt x="220" y="451"/>
                    </a:lnTo>
                    <a:lnTo>
                      <a:pt x="212" y="446"/>
                    </a:lnTo>
                    <a:lnTo>
                      <a:pt x="203" y="444"/>
                    </a:lnTo>
                    <a:lnTo>
                      <a:pt x="194" y="442"/>
                    </a:lnTo>
                    <a:lnTo>
                      <a:pt x="192" y="442"/>
                    </a:lnTo>
                    <a:lnTo>
                      <a:pt x="173" y="444"/>
                    </a:lnTo>
                    <a:lnTo>
                      <a:pt x="153" y="451"/>
                    </a:lnTo>
                    <a:lnTo>
                      <a:pt x="136" y="455"/>
                    </a:lnTo>
                    <a:lnTo>
                      <a:pt x="121" y="464"/>
                    </a:lnTo>
                    <a:lnTo>
                      <a:pt x="108" y="466"/>
                    </a:lnTo>
                    <a:lnTo>
                      <a:pt x="106" y="468"/>
                    </a:lnTo>
                    <a:lnTo>
                      <a:pt x="95" y="470"/>
                    </a:lnTo>
                    <a:lnTo>
                      <a:pt x="86" y="472"/>
                    </a:lnTo>
                    <a:lnTo>
                      <a:pt x="63" y="472"/>
                    </a:lnTo>
                    <a:lnTo>
                      <a:pt x="50" y="468"/>
                    </a:lnTo>
                    <a:lnTo>
                      <a:pt x="45" y="466"/>
                    </a:lnTo>
                    <a:lnTo>
                      <a:pt x="33" y="462"/>
                    </a:lnTo>
                    <a:lnTo>
                      <a:pt x="26" y="453"/>
                    </a:lnTo>
                    <a:lnTo>
                      <a:pt x="17" y="444"/>
                    </a:lnTo>
                    <a:lnTo>
                      <a:pt x="13" y="438"/>
                    </a:lnTo>
                    <a:lnTo>
                      <a:pt x="7" y="427"/>
                    </a:lnTo>
                    <a:lnTo>
                      <a:pt x="2" y="416"/>
                    </a:lnTo>
                    <a:lnTo>
                      <a:pt x="2" y="405"/>
                    </a:lnTo>
                    <a:lnTo>
                      <a:pt x="0" y="397"/>
                    </a:lnTo>
                    <a:lnTo>
                      <a:pt x="0" y="384"/>
                    </a:lnTo>
                    <a:lnTo>
                      <a:pt x="22" y="181"/>
                    </a:lnTo>
                    <a:lnTo>
                      <a:pt x="216" y="220"/>
                    </a:lnTo>
                    <a:lnTo>
                      <a:pt x="227" y="222"/>
                    </a:lnTo>
                    <a:lnTo>
                      <a:pt x="283" y="222"/>
                    </a:lnTo>
                    <a:lnTo>
                      <a:pt x="287" y="220"/>
                    </a:lnTo>
                    <a:lnTo>
                      <a:pt x="296" y="216"/>
                    </a:lnTo>
                    <a:lnTo>
                      <a:pt x="302" y="211"/>
                    </a:lnTo>
                    <a:lnTo>
                      <a:pt x="309" y="205"/>
                    </a:lnTo>
                    <a:lnTo>
                      <a:pt x="311" y="205"/>
                    </a:lnTo>
                    <a:lnTo>
                      <a:pt x="317" y="196"/>
                    </a:lnTo>
                    <a:lnTo>
                      <a:pt x="321" y="190"/>
                    </a:lnTo>
                    <a:lnTo>
                      <a:pt x="328" y="181"/>
                    </a:lnTo>
                    <a:lnTo>
                      <a:pt x="330" y="175"/>
                    </a:lnTo>
                    <a:lnTo>
                      <a:pt x="332" y="168"/>
                    </a:lnTo>
                    <a:lnTo>
                      <a:pt x="334" y="158"/>
                    </a:lnTo>
                    <a:lnTo>
                      <a:pt x="334" y="140"/>
                    </a:lnTo>
                    <a:lnTo>
                      <a:pt x="332" y="132"/>
                    </a:lnTo>
                    <a:lnTo>
                      <a:pt x="330" y="123"/>
                    </a:lnTo>
                    <a:lnTo>
                      <a:pt x="328" y="114"/>
                    </a:lnTo>
                    <a:lnTo>
                      <a:pt x="326" y="108"/>
                    </a:lnTo>
                    <a:lnTo>
                      <a:pt x="321" y="97"/>
                    </a:lnTo>
                    <a:lnTo>
                      <a:pt x="321" y="78"/>
                    </a:lnTo>
                    <a:lnTo>
                      <a:pt x="326" y="69"/>
                    </a:lnTo>
                    <a:lnTo>
                      <a:pt x="328" y="61"/>
                    </a:lnTo>
                    <a:lnTo>
                      <a:pt x="330" y="50"/>
                    </a:lnTo>
                    <a:lnTo>
                      <a:pt x="337" y="43"/>
                    </a:lnTo>
                    <a:lnTo>
                      <a:pt x="343" y="39"/>
                    </a:lnTo>
                    <a:lnTo>
                      <a:pt x="345" y="28"/>
                    </a:lnTo>
                    <a:lnTo>
                      <a:pt x="354" y="24"/>
                    </a:lnTo>
                    <a:lnTo>
                      <a:pt x="362" y="17"/>
                    </a:lnTo>
                    <a:lnTo>
                      <a:pt x="369" y="13"/>
                    </a:lnTo>
                    <a:lnTo>
                      <a:pt x="380" y="9"/>
                    </a:lnTo>
                    <a:lnTo>
                      <a:pt x="388" y="4"/>
                    </a:lnTo>
                    <a:lnTo>
                      <a:pt x="399" y="2"/>
                    </a:lnTo>
                    <a:lnTo>
                      <a:pt x="410" y="2"/>
                    </a:lnTo>
                    <a:lnTo>
                      <a:pt x="423" y="0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53" y="2"/>
                    </a:lnTo>
                    <a:lnTo>
                      <a:pt x="464" y="4"/>
                    </a:lnTo>
                    <a:lnTo>
                      <a:pt x="475" y="9"/>
                    </a:lnTo>
                    <a:lnTo>
                      <a:pt x="483" y="13"/>
                    </a:lnTo>
                    <a:lnTo>
                      <a:pt x="488" y="15"/>
                    </a:lnTo>
                    <a:lnTo>
                      <a:pt x="496" y="20"/>
                    </a:lnTo>
                    <a:lnTo>
                      <a:pt x="500" y="26"/>
                    </a:lnTo>
                    <a:lnTo>
                      <a:pt x="509" y="32"/>
                    </a:lnTo>
                    <a:lnTo>
                      <a:pt x="511" y="39"/>
                    </a:lnTo>
                    <a:lnTo>
                      <a:pt x="518" y="45"/>
                    </a:lnTo>
                    <a:lnTo>
                      <a:pt x="520" y="50"/>
                    </a:lnTo>
                    <a:lnTo>
                      <a:pt x="522" y="56"/>
                    </a:lnTo>
                    <a:lnTo>
                      <a:pt x="526" y="69"/>
                    </a:lnTo>
                    <a:lnTo>
                      <a:pt x="526" y="97"/>
                    </a:lnTo>
                    <a:lnTo>
                      <a:pt x="524" y="110"/>
                    </a:lnTo>
                    <a:lnTo>
                      <a:pt x="520" y="123"/>
                    </a:lnTo>
                    <a:lnTo>
                      <a:pt x="513" y="136"/>
                    </a:lnTo>
                    <a:lnTo>
                      <a:pt x="511" y="151"/>
                    </a:lnTo>
                    <a:lnTo>
                      <a:pt x="509" y="164"/>
                    </a:lnTo>
                    <a:lnTo>
                      <a:pt x="509" y="179"/>
                    </a:lnTo>
                    <a:lnTo>
                      <a:pt x="511" y="186"/>
                    </a:lnTo>
                    <a:lnTo>
                      <a:pt x="513" y="192"/>
                    </a:lnTo>
                    <a:lnTo>
                      <a:pt x="520" y="201"/>
                    </a:lnTo>
                    <a:lnTo>
                      <a:pt x="524" y="205"/>
                    </a:lnTo>
                    <a:lnTo>
                      <a:pt x="529" y="214"/>
                    </a:lnTo>
                    <a:lnTo>
                      <a:pt x="535" y="216"/>
                    </a:lnTo>
                    <a:lnTo>
                      <a:pt x="544" y="222"/>
                    </a:lnTo>
                    <a:lnTo>
                      <a:pt x="550" y="222"/>
                    </a:lnTo>
                    <a:lnTo>
                      <a:pt x="554" y="227"/>
                    </a:lnTo>
                    <a:lnTo>
                      <a:pt x="600" y="227"/>
                    </a:lnTo>
                    <a:lnTo>
                      <a:pt x="619" y="222"/>
                    </a:lnTo>
                    <a:lnTo>
                      <a:pt x="785" y="201"/>
                    </a:lnTo>
                    <a:lnTo>
                      <a:pt x="818" y="343"/>
                    </a:lnTo>
                    <a:lnTo>
                      <a:pt x="818" y="358"/>
                    </a:lnTo>
                    <a:lnTo>
                      <a:pt x="818" y="375"/>
                    </a:lnTo>
                    <a:lnTo>
                      <a:pt x="813" y="393"/>
                    </a:lnTo>
                    <a:lnTo>
                      <a:pt x="802" y="412"/>
                    </a:lnTo>
                    <a:lnTo>
                      <a:pt x="783" y="427"/>
                    </a:lnTo>
                    <a:lnTo>
                      <a:pt x="755" y="436"/>
                    </a:lnTo>
                    <a:lnTo>
                      <a:pt x="714" y="438"/>
                    </a:lnTo>
                    <a:lnTo>
                      <a:pt x="660" y="429"/>
                    </a:lnTo>
                    <a:lnTo>
                      <a:pt x="641" y="429"/>
                    </a:lnTo>
                    <a:lnTo>
                      <a:pt x="632" y="431"/>
                    </a:lnTo>
                    <a:lnTo>
                      <a:pt x="626" y="440"/>
                    </a:lnTo>
                    <a:lnTo>
                      <a:pt x="615" y="453"/>
                    </a:lnTo>
                    <a:lnTo>
                      <a:pt x="606" y="468"/>
                    </a:lnTo>
                    <a:lnTo>
                      <a:pt x="602" y="487"/>
                    </a:lnTo>
                    <a:lnTo>
                      <a:pt x="598" y="507"/>
                    </a:lnTo>
                    <a:lnTo>
                      <a:pt x="595" y="535"/>
                    </a:lnTo>
                    <a:lnTo>
                      <a:pt x="600" y="559"/>
                    </a:lnTo>
                    <a:lnTo>
                      <a:pt x="602" y="576"/>
                    </a:lnTo>
                    <a:lnTo>
                      <a:pt x="606" y="593"/>
                    </a:lnTo>
                    <a:lnTo>
                      <a:pt x="615" y="606"/>
                    </a:lnTo>
                    <a:lnTo>
                      <a:pt x="621" y="617"/>
                    </a:lnTo>
                    <a:lnTo>
                      <a:pt x="632" y="628"/>
                    </a:lnTo>
                    <a:lnTo>
                      <a:pt x="662" y="645"/>
                    </a:lnTo>
                    <a:lnTo>
                      <a:pt x="684" y="636"/>
                    </a:lnTo>
                    <a:lnTo>
                      <a:pt x="695" y="632"/>
                    </a:lnTo>
                    <a:lnTo>
                      <a:pt x="701" y="630"/>
                    </a:lnTo>
                    <a:lnTo>
                      <a:pt x="712" y="623"/>
                    </a:lnTo>
                    <a:lnTo>
                      <a:pt x="716" y="621"/>
                    </a:lnTo>
                    <a:lnTo>
                      <a:pt x="723" y="621"/>
                    </a:lnTo>
                    <a:lnTo>
                      <a:pt x="731" y="619"/>
                    </a:lnTo>
                    <a:lnTo>
                      <a:pt x="746" y="619"/>
                    </a:lnTo>
                    <a:lnTo>
                      <a:pt x="753" y="621"/>
                    </a:lnTo>
                    <a:lnTo>
                      <a:pt x="761" y="621"/>
                    </a:lnTo>
                    <a:lnTo>
                      <a:pt x="766" y="625"/>
                    </a:lnTo>
                    <a:lnTo>
                      <a:pt x="772" y="630"/>
                    </a:lnTo>
                    <a:lnTo>
                      <a:pt x="781" y="632"/>
                    </a:lnTo>
                    <a:lnTo>
                      <a:pt x="783" y="638"/>
                    </a:lnTo>
                    <a:lnTo>
                      <a:pt x="787" y="645"/>
                    </a:lnTo>
                    <a:lnTo>
                      <a:pt x="794" y="653"/>
                    </a:lnTo>
                    <a:lnTo>
                      <a:pt x="796" y="658"/>
                    </a:lnTo>
                    <a:lnTo>
                      <a:pt x="796" y="664"/>
                    </a:lnTo>
                    <a:lnTo>
                      <a:pt x="798" y="675"/>
                    </a:lnTo>
                    <a:lnTo>
                      <a:pt x="798" y="688"/>
                    </a:lnTo>
                    <a:lnTo>
                      <a:pt x="798" y="699"/>
                    </a:lnTo>
                    <a:lnTo>
                      <a:pt x="772" y="819"/>
                    </a:lnTo>
                    <a:lnTo>
                      <a:pt x="647" y="815"/>
                    </a:lnTo>
                    <a:lnTo>
                      <a:pt x="550" y="815"/>
                    </a:lnTo>
                    <a:lnTo>
                      <a:pt x="522" y="819"/>
                    </a:lnTo>
                    <a:lnTo>
                      <a:pt x="511" y="819"/>
                    </a:lnTo>
                    <a:lnTo>
                      <a:pt x="500" y="828"/>
                    </a:lnTo>
                    <a:lnTo>
                      <a:pt x="492" y="835"/>
                    </a:lnTo>
                    <a:lnTo>
                      <a:pt x="485" y="843"/>
                    </a:lnTo>
                    <a:lnTo>
                      <a:pt x="481" y="852"/>
                    </a:lnTo>
                    <a:lnTo>
                      <a:pt x="477" y="858"/>
                    </a:lnTo>
                    <a:lnTo>
                      <a:pt x="475" y="869"/>
                    </a:lnTo>
                    <a:lnTo>
                      <a:pt x="472" y="880"/>
                    </a:lnTo>
                    <a:lnTo>
                      <a:pt x="472" y="891"/>
                    </a:lnTo>
                    <a:lnTo>
                      <a:pt x="477" y="899"/>
                    </a:lnTo>
                    <a:lnTo>
                      <a:pt x="477" y="910"/>
                    </a:lnTo>
                    <a:lnTo>
                      <a:pt x="481" y="916"/>
                    </a:lnTo>
                    <a:lnTo>
                      <a:pt x="483" y="925"/>
                    </a:lnTo>
                    <a:lnTo>
                      <a:pt x="492" y="951"/>
                    </a:lnTo>
                    <a:lnTo>
                      <a:pt x="492" y="996"/>
                    </a:lnTo>
                    <a:lnTo>
                      <a:pt x="488" y="1007"/>
                    </a:lnTo>
                    <a:lnTo>
                      <a:pt x="483" y="1013"/>
                    </a:lnTo>
                    <a:lnTo>
                      <a:pt x="479" y="1022"/>
                    </a:lnTo>
                    <a:lnTo>
                      <a:pt x="468" y="1031"/>
                    </a:lnTo>
                    <a:lnTo>
                      <a:pt x="457" y="1037"/>
                    </a:lnTo>
                    <a:lnTo>
                      <a:pt x="447" y="1044"/>
                    </a:lnTo>
                    <a:lnTo>
                      <a:pt x="434" y="1046"/>
                    </a:lnTo>
                    <a:lnTo>
                      <a:pt x="423" y="1052"/>
                    </a:lnTo>
                    <a:lnTo>
                      <a:pt x="408" y="1052"/>
                    </a:lnTo>
                    <a:lnTo>
                      <a:pt x="397" y="1052"/>
                    </a:lnTo>
                    <a:lnTo>
                      <a:pt x="375" y="1052"/>
                    </a:lnTo>
                    <a:lnTo>
                      <a:pt x="362" y="1052"/>
                    </a:lnTo>
                    <a:lnTo>
                      <a:pt x="350" y="1046"/>
                    </a:lnTo>
                    <a:lnTo>
                      <a:pt x="337" y="1046"/>
                    </a:lnTo>
                    <a:lnTo>
                      <a:pt x="326" y="1039"/>
                    </a:lnTo>
                    <a:lnTo>
                      <a:pt x="313" y="1031"/>
                    </a:lnTo>
                    <a:lnTo>
                      <a:pt x="304" y="1024"/>
                    </a:lnTo>
                    <a:lnTo>
                      <a:pt x="298" y="1016"/>
                    </a:lnTo>
                    <a:lnTo>
                      <a:pt x="289" y="1007"/>
                    </a:lnTo>
                    <a:lnTo>
                      <a:pt x="287" y="998"/>
                    </a:lnTo>
                    <a:lnTo>
                      <a:pt x="283" y="985"/>
                    </a:lnTo>
                    <a:lnTo>
                      <a:pt x="278" y="975"/>
                    </a:lnTo>
                    <a:lnTo>
                      <a:pt x="278" y="955"/>
                    </a:lnTo>
                    <a:lnTo>
                      <a:pt x="283" y="947"/>
                    </a:lnTo>
                    <a:lnTo>
                      <a:pt x="287" y="932"/>
                    </a:lnTo>
                    <a:lnTo>
                      <a:pt x="291" y="916"/>
                    </a:lnTo>
                    <a:lnTo>
                      <a:pt x="298" y="903"/>
                    </a:lnTo>
                    <a:lnTo>
                      <a:pt x="298" y="888"/>
                    </a:lnTo>
                    <a:lnTo>
                      <a:pt x="300" y="873"/>
                    </a:lnTo>
                    <a:lnTo>
                      <a:pt x="300" y="863"/>
                    </a:lnTo>
                    <a:lnTo>
                      <a:pt x="298" y="856"/>
                    </a:lnTo>
                    <a:lnTo>
                      <a:pt x="296" y="850"/>
                    </a:lnTo>
                    <a:lnTo>
                      <a:pt x="291" y="841"/>
                    </a:lnTo>
                    <a:lnTo>
                      <a:pt x="287" y="835"/>
                    </a:lnTo>
                    <a:lnTo>
                      <a:pt x="285" y="830"/>
                    </a:lnTo>
                    <a:lnTo>
                      <a:pt x="268" y="813"/>
                    </a:lnTo>
                    <a:lnTo>
                      <a:pt x="261" y="809"/>
                    </a:lnTo>
                    <a:lnTo>
                      <a:pt x="252" y="804"/>
                    </a:lnTo>
                    <a:lnTo>
                      <a:pt x="242" y="800"/>
                    </a:lnTo>
                    <a:lnTo>
                      <a:pt x="231" y="798"/>
                    </a:lnTo>
                    <a:lnTo>
                      <a:pt x="220" y="794"/>
                    </a:lnTo>
                    <a:lnTo>
                      <a:pt x="209" y="791"/>
                    </a:lnTo>
                    <a:lnTo>
                      <a:pt x="199" y="791"/>
                    </a:lnTo>
                    <a:lnTo>
                      <a:pt x="186" y="791"/>
                    </a:lnTo>
                    <a:lnTo>
                      <a:pt x="181" y="789"/>
                    </a:lnTo>
                    <a:lnTo>
                      <a:pt x="151" y="789"/>
                    </a:lnTo>
                    <a:lnTo>
                      <a:pt x="119" y="791"/>
                    </a:lnTo>
                    <a:lnTo>
                      <a:pt x="86" y="791"/>
                    </a:lnTo>
                    <a:lnTo>
                      <a:pt x="52" y="794"/>
                    </a:lnTo>
                    <a:lnTo>
                      <a:pt x="26" y="796"/>
                    </a:lnTo>
                    <a:lnTo>
                      <a:pt x="9" y="688"/>
                    </a:lnTo>
                    <a:lnTo>
                      <a:pt x="9" y="675"/>
                    </a:lnTo>
                    <a:lnTo>
                      <a:pt x="13" y="666"/>
                    </a:lnTo>
                    <a:lnTo>
                      <a:pt x="13" y="660"/>
                    </a:lnTo>
                    <a:lnTo>
                      <a:pt x="15" y="656"/>
                    </a:lnTo>
                    <a:lnTo>
                      <a:pt x="20" y="649"/>
                    </a:lnTo>
                    <a:lnTo>
                      <a:pt x="24" y="643"/>
                    </a:lnTo>
                    <a:lnTo>
                      <a:pt x="35" y="630"/>
                    </a:lnTo>
                    <a:lnTo>
                      <a:pt x="39" y="628"/>
                    </a:lnTo>
                    <a:lnTo>
                      <a:pt x="48" y="623"/>
                    </a:lnTo>
                    <a:lnTo>
                      <a:pt x="52" y="621"/>
                    </a:lnTo>
                    <a:lnTo>
                      <a:pt x="61" y="621"/>
                    </a:lnTo>
                    <a:lnTo>
                      <a:pt x="67" y="619"/>
                    </a:lnTo>
                    <a:lnTo>
                      <a:pt x="80" y="621"/>
                    </a:lnTo>
                    <a:lnTo>
                      <a:pt x="86" y="621"/>
                    </a:lnTo>
                    <a:lnTo>
                      <a:pt x="177" y="625"/>
                    </a:lnTo>
                    <a:lnTo>
                      <a:pt x="186" y="623"/>
                    </a:lnTo>
                    <a:lnTo>
                      <a:pt x="194" y="621"/>
                    </a:lnTo>
                    <a:lnTo>
                      <a:pt x="203" y="617"/>
                    </a:lnTo>
                    <a:lnTo>
                      <a:pt x="212" y="612"/>
                    </a:lnTo>
                    <a:lnTo>
                      <a:pt x="220" y="606"/>
                    </a:lnTo>
                    <a:lnTo>
                      <a:pt x="222" y="602"/>
                    </a:lnTo>
                    <a:lnTo>
                      <a:pt x="229" y="593"/>
                    </a:lnTo>
                    <a:lnTo>
                      <a:pt x="237" y="580"/>
                    </a:lnTo>
                    <a:lnTo>
                      <a:pt x="240" y="569"/>
                    </a:lnTo>
                    <a:lnTo>
                      <a:pt x="246" y="554"/>
                    </a:lnTo>
                    <a:lnTo>
                      <a:pt x="248" y="492"/>
                    </a:lnTo>
                    <a:lnTo>
                      <a:pt x="246" y="481"/>
                    </a:lnTo>
                    <a:lnTo>
                      <a:pt x="242" y="474"/>
                    </a:lnTo>
                    <a:lnTo>
                      <a:pt x="237" y="466"/>
                    </a:lnTo>
                    <a:close/>
                  </a:path>
                </a:pathLst>
              </a:custGeom>
              <a:solidFill>
                <a:srgbClr val="c2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 flipV="1">
                <a:off x="1055160" y="3784320"/>
                <a:ext cx="97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 flipV="1">
                <a:off x="1049040" y="3773160"/>
                <a:ext cx="612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1037880" y="3767040"/>
                <a:ext cx="111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 flipV="1">
                <a:off x="1025280" y="375912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 flipV="1">
                <a:off x="1011240" y="37555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996840" y="3753000"/>
                <a:ext cx="14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993240" y="3753000"/>
                <a:ext cx="3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963360" y="3753000"/>
                <a:ext cx="2988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932040" y="3755880"/>
                <a:ext cx="316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904680" y="3767040"/>
                <a:ext cx="270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880560" y="3773520"/>
                <a:ext cx="24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860040" y="3787920"/>
                <a:ext cx="2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856800" y="379080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839880" y="3794040"/>
                <a:ext cx="17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825480" y="379728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788760" y="3800520"/>
                <a:ext cx="36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 flipV="1">
                <a:off x="768240" y="3794040"/>
                <a:ext cx="208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 flipV="1">
                <a:off x="760320" y="379044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740880" y="3784320"/>
                <a:ext cx="190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 flipV="1">
                <a:off x="729720" y="377028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 flipV="1">
                <a:off x="715680" y="3755880"/>
                <a:ext cx="140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 flipV="1">
                <a:off x="709560" y="374652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 flipV="1">
                <a:off x="700200" y="3728520"/>
                <a:ext cx="936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 flipV="1">
                <a:off x="692280" y="3711600"/>
                <a:ext cx="792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692280" y="36936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 flipV="1">
                <a:off x="688680" y="36810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V="1">
                <a:off x="689040" y="36604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V="1">
                <a:off x="689040" y="3338280"/>
                <a:ext cx="34920" cy="322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23960" y="3338640"/>
                <a:ext cx="307800" cy="61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031760" y="3400560"/>
                <a:ext cx="17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049400" y="3403440"/>
                <a:ext cx="889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38320" y="3400560"/>
                <a:ext cx="61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V="1">
                <a:off x="1144440" y="339408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158840" y="3386160"/>
                <a:ext cx="97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1168560" y="3376080"/>
                <a:ext cx="1080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179360" y="3376440"/>
                <a:ext cx="32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V="1">
                <a:off x="1182600" y="3362040"/>
                <a:ext cx="97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192320" y="3352320"/>
                <a:ext cx="612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1198440" y="3338280"/>
                <a:ext cx="111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V="1">
                <a:off x="1209600" y="332856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1212840" y="331740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216080" y="3301920"/>
                <a:ext cx="32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1219320" y="3273120"/>
                <a:ext cx="144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H="1" flipV="1">
                <a:off x="1215720" y="326052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 flipV="1">
                <a:off x="1212480" y="32464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H="1" flipV="1">
                <a:off x="1209240" y="32320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1206000" y="3222720"/>
                <a:ext cx="32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 flipV="1">
                <a:off x="1198440" y="3204720"/>
                <a:ext cx="792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V="1">
                <a:off x="1198440" y="3174840"/>
                <a:ext cx="18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1198440" y="3160440"/>
                <a:ext cx="79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1206360" y="314784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1209600" y="313056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1212840" y="3119040"/>
                <a:ext cx="111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1224000" y="311292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1233360" y="309564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1236600" y="3089160"/>
                <a:ext cx="144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1251000" y="3077640"/>
                <a:ext cx="1260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1263600" y="307152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1274760" y="3065400"/>
                <a:ext cx="176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1292400" y="305748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1305000" y="3053880"/>
                <a:ext cx="172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322280" y="3054240"/>
                <a:ext cx="176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339920" y="3050640"/>
                <a:ext cx="205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360440" y="3051000"/>
                <a:ext cx="12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73040" y="305100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90680" y="3054240"/>
                <a:ext cx="17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407960" y="305424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25600" y="3057480"/>
                <a:ext cx="172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442880" y="3065400"/>
                <a:ext cx="129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455840" y="3071880"/>
                <a:ext cx="79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463760" y="3075120"/>
                <a:ext cx="126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476360" y="3083040"/>
                <a:ext cx="648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482840" y="3092400"/>
                <a:ext cx="140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496880" y="3102120"/>
                <a:ext cx="324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500120" y="3112920"/>
                <a:ext cx="111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511280" y="312264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1514520" y="313056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517760" y="3139920"/>
              <a:ext cx="612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523880" y="3160800"/>
              <a:ext cx="18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1521000" y="3205080"/>
              <a:ext cx="288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1514520" y="3225960"/>
              <a:ext cx="64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1503000" y="3246480"/>
              <a:ext cx="111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1499760" y="3267000"/>
              <a:ext cx="32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1496520" y="3290760"/>
              <a:ext cx="324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96880" y="3311640"/>
              <a:ext cx="180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496880" y="333540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500120" y="334656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03360" y="3355920"/>
              <a:ext cx="111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514520" y="33703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521000" y="3376440"/>
              <a:ext cx="79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528920" y="3390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538280" y="3394080"/>
              <a:ext cx="144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552680" y="340344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562040" y="3403440"/>
              <a:ext cx="64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68520" y="3411360"/>
              <a:ext cx="73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1641600" y="3403440"/>
              <a:ext cx="29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1671480" y="3370320"/>
              <a:ext cx="26352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935000" y="3370320"/>
              <a:ext cx="52560" cy="225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987560" y="3595680"/>
              <a:ext cx="14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987560" y="3619440"/>
              <a:ext cx="144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1979640" y="3646440"/>
              <a:ext cx="792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1961640" y="3675240"/>
              <a:ext cx="1764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1931760" y="3705120"/>
              <a:ext cx="2988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1887480" y="3728880"/>
              <a:ext cx="446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1821960" y="3743280"/>
              <a:ext cx="651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1736640" y="3732120"/>
              <a:ext cx="856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1706400" y="3732120"/>
              <a:ext cx="30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1692000" y="3732120"/>
              <a:ext cx="14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1682280" y="3735360"/>
              <a:ext cx="97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1665360" y="3749760"/>
              <a:ext cx="172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1650960" y="3770280"/>
              <a:ext cx="1440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1644480" y="3794040"/>
              <a:ext cx="648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1638000" y="3824280"/>
              <a:ext cx="6120" cy="31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1633320" y="3855960"/>
              <a:ext cx="4680" cy="44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33680" y="3900600"/>
              <a:ext cx="792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41600" y="3938760"/>
              <a:ext cx="288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644480" y="3965400"/>
              <a:ext cx="64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650960" y="3992400"/>
              <a:ext cx="1440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65360" y="4013280"/>
              <a:ext cx="936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74720" y="4030560"/>
              <a:ext cx="176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92360" y="4048200"/>
              <a:ext cx="475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739880" y="4060800"/>
              <a:ext cx="349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1774800" y="4054320"/>
              <a:ext cx="176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1792440" y="4051440"/>
              <a:ext cx="936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1801800" y="4039920"/>
              <a:ext cx="176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1819440" y="4036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825560" y="4037040"/>
              <a:ext cx="11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1836720" y="40334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9320" y="4033800"/>
              <a:ext cx="23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73080" y="4033800"/>
              <a:ext cx="111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884240" y="4037040"/>
              <a:ext cx="1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897200" y="4037040"/>
              <a:ext cx="79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05120" y="4043520"/>
              <a:ext cx="936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914480" y="4051440"/>
              <a:ext cx="144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928880" y="40543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32120" y="4064040"/>
              <a:ext cx="61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938240" y="4075200"/>
              <a:ext cx="1116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949400" y="408780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952640" y="4095720"/>
              <a:ext cx="14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952640" y="4105440"/>
              <a:ext cx="32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955880" y="4122720"/>
              <a:ext cx="1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955880" y="414324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1914120" y="4160880"/>
              <a:ext cx="41400" cy="19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 flipV="1">
              <a:off x="1715760" y="4344840"/>
              <a:ext cx="198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1562040" y="4344840"/>
              <a:ext cx="154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1517400" y="4344840"/>
              <a:ext cx="442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1499760" y="4351320"/>
              <a:ext cx="17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1482840" y="4351320"/>
              <a:ext cx="172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1469880" y="4365720"/>
              <a:ext cx="129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1459080" y="4376880"/>
              <a:ext cx="10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1452600" y="4389480"/>
              <a:ext cx="64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1446120" y="4403880"/>
              <a:ext cx="64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442520" y="4413240"/>
              <a:ext cx="32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1437840" y="4430880"/>
              <a:ext cx="468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38200" y="4448160"/>
              <a:ext cx="18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438200" y="4465800"/>
              <a:ext cx="79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446120" y="4478400"/>
              <a:ext cx="18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446120" y="449568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52600" y="4505400"/>
              <a:ext cx="324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455840" y="4519440"/>
              <a:ext cx="140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469880" y="4560840"/>
              <a:ext cx="180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1463400" y="4632480"/>
              <a:ext cx="61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1455840" y="4649760"/>
              <a:ext cx="79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449360" y="4659480"/>
              <a:ext cx="64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1432080" y="4673520"/>
              <a:ext cx="172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1414080" y="4687920"/>
              <a:ext cx="176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398600" y="46972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77720" y="4708440"/>
              <a:ext cx="205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1360080" y="4711680"/>
              <a:ext cx="176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1336680" y="4721400"/>
              <a:ext cx="23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1318680" y="4721400"/>
              <a:ext cx="17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1283760" y="472140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1263240" y="472140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 flipV="1">
              <a:off x="1244160" y="4711320"/>
              <a:ext cx="190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1223640" y="471168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1206000" y="4700160"/>
              <a:ext cx="176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1185480" y="4687560"/>
              <a:ext cx="205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1171440" y="4676400"/>
              <a:ext cx="1440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flipV="1">
              <a:off x="1162080" y="4663800"/>
              <a:ext cx="936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 flipV="1">
              <a:off x="1147680" y="4649760"/>
              <a:ext cx="1440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1144080" y="4635360"/>
              <a:ext cx="32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 flipV="1">
              <a:off x="1137960" y="4614480"/>
              <a:ext cx="612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 flipV="1">
              <a:off x="1130400" y="4599000"/>
              <a:ext cx="79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1130400" y="4567320"/>
              <a:ext cx="1440" cy="31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1130400" y="4554360"/>
              <a:ext cx="792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1138320" y="4530600"/>
              <a:ext cx="612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1144440" y="4505400"/>
              <a:ext cx="648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150920" y="4484520"/>
              <a:ext cx="1116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1162080" y="4460760"/>
              <a:ext cx="14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1162080" y="4437000"/>
              <a:ext cx="32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1165320" y="442116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flipV="1">
              <a:off x="1161720" y="440964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flipV="1">
              <a:off x="1158480" y="44006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flipV="1">
              <a:off x="1150920" y="4386240"/>
              <a:ext cx="79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flipV="1">
              <a:off x="1144440" y="4376880"/>
              <a:ext cx="64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flipV="1">
              <a:off x="1141560" y="436896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 flipV="1">
              <a:off x="1114200" y="4341600"/>
              <a:ext cx="270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 flipV="1">
              <a:off x="1103040" y="4335480"/>
              <a:ext cx="111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 flipV="1">
              <a:off x="1089000" y="4327560"/>
              <a:ext cx="144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 flipV="1">
              <a:off x="1073160" y="43210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flipV="1">
              <a:off x="1055160" y="4317480"/>
              <a:ext cx="176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flipV="1">
              <a:off x="1038240" y="4311360"/>
              <a:ext cx="172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 flipV="1">
              <a:off x="1020240" y="4306680"/>
              <a:ext cx="176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1004760" y="430704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983880" y="4307040"/>
              <a:ext cx="20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 flipV="1">
              <a:off x="976320" y="4303440"/>
              <a:ext cx="7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928800" y="4303800"/>
              <a:ext cx="47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877680" y="4303800"/>
              <a:ext cx="507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825480" y="4307040"/>
              <a:ext cx="52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771480" y="4307040"/>
              <a:ext cx="540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729720" y="4311720"/>
              <a:ext cx="414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>
              <a:off x="703440" y="4142880"/>
              <a:ext cx="26640" cy="17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703440" y="4122360"/>
              <a:ext cx="1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703440" y="4108320"/>
              <a:ext cx="61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709560" y="409896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709560" y="40924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712800" y="4080960"/>
              <a:ext cx="79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720720" y="4071960"/>
              <a:ext cx="64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727200" y="4051080"/>
              <a:ext cx="172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744480" y="4047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750960" y="4040280"/>
              <a:ext cx="140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765000" y="40366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71480" y="4037040"/>
              <a:ext cx="14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785880" y="40334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95240" y="4033800"/>
              <a:ext cx="20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16120" y="4037040"/>
              <a:ext cx="9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25480" y="4037040"/>
              <a:ext cx="144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969840" y="4039920"/>
              <a:ext cx="144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984240" y="40366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996840" y="4030560"/>
              <a:ext cx="144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1011240" y="4022640"/>
              <a:ext cx="144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1025640" y="401328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V="1">
              <a:off x="1038240" y="400680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1041480" y="3992400"/>
              <a:ext cx="111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1052640" y="3971520"/>
              <a:ext cx="1260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1065240" y="3954600"/>
              <a:ext cx="468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1069920" y="3930120"/>
              <a:ext cx="9720" cy="24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1079640" y="3831840"/>
              <a:ext cx="2880" cy="98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flipV="1">
              <a:off x="1079640" y="3814920"/>
              <a:ext cx="288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1073160" y="3803400"/>
              <a:ext cx="64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1065240" y="3790800"/>
              <a:ext cx="792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065240" y="37908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819440" y="3308400"/>
              <a:ext cx="1498320" cy="1388880"/>
            </a:xfrm>
            <a:custGeom>
              <a:avLst/>
              <a:gdLst/>
              <a:ahLst/>
              <a:rect l="l" t="t" r="r" b="b"/>
              <a:pathLst>
                <a:path w="944" h="875">
                  <a:moveTo>
                    <a:pt x="459" y="194"/>
                  </a:moveTo>
                  <a:lnTo>
                    <a:pt x="468" y="164"/>
                  </a:lnTo>
                  <a:lnTo>
                    <a:pt x="474" y="140"/>
                  </a:lnTo>
                  <a:lnTo>
                    <a:pt x="474" y="136"/>
                  </a:lnTo>
                  <a:lnTo>
                    <a:pt x="476" y="127"/>
                  </a:lnTo>
                  <a:lnTo>
                    <a:pt x="479" y="121"/>
                  </a:lnTo>
                  <a:lnTo>
                    <a:pt x="479" y="110"/>
                  </a:lnTo>
                  <a:lnTo>
                    <a:pt x="483" y="99"/>
                  </a:lnTo>
                  <a:lnTo>
                    <a:pt x="483" y="88"/>
                  </a:lnTo>
                  <a:lnTo>
                    <a:pt x="483" y="80"/>
                  </a:lnTo>
                  <a:lnTo>
                    <a:pt x="483" y="69"/>
                  </a:lnTo>
                  <a:lnTo>
                    <a:pt x="483" y="52"/>
                  </a:lnTo>
                  <a:lnTo>
                    <a:pt x="479" y="43"/>
                  </a:lnTo>
                  <a:lnTo>
                    <a:pt x="474" y="34"/>
                  </a:lnTo>
                  <a:lnTo>
                    <a:pt x="466" y="26"/>
                  </a:lnTo>
                  <a:lnTo>
                    <a:pt x="459" y="21"/>
                  </a:lnTo>
                  <a:lnTo>
                    <a:pt x="451" y="13"/>
                  </a:lnTo>
                  <a:lnTo>
                    <a:pt x="442" y="6"/>
                  </a:lnTo>
                  <a:lnTo>
                    <a:pt x="431" y="4"/>
                  </a:lnTo>
                  <a:lnTo>
                    <a:pt x="423" y="0"/>
                  </a:lnTo>
                  <a:lnTo>
                    <a:pt x="414" y="0"/>
                  </a:lnTo>
                  <a:lnTo>
                    <a:pt x="246" y="2"/>
                  </a:lnTo>
                  <a:lnTo>
                    <a:pt x="263" y="144"/>
                  </a:lnTo>
                  <a:lnTo>
                    <a:pt x="263" y="170"/>
                  </a:lnTo>
                  <a:lnTo>
                    <a:pt x="261" y="183"/>
                  </a:lnTo>
                  <a:lnTo>
                    <a:pt x="261" y="187"/>
                  </a:lnTo>
                  <a:lnTo>
                    <a:pt x="261" y="196"/>
                  </a:lnTo>
                  <a:lnTo>
                    <a:pt x="256" y="203"/>
                  </a:lnTo>
                  <a:lnTo>
                    <a:pt x="252" y="213"/>
                  </a:lnTo>
                  <a:lnTo>
                    <a:pt x="248" y="220"/>
                  </a:lnTo>
                  <a:lnTo>
                    <a:pt x="241" y="224"/>
                  </a:lnTo>
                  <a:lnTo>
                    <a:pt x="237" y="233"/>
                  </a:lnTo>
                  <a:lnTo>
                    <a:pt x="228" y="239"/>
                  </a:lnTo>
                  <a:lnTo>
                    <a:pt x="222" y="243"/>
                  </a:lnTo>
                  <a:lnTo>
                    <a:pt x="218" y="248"/>
                  </a:lnTo>
                  <a:lnTo>
                    <a:pt x="211" y="250"/>
                  </a:lnTo>
                  <a:lnTo>
                    <a:pt x="205" y="252"/>
                  </a:lnTo>
                  <a:lnTo>
                    <a:pt x="196" y="254"/>
                  </a:lnTo>
                  <a:lnTo>
                    <a:pt x="190" y="256"/>
                  </a:lnTo>
                  <a:lnTo>
                    <a:pt x="181" y="256"/>
                  </a:lnTo>
                  <a:lnTo>
                    <a:pt x="177" y="254"/>
                  </a:lnTo>
                  <a:lnTo>
                    <a:pt x="166" y="254"/>
                  </a:lnTo>
                  <a:lnTo>
                    <a:pt x="162" y="250"/>
                  </a:lnTo>
                  <a:lnTo>
                    <a:pt x="155" y="248"/>
                  </a:lnTo>
                  <a:lnTo>
                    <a:pt x="149" y="246"/>
                  </a:lnTo>
                  <a:lnTo>
                    <a:pt x="116" y="231"/>
                  </a:lnTo>
                  <a:lnTo>
                    <a:pt x="108" y="228"/>
                  </a:lnTo>
                  <a:lnTo>
                    <a:pt x="101" y="226"/>
                  </a:lnTo>
                  <a:lnTo>
                    <a:pt x="93" y="224"/>
                  </a:lnTo>
                  <a:lnTo>
                    <a:pt x="86" y="224"/>
                  </a:lnTo>
                  <a:lnTo>
                    <a:pt x="80" y="226"/>
                  </a:lnTo>
                  <a:lnTo>
                    <a:pt x="71" y="228"/>
                  </a:lnTo>
                  <a:lnTo>
                    <a:pt x="67" y="231"/>
                  </a:lnTo>
                  <a:lnTo>
                    <a:pt x="60" y="233"/>
                  </a:lnTo>
                  <a:lnTo>
                    <a:pt x="52" y="237"/>
                  </a:lnTo>
                  <a:lnTo>
                    <a:pt x="47" y="239"/>
                  </a:lnTo>
                  <a:lnTo>
                    <a:pt x="41" y="241"/>
                  </a:lnTo>
                  <a:lnTo>
                    <a:pt x="37" y="246"/>
                  </a:lnTo>
                  <a:lnTo>
                    <a:pt x="32" y="250"/>
                  </a:lnTo>
                  <a:lnTo>
                    <a:pt x="26" y="259"/>
                  </a:lnTo>
                  <a:lnTo>
                    <a:pt x="21" y="263"/>
                  </a:lnTo>
                  <a:lnTo>
                    <a:pt x="15" y="272"/>
                  </a:lnTo>
                  <a:lnTo>
                    <a:pt x="13" y="280"/>
                  </a:lnTo>
                  <a:lnTo>
                    <a:pt x="8" y="284"/>
                  </a:lnTo>
                  <a:lnTo>
                    <a:pt x="6" y="293"/>
                  </a:lnTo>
                  <a:lnTo>
                    <a:pt x="2" y="300"/>
                  </a:lnTo>
                  <a:lnTo>
                    <a:pt x="2" y="308"/>
                  </a:lnTo>
                  <a:lnTo>
                    <a:pt x="0" y="317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2" y="347"/>
                  </a:lnTo>
                  <a:lnTo>
                    <a:pt x="2" y="358"/>
                  </a:lnTo>
                  <a:lnTo>
                    <a:pt x="8" y="373"/>
                  </a:lnTo>
                  <a:lnTo>
                    <a:pt x="11" y="377"/>
                  </a:lnTo>
                  <a:lnTo>
                    <a:pt x="32" y="409"/>
                  </a:lnTo>
                  <a:lnTo>
                    <a:pt x="41" y="416"/>
                  </a:lnTo>
                  <a:lnTo>
                    <a:pt x="49" y="420"/>
                  </a:lnTo>
                  <a:lnTo>
                    <a:pt x="62" y="427"/>
                  </a:lnTo>
                  <a:lnTo>
                    <a:pt x="73" y="427"/>
                  </a:lnTo>
                  <a:lnTo>
                    <a:pt x="84" y="429"/>
                  </a:lnTo>
                  <a:lnTo>
                    <a:pt x="95" y="429"/>
                  </a:lnTo>
                  <a:lnTo>
                    <a:pt x="108" y="427"/>
                  </a:lnTo>
                  <a:lnTo>
                    <a:pt x="118" y="425"/>
                  </a:lnTo>
                  <a:lnTo>
                    <a:pt x="129" y="420"/>
                  </a:lnTo>
                  <a:lnTo>
                    <a:pt x="131" y="416"/>
                  </a:lnTo>
                  <a:lnTo>
                    <a:pt x="140" y="416"/>
                  </a:lnTo>
                  <a:lnTo>
                    <a:pt x="146" y="414"/>
                  </a:lnTo>
                  <a:lnTo>
                    <a:pt x="164" y="414"/>
                  </a:lnTo>
                  <a:lnTo>
                    <a:pt x="172" y="416"/>
                  </a:lnTo>
                  <a:lnTo>
                    <a:pt x="181" y="420"/>
                  </a:lnTo>
                  <a:lnTo>
                    <a:pt x="190" y="427"/>
                  </a:lnTo>
                  <a:lnTo>
                    <a:pt x="203" y="440"/>
                  </a:lnTo>
                  <a:lnTo>
                    <a:pt x="207" y="450"/>
                  </a:lnTo>
                  <a:lnTo>
                    <a:pt x="211" y="459"/>
                  </a:lnTo>
                  <a:lnTo>
                    <a:pt x="213" y="468"/>
                  </a:lnTo>
                  <a:lnTo>
                    <a:pt x="213" y="491"/>
                  </a:lnTo>
                  <a:lnTo>
                    <a:pt x="213" y="498"/>
                  </a:lnTo>
                  <a:lnTo>
                    <a:pt x="211" y="504"/>
                  </a:lnTo>
                  <a:lnTo>
                    <a:pt x="172" y="616"/>
                  </a:lnTo>
                  <a:lnTo>
                    <a:pt x="341" y="638"/>
                  </a:lnTo>
                  <a:lnTo>
                    <a:pt x="354" y="640"/>
                  </a:lnTo>
                  <a:lnTo>
                    <a:pt x="358" y="644"/>
                  </a:lnTo>
                  <a:lnTo>
                    <a:pt x="366" y="651"/>
                  </a:lnTo>
                  <a:lnTo>
                    <a:pt x="373" y="651"/>
                  </a:lnTo>
                  <a:lnTo>
                    <a:pt x="379" y="657"/>
                  </a:lnTo>
                  <a:lnTo>
                    <a:pt x="397" y="675"/>
                  </a:lnTo>
                  <a:lnTo>
                    <a:pt x="401" y="681"/>
                  </a:lnTo>
                  <a:lnTo>
                    <a:pt x="403" y="685"/>
                  </a:lnTo>
                  <a:lnTo>
                    <a:pt x="405" y="690"/>
                  </a:lnTo>
                  <a:lnTo>
                    <a:pt x="407" y="698"/>
                  </a:lnTo>
                  <a:lnTo>
                    <a:pt x="410" y="707"/>
                  </a:lnTo>
                  <a:lnTo>
                    <a:pt x="410" y="720"/>
                  </a:lnTo>
                  <a:lnTo>
                    <a:pt x="405" y="735"/>
                  </a:lnTo>
                  <a:lnTo>
                    <a:pt x="403" y="752"/>
                  </a:lnTo>
                  <a:lnTo>
                    <a:pt x="399" y="767"/>
                  </a:lnTo>
                  <a:lnTo>
                    <a:pt x="394" y="778"/>
                  </a:lnTo>
                  <a:lnTo>
                    <a:pt x="394" y="798"/>
                  </a:lnTo>
                  <a:lnTo>
                    <a:pt x="399" y="806"/>
                  </a:lnTo>
                  <a:lnTo>
                    <a:pt x="403" y="819"/>
                  </a:lnTo>
                  <a:lnTo>
                    <a:pt x="403" y="828"/>
                  </a:lnTo>
                  <a:lnTo>
                    <a:pt x="407" y="832"/>
                  </a:lnTo>
                  <a:lnTo>
                    <a:pt x="414" y="841"/>
                  </a:lnTo>
                  <a:lnTo>
                    <a:pt x="423" y="847"/>
                  </a:lnTo>
                  <a:lnTo>
                    <a:pt x="431" y="854"/>
                  </a:lnTo>
                  <a:lnTo>
                    <a:pt x="438" y="862"/>
                  </a:lnTo>
                  <a:lnTo>
                    <a:pt x="448" y="864"/>
                  </a:lnTo>
                  <a:lnTo>
                    <a:pt x="459" y="869"/>
                  </a:lnTo>
                  <a:lnTo>
                    <a:pt x="468" y="871"/>
                  </a:lnTo>
                  <a:lnTo>
                    <a:pt x="479" y="875"/>
                  </a:lnTo>
                  <a:lnTo>
                    <a:pt x="489" y="875"/>
                  </a:lnTo>
                  <a:lnTo>
                    <a:pt x="515" y="873"/>
                  </a:lnTo>
                  <a:lnTo>
                    <a:pt x="524" y="871"/>
                  </a:lnTo>
                  <a:lnTo>
                    <a:pt x="533" y="867"/>
                  </a:lnTo>
                  <a:lnTo>
                    <a:pt x="541" y="864"/>
                  </a:lnTo>
                  <a:lnTo>
                    <a:pt x="550" y="858"/>
                  </a:lnTo>
                  <a:lnTo>
                    <a:pt x="558" y="851"/>
                  </a:lnTo>
                  <a:lnTo>
                    <a:pt x="565" y="843"/>
                  </a:lnTo>
                  <a:lnTo>
                    <a:pt x="569" y="839"/>
                  </a:lnTo>
                  <a:lnTo>
                    <a:pt x="576" y="828"/>
                  </a:lnTo>
                  <a:lnTo>
                    <a:pt x="580" y="821"/>
                  </a:lnTo>
                  <a:lnTo>
                    <a:pt x="582" y="813"/>
                  </a:lnTo>
                  <a:lnTo>
                    <a:pt x="586" y="804"/>
                  </a:lnTo>
                  <a:lnTo>
                    <a:pt x="586" y="793"/>
                  </a:lnTo>
                  <a:lnTo>
                    <a:pt x="589" y="782"/>
                  </a:lnTo>
                  <a:lnTo>
                    <a:pt x="586" y="774"/>
                  </a:lnTo>
                  <a:lnTo>
                    <a:pt x="584" y="765"/>
                  </a:lnTo>
                  <a:lnTo>
                    <a:pt x="584" y="763"/>
                  </a:lnTo>
                  <a:lnTo>
                    <a:pt x="582" y="757"/>
                  </a:lnTo>
                  <a:lnTo>
                    <a:pt x="580" y="746"/>
                  </a:lnTo>
                  <a:lnTo>
                    <a:pt x="580" y="739"/>
                  </a:lnTo>
                  <a:lnTo>
                    <a:pt x="580" y="711"/>
                  </a:lnTo>
                  <a:lnTo>
                    <a:pt x="582" y="703"/>
                  </a:lnTo>
                  <a:lnTo>
                    <a:pt x="586" y="694"/>
                  </a:lnTo>
                  <a:lnTo>
                    <a:pt x="591" y="685"/>
                  </a:lnTo>
                  <a:lnTo>
                    <a:pt x="595" y="681"/>
                  </a:lnTo>
                  <a:lnTo>
                    <a:pt x="599" y="675"/>
                  </a:lnTo>
                  <a:lnTo>
                    <a:pt x="606" y="670"/>
                  </a:lnTo>
                  <a:lnTo>
                    <a:pt x="614" y="664"/>
                  </a:lnTo>
                  <a:lnTo>
                    <a:pt x="621" y="660"/>
                  </a:lnTo>
                  <a:lnTo>
                    <a:pt x="630" y="657"/>
                  </a:lnTo>
                  <a:lnTo>
                    <a:pt x="638" y="655"/>
                  </a:lnTo>
                  <a:lnTo>
                    <a:pt x="662" y="655"/>
                  </a:lnTo>
                  <a:lnTo>
                    <a:pt x="673" y="660"/>
                  </a:lnTo>
                  <a:lnTo>
                    <a:pt x="869" y="718"/>
                  </a:lnTo>
                  <a:lnTo>
                    <a:pt x="908" y="591"/>
                  </a:lnTo>
                  <a:lnTo>
                    <a:pt x="912" y="573"/>
                  </a:lnTo>
                  <a:lnTo>
                    <a:pt x="912" y="565"/>
                  </a:lnTo>
                  <a:lnTo>
                    <a:pt x="912" y="552"/>
                  </a:lnTo>
                  <a:lnTo>
                    <a:pt x="893" y="517"/>
                  </a:lnTo>
                  <a:lnTo>
                    <a:pt x="880" y="509"/>
                  </a:lnTo>
                  <a:lnTo>
                    <a:pt x="875" y="504"/>
                  </a:lnTo>
                  <a:lnTo>
                    <a:pt x="869" y="500"/>
                  </a:lnTo>
                  <a:lnTo>
                    <a:pt x="862" y="498"/>
                  </a:lnTo>
                  <a:lnTo>
                    <a:pt x="854" y="498"/>
                  </a:lnTo>
                  <a:lnTo>
                    <a:pt x="850" y="496"/>
                  </a:lnTo>
                  <a:lnTo>
                    <a:pt x="834" y="496"/>
                  </a:lnTo>
                  <a:lnTo>
                    <a:pt x="828" y="498"/>
                  </a:lnTo>
                  <a:lnTo>
                    <a:pt x="822" y="498"/>
                  </a:lnTo>
                  <a:lnTo>
                    <a:pt x="817" y="500"/>
                  </a:lnTo>
                  <a:lnTo>
                    <a:pt x="811" y="504"/>
                  </a:lnTo>
                  <a:lnTo>
                    <a:pt x="802" y="506"/>
                  </a:lnTo>
                  <a:lnTo>
                    <a:pt x="793" y="509"/>
                  </a:lnTo>
                  <a:lnTo>
                    <a:pt x="776" y="509"/>
                  </a:lnTo>
                  <a:lnTo>
                    <a:pt x="770" y="506"/>
                  </a:lnTo>
                  <a:lnTo>
                    <a:pt x="759" y="506"/>
                  </a:lnTo>
                  <a:lnTo>
                    <a:pt x="752" y="502"/>
                  </a:lnTo>
                  <a:lnTo>
                    <a:pt x="744" y="498"/>
                  </a:lnTo>
                  <a:lnTo>
                    <a:pt x="733" y="489"/>
                  </a:lnTo>
                  <a:lnTo>
                    <a:pt x="729" y="483"/>
                  </a:lnTo>
                  <a:lnTo>
                    <a:pt x="722" y="476"/>
                  </a:lnTo>
                  <a:lnTo>
                    <a:pt x="722" y="468"/>
                  </a:lnTo>
                  <a:lnTo>
                    <a:pt x="716" y="459"/>
                  </a:lnTo>
                  <a:lnTo>
                    <a:pt x="712" y="448"/>
                  </a:lnTo>
                  <a:lnTo>
                    <a:pt x="712" y="435"/>
                  </a:lnTo>
                  <a:lnTo>
                    <a:pt x="709" y="420"/>
                  </a:lnTo>
                  <a:lnTo>
                    <a:pt x="709" y="392"/>
                  </a:lnTo>
                  <a:lnTo>
                    <a:pt x="712" y="379"/>
                  </a:lnTo>
                  <a:lnTo>
                    <a:pt x="714" y="366"/>
                  </a:lnTo>
                  <a:lnTo>
                    <a:pt x="714" y="364"/>
                  </a:lnTo>
                  <a:lnTo>
                    <a:pt x="716" y="356"/>
                  </a:lnTo>
                  <a:lnTo>
                    <a:pt x="722" y="340"/>
                  </a:lnTo>
                  <a:lnTo>
                    <a:pt x="735" y="325"/>
                  </a:lnTo>
                  <a:lnTo>
                    <a:pt x="752" y="317"/>
                  </a:lnTo>
                  <a:lnTo>
                    <a:pt x="770" y="310"/>
                  </a:lnTo>
                  <a:lnTo>
                    <a:pt x="789" y="310"/>
                  </a:lnTo>
                  <a:lnTo>
                    <a:pt x="793" y="312"/>
                  </a:lnTo>
                  <a:lnTo>
                    <a:pt x="800" y="312"/>
                  </a:lnTo>
                  <a:lnTo>
                    <a:pt x="804" y="317"/>
                  </a:lnTo>
                  <a:lnTo>
                    <a:pt x="815" y="323"/>
                  </a:lnTo>
                  <a:lnTo>
                    <a:pt x="826" y="332"/>
                  </a:lnTo>
                  <a:lnTo>
                    <a:pt x="834" y="340"/>
                  </a:lnTo>
                  <a:lnTo>
                    <a:pt x="847" y="345"/>
                  </a:lnTo>
                  <a:lnTo>
                    <a:pt x="854" y="349"/>
                  </a:lnTo>
                  <a:lnTo>
                    <a:pt x="860" y="353"/>
                  </a:lnTo>
                  <a:lnTo>
                    <a:pt x="869" y="356"/>
                  </a:lnTo>
                  <a:lnTo>
                    <a:pt x="895" y="356"/>
                  </a:lnTo>
                  <a:lnTo>
                    <a:pt x="901" y="351"/>
                  </a:lnTo>
                  <a:lnTo>
                    <a:pt x="908" y="347"/>
                  </a:lnTo>
                  <a:lnTo>
                    <a:pt x="914" y="345"/>
                  </a:lnTo>
                  <a:lnTo>
                    <a:pt x="921" y="340"/>
                  </a:lnTo>
                  <a:lnTo>
                    <a:pt x="923" y="334"/>
                  </a:lnTo>
                  <a:lnTo>
                    <a:pt x="931" y="332"/>
                  </a:lnTo>
                  <a:lnTo>
                    <a:pt x="936" y="325"/>
                  </a:lnTo>
                  <a:lnTo>
                    <a:pt x="936" y="319"/>
                  </a:lnTo>
                  <a:lnTo>
                    <a:pt x="938" y="312"/>
                  </a:lnTo>
                  <a:lnTo>
                    <a:pt x="940" y="308"/>
                  </a:lnTo>
                  <a:lnTo>
                    <a:pt x="942" y="300"/>
                  </a:lnTo>
                  <a:lnTo>
                    <a:pt x="942" y="293"/>
                  </a:lnTo>
                  <a:lnTo>
                    <a:pt x="944" y="248"/>
                  </a:lnTo>
                  <a:lnTo>
                    <a:pt x="942" y="213"/>
                  </a:lnTo>
                  <a:lnTo>
                    <a:pt x="940" y="177"/>
                  </a:lnTo>
                  <a:lnTo>
                    <a:pt x="936" y="140"/>
                  </a:lnTo>
                  <a:lnTo>
                    <a:pt x="931" y="105"/>
                  </a:lnTo>
                  <a:lnTo>
                    <a:pt x="927" y="69"/>
                  </a:lnTo>
                  <a:lnTo>
                    <a:pt x="925" y="65"/>
                  </a:lnTo>
                  <a:lnTo>
                    <a:pt x="727" y="15"/>
                  </a:lnTo>
                  <a:lnTo>
                    <a:pt x="718" y="13"/>
                  </a:lnTo>
                  <a:lnTo>
                    <a:pt x="703" y="13"/>
                  </a:lnTo>
                  <a:lnTo>
                    <a:pt x="696" y="15"/>
                  </a:lnTo>
                  <a:lnTo>
                    <a:pt x="686" y="17"/>
                  </a:lnTo>
                  <a:lnTo>
                    <a:pt x="683" y="19"/>
                  </a:lnTo>
                  <a:lnTo>
                    <a:pt x="675" y="24"/>
                  </a:lnTo>
                  <a:lnTo>
                    <a:pt x="671" y="26"/>
                  </a:lnTo>
                  <a:lnTo>
                    <a:pt x="662" y="32"/>
                  </a:lnTo>
                  <a:lnTo>
                    <a:pt x="658" y="37"/>
                  </a:lnTo>
                  <a:lnTo>
                    <a:pt x="655" y="47"/>
                  </a:lnTo>
                  <a:lnTo>
                    <a:pt x="651" y="52"/>
                  </a:lnTo>
                  <a:lnTo>
                    <a:pt x="649" y="60"/>
                  </a:lnTo>
                  <a:lnTo>
                    <a:pt x="647" y="67"/>
                  </a:lnTo>
                  <a:lnTo>
                    <a:pt x="645" y="73"/>
                  </a:lnTo>
                  <a:lnTo>
                    <a:pt x="645" y="82"/>
                  </a:lnTo>
                  <a:lnTo>
                    <a:pt x="647" y="88"/>
                  </a:lnTo>
                  <a:lnTo>
                    <a:pt x="647" y="90"/>
                  </a:lnTo>
                  <a:lnTo>
                    <a:pt x="651" y="103"/>
                  </a:lnTo>
                  <a:lnTo>
                    <a:pt x="653" y="112"/>
                  </a:lnTo>
                  <a:lnTo>
                    <a:pt x="655" y="123"/>
                  </a:lnTo>
                  <a:lnTo>
                    <a:pt x="666" y="140"/>
                  </a:lnTo>
                  <a:lnTo>
                    <a:pt x="675" y="153"/>
                  </a:lnTo>
                  <a:lnTo>
                    <a:pt x="677" y="170"/>
                  </a:lnTo>
                  <a:lnTo>
                    <a:pt x="679" y="183"/>
                  </a:lnTo>
                  <a:lnTo>
                    <a:pt x="677" y="198"/>
                  </a:lnTo>
                  <a:lnTo>
                    <a:pt x="675" y="211"/>
                  </a:lnTo>
                  <a:lnTo>
                    <a:pt x="671" y="222"/>
                  </a:lnTo>
                  <a:lnTo>
                    <a:pt x="662" y="235"/>
                  </a:lnTo>
                  <a:lnTo>
                    <a:pt x="647" y="252"/>
                  </a:lnTo>
                  <a:lnTo>
                    <a:pt x="627" y="269"/>
                  </a:lnTo>
                  <a:lnTo>
                    <a:pt x="612" y="280"/>
                  </a:lnTo>
                  <a:lnTo>
                    <a:pt x="599" y="284"/>
                  </a:lnTo>
                  <a:lnTo>
                    <a:pt x="556" y="295"/>
                  </a:lnTo>
                  <a:lnTo>
                    <a:pt x="520" y="295"/>
                  </a:lnTo>
                  <a:lnTo>
                    <a:pt x="492" y="287"/>
                  </a:lnTo>
                  <a:lnTo>
                    <a:pt x="472" y="276"/>
                  </a:lnTo>
                  <a:lnTo>
                    <a:pt x="461" y="259"/>
                  </a:lnTo>
                  <a:lnTo>
                    <a:pt x="455" y="237"/>
                  </a:lnTo>
                  <a:lnTo>
                    <a:pt x="455" y="213"/>
                  </a:lnTo>
                  <a:lnTo>
                    <a:pt x="459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787400" y="3246480"/>
              <a:ext cx="1500480" cy="1388880"/>
            </a:xfrm>
            <a:custGeom>
              <a:avLst/>
              <a:gdLst/>
              <a:ahLst/>
              <a:rect l="l" t="t" r="r" b="b"/>
              <a:pathLst>
                <a:path w="945" h="875">
                  <a:moveTo>
                    <a:pt x="460" y="194"/>
                  </a:moveTo>
                  <a:lnTo>
                    <a:pt x="468" y="164"/>
                  </a:lnTo>
                  <a:lnTo>
                    <a:pt x="477" y="140"/>
                  </a:lnTo>
                  <a:lnTo>
                    <a:pt x="477" y="136"/>
                  </a:lnTo>
                  <a:lnTo>
                    <a:pt x="477" y="127"/>
                  </a:lnTo>
                  <a:lnTo>
                    <a:pt x="479" y="123"/>
                  </a:lnTo>
                  <a:lnTo>
                    <a:pt x="479" y="112"/>
                  </a:lnTo>
                  <a:lnTo>
                    <a:pt x="481" y="99"/>
                  </a:lnTo>
                  <a:lnTo>
                    <a:pt x="484" y="88"/>
                  </a:lnTo>
                  <a:lnTo>
                    <a:pt x="484" y="80"/>
                  </a:lnTo>
                  <a:lnTo>
                    <a:pt x="481" y="69"/>
                  </a:lnTo>
                  <a:lnTo>
                    <a:pt x="481" y="52"/>
                  </a:lnTo>
                  <a:lnTo>
                    <a:pt x="479" y="45"/>
                  </a:lnTo>
                  <a:lnTo>
                    <a:pt x="475" y="37"/>
                  </a:lnTo>
                  <a:lnTo>
                    <a:pt x="466" y="28"/>
                  </a:lnTo>
                  <a:lnTo>
                    <a:pt x="460" y="22"/>
                  </a:lnTo>
                  <a:lnTo>
                    <a:pt x="451" y="15"/>
                  </a:lnTo>
                  <a:lnTo>
                    <a:pt x="443" y="7"/>
                  </a:lnTo>
                  <a:lnTo>
                    <a:pt x="432" y="4"/>
                  </a:lnTo>
                  <a:lnTo>
                    <a:pt x="423" y="2"/>
                  </a:lnTo>
                  <a:lnTo>
                    <a:pt x="417" y="0"/>
                  </a:lnTo>
                  <a:lnTo>
                    <a:pt x="246" y="4"/>
                  </a:lnTo>
                  <a:lnTo>
                    <a:pt x="266" y="147"/>
                  </a:lnTo>
                  <a:lnTo>
                    <a:pt x="266" y="170"/>
                  </a:lnTo>
                  <a:lnTo>
                    <a:pt x="264" y="183"/>
                  </a:lnTo>
                  <a:lnTo>
                    <a:pt x="264" y="188"/>
                  </a:lnTo>
                  <a:lnTo>
                    <a:pt x="261" y="196"/>
                  </a:lnTo>
                  <a:lnTo>
                    <a:pt x="257" y="205"/>
                  </a:lnTo>
                  <a:lnTo>
                    <a:pt x="253" y="213"/>
                  </a:lnTo>
                  <a:lnTo>
                    <a:pt x="248" y="220"/>
                  </a:lnTo>
                  <a:lnTo>
                    <a:pt x="242" y="226"/>
                  </a:lnTo>
                  <a:lnTo>
                    <a:pt x="240" y="233"/>
                  </a:lnTo>
                  <a:lnTo>
                    <a:pt x="229" y="242"/>
                  </a:lnTo>
                  <a:lnTo>
                    <a:pt x="225" y="244"/>
                  </a:lnTo>
                  <a:lnTo>
                    <a:pt x="218" y="248"/>
                  </a:lnTo>
                  <a:lnTo>
                    <a:pt x="212" y="252"/>
                  </a:lnTo>
                  <a:lnTo>
                    <a:pt x="205" y="254"/>
                  </a:lnTo>
                  <a:lnTo>
                    <a:pt x="197" y="254"/>
                  </a:lnTo>
                  <a:lnTo>
                    <a:pt x="190" y="257"/>
                  </a:lnTo>
                  <a:lnTo>
                    <a:pt x="182" y="257"/>
                  </a:lnTo>
                  <a:lnTo>
                    <a:pt x="177" y="254"/>
                  </a:lnTo>
                  <a:lnTo>
                    <a:pt x="169" y="254"/>
                  </a:lnTo>
                  <a:lnTo>
                    <a:pt x="162" y="252"/>
                  </a:lnTo>
                  <a:lnTo>
                    <a:pt x="156" y="250"/>
                  </a:lnTo>
                  <a:lnTo>
                    <a:pt x="149" y="246"/>
                  </a:lnTo>
                  <a:lnTo>
                    <a:pt x="117" y="231"/>
                  </a:lnTo>
                  <a:lnTo>
                    <a:pt x="108" y="231"/>
                  </a:lnTo>
                  <a:lnTo>
                    <a:pt x="102" y="229"/>
                  </a:lnTo>
                  <a:lnTo>
                    <a:pt x="93" y="226"/>
                  </a:lnTo>
                  <a:lnTo>
                    <a:pt x="87" y="226"/>
                  </a:lnTo>
                  <a:lnTo>
                    <a:pt x="80" y="229"/>
                  </a:lnTo>
                  <a:lnTo>
                    <a:pt x="74" y="231"/>
                  </a:lnTo>
                  <a:lnTo>
                    <a:pt x="67" y="231"/>
                  </a:lnTo>
                  <a:lnTo>
                    <a:pt x="61" y="233"/>
                  </a:lnTo>
                  <a:lnTo>
                    <a:pt x="52" y="237"/>
                  </a:lnTo>
                  <a:lnTo>
                    <a:pt x="48" y="242"/>
                  </a:lnTo>
                  <a:lnTo>
                    <a:pt x="41" y="242"/>
                  </a:lnTo>
                  <a:lnTo>
                    <a:pt x="39" y="246"/>
                  </a:lnTo>
                  <a:lnTo>
                    <a:pt x="31" y="252"/>
                  </a:lnTo>
                  <a:lnTo>
                    <a:pt x="28" y="261"/>
                  </a:lnTo>
                  <a:lnTo>
                    <a:pt x="22" y="265"/>
                  </a:lnTo>
                  <a:lnTo>
                    <a:pt x="16" y="272"/>
                  </a:lnTo>
                  <a:lnTo>
                    <a:pt x="13" y="280"/>
                  </a:lnTo>
                  <a:lnTo>
                    <a:pt x="9" y="287"/>
                  </a:lnTo>
                  <a:lnTo>
                    <a:pt x="7" y="293"/>
                  </a:lnTo>
                  <a:lnTo>
                    <a:pt x="5" y="302"/>
                  </a:lnTo>
                  <a:lnTo>
                    <a:pt x="5" y="311"/>
                  </a:lnTo>
                  <a:lnTo>
                    <a:pt x="3" y="317"/>
                  </a:lnTo>
                  <a:lnTo>
                    <a:pt x="0" y="326"/>
                  </a:lnTo>
                  <a:lnTo>
                    <a:pt x="0" y="336"/>
                  </a:lnTo>
                  <a:lnTo>
                    <a:pt x="5" y="349"/>
                  </a:lnTo>
                  <a:lnTo>
                    <a:pt x="5" y="360"/>
                  </a:lnTo>
                  <a:lnTo>
                    <a:pt x="9" y="373"/>
                  </a:lnTo>
                  <a:lnTo>
                    <a:pt x="11" y="375"/>
                  </a:lnTo>
                  <a:lnTo>
                    <a:pt x="33" y="410"/>
                  </a:lnTo>
                  <a:lnTo>
                    <a:pt x="41" y="418"/>
                  </a:lnTo>
                  <a:lnTo>
                    <a:pt x="52" y="420"/>
                  </a:lnTo>
                  <a:lnTo>
                    <a:pt x="63" y="427"/>
                  </a:lnTo>
                  <a:lnTo>
                    <a:pt x="74" y="429"/>
                  </a:lnTo>
                  <a:lnTo>
                    <a:pt x="87" y="431"/>
                  </a:lnTo>
                  <a:lnTo>
                    <a:pt x="97" y="431"/>
                  </a:lnTo>
                  <a:lnTo>
                    <a:pt x="108" y="429"/>
                  </a:lnTo>
                  <a:lnTo>
                    <a:pt x="119" y="425"/>
                  </a:lnTo>
                  <a:lnTo>
                    <a:pt x="130" y="420"/>
                  </a:lnTo>
                  <a:lnTo>
                    <a:pt x="134" y="418"/>
                  </a:lnTo>
                  <a:lnTo>
                    <a:pt x="141" y="418"/>
                  </a:lnTo>
                  <a:lnTo>
                    <a:pt x="147" y="416"/>
                  </a:lnTo>
                  <a:lnTo>
                    <a:pt x="166" y="416"/>
                  </a:lnTo>
                  <a:lnTo>
                    <a:pt x="173" y="418"/>
                  </a:lnTo>
                  <a:lnTo>
                    <a:pt x="182" y="420"/>
                  </a:lnTo>
                  <a:lnTo>
                    <a:pt x="190" y="429"/>
                  </a:lnTo>
                  <a:lnTo>
                    <a:pt x="205" y="442"/>
                  </a:lnTo>
                  <a:lnTo>
                    <a:pt x="207" y="451"/>
                  </a:lnTo>
                  <a:lnTo>
                    <a:pt x="212" y="457"/>
                  </a:lnTo>
                  <a:lnTo>
                    <a:pt x="216" y="468"/>
                  </a:lnTo>
                  <a:lnTo>
                    <a:pt x="216" y="492"/>
                  </a:lnTo>
                  <a:lnTo>
                    <a:pt x="214" y="500"/>
                  </a:lnTo>
                  <a:lnTo>
                    <a:pt x="212" y="505"/>
                  </a:lnTo>
                  <a:lnTo>
                    <a:pt x="173" y="617"/>
                  </a:lnTo>
                  <a:lnTo>
                    <a:pt x="341" y="638"/>
                  </a:lnTo>
                  <a:lnTo>
                    <a:pt x="354" y="643"/>
                  </a:lnTo>
                  <a:lnTo>
                    <a:pt x="358" y="645"/>
                  </a:lnTo>
                  <a:lnTo>
                    <a:pt x="369" y="651"/>
                  </a:lnTo>
                  <a:lnTo>
                    <a:pt x="374" y="653"/>
                  </a:lnTo>
                  <a:lnTo>
                    <a:pt x="380" y="658"/>
                  </a:lnTo>
                  <a:lnTo>
                    <a:pt x="397" y="677"/>
                  </a:lnTo>
                  <a:lnTo>
                    <a:pt x="402" y="681"/>
                  </a:lnTo>
                  <a:lnTo>
                    <a:pt x="404" y="688"/>
                  </a:lnTo>
                  <a:lnTo>
                    <a:pt x="406" y="692"/>
                  </a:lnTo>
                  <a:lnTo>
                    <a:pt x="408" y="701"/>
                  </a:lnTo>
                  <a:lnTo>
                    <a:pt x="410" y="707"/>
                  </a:lnTo>
                  <a:lnTo>
                    <a:pt x="410" y="720"/>
                  </a:lnTo>
                  <a:lnTo>
                    <a:pt x="406" y="737"/>
                  </a:lnTo>
                  <a:lnTo>
                    <a:pt x="404" y="752"/>
                  </a:lnTo>
                  <a:lnTo>
                    <a:pt x="397" y="768"/>
                  </a:lnTo>
                  <a:lnTo>
                    <a:pt x="395" y="778"/>
                  </a:lnTo>
                  <a:lnTo>
                    <a:pt x="395" y="798"/>
                  </a:lnTo>
                  <a:lnTo>
                    <a:pt x="397" y="809"/>
                  </a:lnTo>
                  <a:lnTo>
                    <a:pt x="404" y="821"/>
                  </a:lnTo>
                  <a:lnTo>
                    <a:pt x="406" y="830"/>
                  </a:lnTo>
                  <a:lnTo>
                    <a:pt x="408" y="834"/>
                  </a:lnTo>
                  <a:lnTo>
                    <a:pt x="417" y="843"/>
                  </a:lnTo>
                  <a:lnTo>
                    <a:pt x="423" y="847"/>
                  </a:lnTo>
                  <a:lnTo>
                    <a:pt x="432" y="856"/>
                  </a:lnTo>
                  <a:lnTo>
                    <a:pt x="440" y="862"/>
                  </a:lnTo>
                  <a:lnTo>
                    <a:pt x="449" y="869"/>
                  </a:lnTo>
                  <a:lnTo>
                    <a:pt x="460" y="869"/>
                  </a:lnTo>
                  <a:lnTo>
                    <a:pt x="468" y="871"/>
                  </a:lnTo>
                  <a:lnTo>
                    <a:pt x="479" y="875"/>
                  </a:lnTo>
                  <a:lnTo>
                    <a:pt x="490" y="875"/>
                  </a:lnTo>
                  <a:lnTo>
                    <a:pt x="516" y="873"/>
                  </a:lnTo>
                  <a:lnTo>
                    <a:pt x="524" y="871"/>
                  </a:lnTo>
                  <a:lnTo>
                    <a:pt x="535" y="869"/>
                  </a:lnTo>
                  <a:lnTo>
                    <a:pt x="542" y="865"/>
                  </a:lnTo>
                  <a:lnTo>
                    <a:pt x="550" y="858"/>
                  </a:lnTo>
                  <a:lnTo>
                    <a:pt x="559" y="854"/>
                  </a:lnTo>
                  <a:lnTo>
                    <a:pt x="565" y="845"/>
                  </a:lnTo>
                  <a:lnTo>
                    <a:pt x="572" y="839"/>
                  </a:lnTo>
                  <a:lnTo>
                    <a:pt x="576" y="830"/>
                  </a:lnTo>
                  <a:lnTo>
                    <a:pt x="583" y="821"/>
                  </a:lnTo>
                  <a:lnTo>
                    <a:pt x="583" y="813"/>
                  </a:lnTo>
                  <a:lnTo>
                    <a:pt x="587" y="804"/>
                  </a:lnTo>
                  <a:lnTo>
                    <a:pt x="587" y="796"/>
                  </a:lnTo>
                  <a:lnTo>
                    <a:pt x="589" y="785"/>
                  </a:lnTo>
                  <a:lnTo>
                    <a:pt x="587" y="774"/>
                  </a:lnTo>
                  <a:lnTo>
                    <a:pt x="585" y="765"/>
                  </a:lnTo>
                  <a:lnTo>
                    <a:pt x="585" y="763"/>
                  </a:lnTo>
                  <a:lnTo>
                    <a:pt x="583" y="757"/>
                  </a:lnTo>
                  <a:lnTo>
                    <a:pt x="583" y="748"/>
                  </a:lnTo>
                  <a:lnTo>
                    <a:pt x="581" y="740"/>
                  </a:lnTo>
                  <a:lnTo>
                    <a:pt x="581" y="714"/>
                  </a:lnTo>
                  <a:lnTo>
                    <a:pt x="583" y="703"/>
                  </a:lnTo>
                  <a:lnTo>
                    <a:pt x="587" y="694"/>
                  </a:lnTo>
                  <a:lnTo>
                    <a:pt x="591" y="688"/>
                  </a:lnTo>
                  <a:lnTo>
                    <a:pt x="596" y="681"/>
                  </a:lnTo>
                  <a:lnTo>
                    <a:pt x="600" y="677"/>
                  </a:lnTo>
                  <a:lnTo>
                    <a:pt x="606" y="668"/>
                  </a:lnTo>
                  <a:lnTo>
                    <a:pt x="615" y="666"/>
                  </a:lnTo>
                  <a:lnTo>
                    <a:pt x="622" y="660"/>
                  </a:lnTo>
                  <a:lnTo>
                    <a:pt x="630" y="658"/>
                  </a:lnTo>
                  <a:lnTo>
                    <a:pt x="639" y="658"/>
                  </a:lnTo>
                  <a:lnTo>
                    <a:pt x="665" y="658"/>
                  </a:lnTo>
                  <a:lnTo>
                    <a:pt x="673" y="660"/>
                  </a:lnTo>
                  <a:lnTo>
                    <a:pt x="872" y="718"/>
                  </a:lnTo>
                  <a:lnTo>
                    <a:pt x="908" y="591"/>
                  </a:lnTo>
                  <a:lnTo>
                    <a:pt x="913" y="576"/>
                  </a:lnTo>
                  <a:lnTo>
                    <a:pt x="915" y="565"/>
                  </a:lnTo>
                  <a:lnTo>
                    <a:pt x="913" y="552"/>
                  </a:lnTo>
                  <a:lnTo>
                    <a:pt x="893" y="517"/>
                  </a:lnTo>
                  <a:lnTo>
                    <a:pt x="880" y="509"/>
                  </a:lnTo>
                  <a:lnTo>
                    <a:pt x="876" y="505"/>
                  </a:lnTo>
                  <a:lnTo>
                    <a:pt x="870" y="502"/>
                  </a:lnTo>
                  <a:lnTo>
                    <a:pt x="863" y="500"/>
                  </a:lnTo>
                  <a:lnTo>
                    <a:pt x="857" y="500"/>
                  </a:lnTo>
                  <a:lnTo>
                    <a:pt x="850" y="498"/>
                  </a:lnTo>
                  <a:lnTo>
                    <a:pt x="837" y="498"/>
                  </a:lnTo>
                  <a:lnTo>
                    <a:pt x="831" y="500"/>
                  </a:lnTo>
                  <a:lnTo>
                    <a:pt x="822" y="500"/>
                  </a:lnTo>
                  <a:lnTo>
                    <a:pt x="820" y="502"/>
                  </a:lnTo>
                  <a:lnTo>
                    <a:pt x="811" y="505"/>
                  </a:lnTo>
                  <a:lnTo>
                    <a:pt x="803" y="507"/>
                  </a:lnTo>
                  <a:lnTo>
                    <a:pt x="796" y="509"/>
                  </a:lnTo>
                  <a:lnTo>
                    <a:pt x="777" y="509"/>
                  </a:lnTo>
                  <a:lnTo>
                    <a:pt x="770" y="507"/>
                  </a:lnTo>
                  <a:lnTo>
                    <a:pt x="762" y="507"/>
                  </a:lnTo>
                  <a:lnTo>
                    <a:pt x="753" y="502"/>
                  </a:lnTo>
                  <a:lnTo>
                    <a:pt x="744" y="500"/>
                  </a:lnTo>
                  <a:lnTo>
                    <a:pt x="736" y="492"/>
                  </a:lnTo>
                  <a:lnTo>
                    <a:pt x="729" y="483"/>
                  </a:lnTo>
                  <a:lnTo>
                    <a:pt x="725" y="477"/>
                  </a:lnTo>
                  <a:lnTo>
                    <a:pt x="721" y="468"/>
                  </a:lnTo>
                  <a:lnTo>
                    <a:pt x="716" y="459"/>
                  </a:lnTo>
                  <a:lnTo>
                    <a:pt x="714" y="448"/>
                  </a:lnTo>
                  <a:lnTo>
                    <a:pt x="714" y="433"/>
                  </a:lnTo>
                  <a:lnTo>
                    <a:pt x="712" y="420"/>
                  </a:lnTo>
                  <a:lnTo>
                    <a:pt x="712" y="395"/>
                  </a:lnTo>
                  <a:lnTo>
                    <a:pt x="714" y="382"/>
                  </a:lnTo>
                  <a:lnTo>
                    <a:pt x="714" y="369"/>
                  </a:lnTo>
                  <a:lnTo>
                    <a:pt x="714" y="364"/>
                  </a:lnTo>
                  <a:lnTo>
                    <a:pt x="719" y="358"/>
                  </a:lnTo>
                  <a:lnTo>
                    <a:pt x="725" y="341"/>
                  </a:lnTo>
                  <a:lnTo>
                    <a:pt x="738" y="326"/>
                  </a:lnTo>
                  <a:lnTo>
                    <a:pt x="753" y="317"/>
                  </a:lnTo>
                  <a:lnTo>
                    <a:pt x="772" y="313"/>
                  </a:lnTo>
                  <a:lnTo>
                    <a:pt x="790" y="313"/>
                  </a:lnTo>
                  <a:lnTo>
                    <a:pt x="796" y="313"/>
                  </a:lnTo>
                  <a:lnTo>
                    <a:pt x="801" y="313"/>
                  </a:lnTo>
                  <a:lnTo>
                    <a:pt x="805" y="317"/>
                  </a:lnTo>
                  <a:lnTo>
                    <a:pt x="813" y="326"/>
                  </a:lnTo>
                  <a:lnTo>
                    <a:pt x="826" y="332"/>
                  </a:lnTo>
                  <a:lnTo>
                    <a:pt x="837" y="341"/>
                  </a:lnTo>
                  <a:lnTo>
                    <a:pt x="848" y="347"/>
                  </a:lnTo>
                  <a:lnTo>
                    <a:pt x="857" y="349"/>
                  </a:lnTo>
                  <a:lnTo>
                    <a:pt x="861" y="354"/>
                  </a:lnTo>
                  <a:lnTo>
                    <a:pt x="870" y="356"/>
                  </a:lnTo>
                  <a:lnTo>
                    <a:pt x="895" y="356"/>
                  </a:lnTo>
                  <a:lnTo>
                    <a:pt x="902" y="351"/>
                  </a:lnTo>
                  <a:lnTo>
                    <a:pt x="908" y="349"/>
                  </a:lnTo>
                  <a:lnTo>
                    <a:pt x="915" y="347"/>
                  </a:lnTo>
                  <a:lnTo>
                    <a:pt x="921" y="341"/>
                  </a:lnTo>
                  <a:lnTo>
                    <a:pt x="926" y="336"/>
                  </a:lnTo>
                  <a:lnTo>
                    <a:pt x="932" y="332"/>
                  </a:lnTo>
                  <a:lnTo>
                    <a:pt x="936" y="326"/>
                  </a:lnTo>
                  <a:lnTo>
                    <a:pt x="939" y="323"/>
                  </a:lnTo>
                  <a:lnTo>
                    <a:pt x="939" y="313"/>
                  </a:lnTo>
                  <a:lnTo>
                    <a:pt x="941" y="308"/>
                  </a:lnTo>
                  <a:lnTo>
                    <a:pt x="943" y="300"/>
                  </a:lnTo>
                  <a:lnTo>
                    <a:pt x="943" y="293"/>
                  </a:lnTo>
                  <a:lnTo>
                    <a:pt x="945" y="250"/>
                  </a:lnTo>
                  <a:lnTo>
                    <a:pt x="943" y="213"/>
                  </a:lnTo>
                  <a:lnTo>
                    <a:pt x="941" y="177"/>
                  </a:lnTo>
                  <a:lnTo>
                    <a:pt x="939" y="140"/>
                  </a:lnTo>
                  <a:lnTo>
                    <a:pt x="932" y="104"/>
                  </a:lnTo>
                  <a:lnTo>
                    <a:pt x="928" y="69"/>
                  </a:lnTo>
                  <a:lnTo>
                    <a:pt x="926" y="67"/>
                  </a:lnTo>
                  <a:lnTo>
                    <a:pt x="727" y="17"/>
                  </a:lnTo>
                  <a:lnTo>
                    <a:pt x="719" y="15"/>
                  </a:lnTo>
                  <a:lnTo>
                    <a:pt x="703" y="15"/>
                  </a:lnTo>
                  <a:lnTo>
                    <a:pt x="697" y="17"/>
                  </a:lnTo>
                  <a:lnTo>
                    <a:pt x="688" y="17"/>
                  </a:lnTo>
                  <a:lnTo>
                    <a:pt x="684" y="19"/>
                  </a:lnTo>
                  <a:lnTo>
                    <a:pt x="678" y="22"/>
                  </a:lnTo>
                  <a:lnTo>
                    <a:pt x="671" y="28"/>
                  </a:lnTo>
                  <a:lnTo>
                    <a:pt x="665" y="32"/>
                  </a:lnTo>
                  <a:lnTo>
                    <a:pt x="658" y="39"/>
                  </a:lnTo>
                  <a:lnTo>
                    <a:pt x="656" y="47"/>
                  </a:lnTo>
                  <a:lnTo>
                    <a:pt x="652" y="52"/>
                  </a:lnTo>
                  <a:lnTo>
                    <a:pt x="650" y="63"/>
                  </a:lnTo>
                  <a:lnTo>
                    <a:pt x="647" y="67"/>
                  </a:lnTo>
                  <a:lnTo>
                    <a:pt x="645" y="76"/>
                  </a:lnTo>
                  <a:lnTo>
                    <a:pt x="645" y="84"/>
                  </a:lnTo>
                  <a:lnTo>
                    <a:pt x="647" y="88"/>
                  </a:lnTo>
                  <a:lnTo>
                    <a:pt x="647" y="93"/>
                  </a:lnTo>
                  <a:lnTo>
                    <a:pt x="652" y="104"/>
                  </a:lnTo>
                  <a:lnTo>
                    <a:pt x="654" y="112"/>
                  </a:lnTo>
                  <a:lnTo>
                    <a:pt x="656" y="123"/>
                  </a:lnTo>
                  <a:lnTo>
                    <a:pt x="667" y="140"/>
                  </a:lnTo>
                  <a:lnTo>
                    <a:pt x="675" y="157"/>
                  </a:lnTo>
                  <a:lnTo>
                    <a:pt x="678" y="170"/>
                  </a:lnTo>
                  <a:lnTo>
                    <a:pt x="680" y="183"/>
                  </a:lnTo>
                  <a:lnTo>
                    <a:pt x="678" y="198"/>
                  </a:lnTo>
                  <a:lnTo>
                    <a:pt x="675" y="211"/>
                  </a:lnTo>
                  <a:lnTo>
                    <a:pt x="671" y="222"/>
                  </a:lnTo>
                  <a:lnTo>
                    <a:pt x="665" y="235"/>
                  </a:lnTo>
                  <a:lnTo>
                    <a:pt x="647" y="254"/>
                  </a:lnTo>
                  <a:lnTo>
                    <a:pt x="630" y="270"/>
                  </a:lnTo>
                  <a:lnTo>
                    <a:pt x="613" y="280"/>
                  </a:lnTo>
                  <a:lnTo>
                    <a:pt x="600" y="287"/>
                  </a:lnTo>
                  <a:lnTo>
                    <a:pt x="557" y="295"/>
                  </a:lnTo>
                  <a:lnTo>
                    <a:pt x="520" y="295"/>
                  </a:lnTo>
                  <a:lnTo>
                    <a:pt x="492" y="289"/>
                  </a:lnTo>
                  <a:lnTo>
                    <a:pt x="475" y="276"/>
                  </a:lnTo>
                  <a:lnTo>
                    <a:pt x="462" y="259"/>
                  </a:lnTo>
                  <a:lnTo>
                    <a:pt x="455" y="239"/>
                  </a:lnTo>
                  <a:lnTo>
                    <a:pt x="455" y="218"/>
                  </a:lnTo>
                  <a:lnTo>
                    <a:pt x="460" y="194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2517840" y="3506760"/>
              <a:ext cx="12600" cy="4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2530440" y="3468600"/>
              <a:ext cx="144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2544840" y="3462120"/>
              <a:ext cx="144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2544840" y="3448080"/>
              <a:ext cx="14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2544840" y="344160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2548080" y="342432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548080" y="3403440"/>
              <a:ext cx="288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2550960" y="3386160"/>
              <a:ext cx="50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2556000" y="3373200"/>
              <a:ext cx="14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flipV="1">
              <a:off x="2550960" y="3355560"/>
              <a:ext cx="50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2550960" y="3328560"/>
              <a:ext cx="18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 flipV="1">
              <a:off x="2548080" y="3317400"/>
              <a:ext cx="28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2541600" y="3304800"/>
              <a:ext cx="64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 flipV="1">
              <a:off x="2527200" y="3290760"/>
              <a:ext cx="1440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 flipV="1">
              <a:off x="2517840" y="328140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2503440" y="3269880"/>
              <a:ext cx="1440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2490480" y="3257280"/>
              <a:ext cx="126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2472840" y="3252600"/>
              <a:ext cx="176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 flipV="1">
              <a:off x="2458800" y="3249360"/>
              <a:ext cx="14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 flipV="1">
              <a:off x="2449080" y="324612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178000" y="3246480"/>
              <a:ext cx="2714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78000" y="3252960"/>
              <a:ext cx="31680" cy="226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09680" y="3479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2206800" y="3516480"/>
              <a:ext cx="28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06800" y="353700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2201760" y="3544920"/>
              <a:ext cx="50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2195280" y="3557520"/>
              <a:ext cx="61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2189160" y="3571920"/>
              <a:ext cx="64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2181240" y="3584520"/>
              <a:ext cx="792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2171880" y="359568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168280" y="360504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2150640" y="3616200"/>
              <a:ext cx="1764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6" name=""/>
            <p:cNvGrpSpPr/>
            <p:nvPr/>
          </p:nvGrpSpPr>
          <p:grpSpPr>
            <a:xfrm>
              <a:off x="1787400" y="3411000"/>
              <a:ext cx="1500480" cy="1226160"/>
              <a:chOff x="1787400" y="3411000"/>
              <a:chExt cx="1500480" cy="1226160"/>
            </a:xfrm>
          </p:grpSpPr>
          <p:sp>
            <p:nvSpPr>
              <p:cNvPr id="1687" name=""/>
              <p:cNvSpPr/>
              <p:nvPr/>
            </p:nvSpPr>
            <p:spPr>
              <a:xfrm flipH="1">
                <a:off x="2144520" y="363060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2133360" y="363384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2123640" y="3639960"/>
                <a:ext cx="9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2112480" y="364644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2099880" y="364968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2088720" y="3649680"/>
                <a:ext cx="111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2076120" y="3654360"/>
                <a:ext cx="12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 flipV="1">
                <a:off x="2068560" y="3649320"/>
                <a:ext cx="79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2055600" y="364968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 flipV="1">
                <a:off x="2044440" y="364608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2034720" y="364284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 flipV="1">
                <a:off x="2023560" y="3636720"/>
                <a:ext cx="111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972800" y="3613320"/>
                <a:ext cx="5076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1958760" y="3613320"/>
                <a:ext cx="14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949040" y="360972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 flipV="1">
                <a:off x="1935000" y="3605040"/>
                <a:ext cx="144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1925640" y="36050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1914120" y="3605040"/>
                <a:ext cx="111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1905120" y="361008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1893600" y="361332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1883880" y="3613320"/>
                <a:ext cx="97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1869840" y="3616200"/>
                <a:ext cx="140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1863720" y="362268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1852200" y="3630600"/>
                <a:ext cx="11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1848960" y="363060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836360" y="3637080"/>
                <a:ext cx="1260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1831680" y="3646440"/>
                <a:ext cx="46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1821960" y="3660840"/>
                <a:ext cx="972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1812960" y="3666960"/>
                <a:ext cx="93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1807920" y="3678120"/>
                <a:ext cx="468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1801800" y="3691080"/>
                <a:ext cx="648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1798200" y="370188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1794960" y="371160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95320" y="3726000"/>
                <a:ext cx="18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1792440" y="37400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1787400" y="3749760"/>
                <a:ext cx="50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787400" y="376380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787400" y="3780000"/>
                <a:ext cx="79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795320" y="3800520"/>
                <a:ext cx="180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795320" y="3817800"/>
                <a:ext cx="648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801800" y="383868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05040" y="3841920"/>
                <a:ext cx="3492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839960" y="3897360"/>
                <a:ext cx="126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52560" y="390996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870200" y="3913200"/>
                <a:ext cx="17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887480" y="392436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905120" y="3927600"/>
                <a:ext cx="205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925640" y="3930480"/>
                <a:ext cx="15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1941480" y="3927600"/>
                <a:ext cx="176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1959120" y="3921120"/>
                <a:ext cx="1728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1976400" y="3913200"/>
                <a:ext cx="176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1994040" y="3909600"/>
                <a:ext cx="61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000160" y="3909960"/>
                <a:ext cx="111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2011320" y="3906360"/>
                <a:ext cx="972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2021040" y="39067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050920" y="39067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062080" y="390996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076480" y="3913200"/>
                <a:ext cx="126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089080" y="3927600"/>
                <a:ext cx="2376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112840" y="394812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116080" y="3962520"/>
                <a:ext cx="79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124000" y="3971880"/>
                <a:ext cx="648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130480" y="3989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2126880" y="4027320"/>
                <a:ext cx="324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2123640" y="404028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2062080" y="4048200"/>
                <a:ext cx="61920" cy="177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062080" y="4226040"/>
                <a:ext cx="26676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328840" y="4259160"/>
                <a:ext cx="205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349360" y="4267080"/>
                <a:ext cx="648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355840" y="4270320"/>
                <a:ext cx="176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373480" y="4280040"/>
                <a:ext cx="792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381400" y="4282920"/>
                <a:ext cx="93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390760" y="4290840"/>
                <a:ext cx="27000" cy="30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417760" y="432108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425680" y="4327560"/>
                <a:ext cx="32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428920" y="4338720"/>
                <a:ext cx="32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432160" y="434484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35400" y="4359240"/>
                <a:ext cx="2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438280" y="43689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2431800" y="4389480"/>
                <a:ext cx="612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2428560" y="4416480"/>
                <a:ext cx="32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2417400" y="4440240"/>
                <a:ext cx="1116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2414160" y="4465800"/>
                <a:ext cx="32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414520" y="4481640"/>
                <a:ext cx="1800" cy="31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414520" y="451332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417760" y="4530600"/>
                <a:ext cx="1116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428920" y="454968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432160" y="4564080"/>
                <a:ext cx="3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435400" y="4570560"/>
                <a:ext cx="1404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449440" y="4584600"/>
                <a:ext cx="97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459160" y="4591080"/>
                <a:ext cx="140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473200" y="4605480"/>
                <a:ext cx="129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486160" y="4614840"/>
                <a:ext cx="140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500200" y="4626000"/>
                <a:ext cx="176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517840" y="462600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530440" y="4629240"/>
                <a:ext cx="176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548080" y="4635360"/>
                <a:ext cx="17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2565360" y="4632480"/>
                <a:ext cx="414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2606760" y="46288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2619360" y="4625640"/>
                <a:ext cx="176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>
                <a:off x="2637000" y="461952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2647800" y="4608000"/>
                <a:ext cx="1296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2660760" y="4601880"/>
                <a:ext cx="140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2674800" y="4587840"/>
                <a:ext cx="97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2684520" y="4578480"/>
                <a:ext cx="1116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2695680" y="4564080"/>
                <a:ext cx="61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2701800" y="4549680"/>
                <a:ext cx="1116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2712960" y="4536720"/>
                <a:ext cx="18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2712960" y="45226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2719440" y="4509720"/>
                <a:ext cx="14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719440" y="449280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 flipV="1">
                <a:off x="2719080" y="447480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 flipV="1">
                <a:off x="2715840" y="4460760"/>
                <a:ext cx="324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2716200" y="44578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 flipV="1">
                <a:off x="2712600" y="4447800"/>
                <a:ext cx="324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2712960" y="4433760"/>
                <a:ext cx="180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2709360" y="44208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2709720" y="4379400"/>
                <a:ext cx="180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2709720" y="4362480"/>
                <a:ext cx="324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2712960" y="4348080"/>
                <a:ext cx="64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2719440" y="4338720"/>
                <a:ext cx="61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2725560" y="4327200"/>
                <a:ext cx="82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2733840" y="432108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2739960" y="4306680"/>
                <a:ext cx="97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2749680" y="430344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2763720" y="4293720"/>
                <a:ext cx="1116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2774880" y="429048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787480" y="4290840"/>
                <a:ext cx="14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801880" y="4290840"/>
                <a:ext cx="414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843280" y="4290840"/>
                <a:ext cx="126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855880" y="4294080"/>
                <a:ext cx="316080" cy="92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3171960" y="4184640"/>
                <a:ext cx="56880" cy="20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3228840" y="4160880"/>
                <a:ext cx="792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3236760" y="414288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 flipV="1">
                <a:off x="3236400" y="412236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3205080" y="4067280"/>
                <a:ext cx="31680" cy="5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 flipV="1">
                <a:off x="3184200" y="4054320"/>
                <a:ext cx="2052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3178080" y="4047840"/>
                <a:ext cx="648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 flipV="1">
                <a:off x="3168720" y="404316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3157200" y="40399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3147480" y="4040280"/>
                <a:ext cx="97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 flipV="1">
                <a:off x="3137040" y="40366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3116160" y="4037040"/>
                <a:ext cx="20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3106800" y="40370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3092400" y="4040280"/>
                <a:ext cx="14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3088800" y="4040280"/>
                <a:ext cx="32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3074760" y="4043520"/>
                <a:ext cx="140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3062160" y="4048200"/>
                <a:ext cx="129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3050640" y="4051440"/>
                <a:ext cx="111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3020760" y="4054320"/>
                <a:ext cx="29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3009600" y="4051440"/>
                <a:ext cx="111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2997000" y="4051440"/>
                <a:ext cx="12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 flipV="1">
                <a:off x="2982960" y="4043520"/>
                <a:ext cx="1440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 flipV="1">
                <a:off x="2968560" y="403992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 flipV="1">
                <a:off x="2955600" y="4027320"/>
                <a:ext cx="12600" cy="1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2944440" y="4012920"/>
                <a:ext cx="111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 flipV="1">
                <a:off x="2938320" y="400320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2931840" y="3989160"/>
                <a:ext cx="612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 flipV="1">
                <a:off x="2924280" y="3975120"/>
                <a:ext cx="7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2920680" y="3957120"/>
                <a:ext cx="32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2921040" y="3933720"/>
                <a:ext cx="1440" cy="23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2917440" y="3912840"/>
                <a:ext cx="32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2917800" y="38736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2917800" y="3852720"/>
                <a:ext cx="32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2921040" y="383184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2921040" y="3824280"/>
                <a:ext cx="14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2921040" y="3814920"/>
                <a:ext cx="79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2928960" y="3787560"/>
                <a:ext cx="9360" cy="2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2938320" y="3763440"/>
                <a:ext cx="2088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2959200" y="3749400"/>
                <a:ext cx="2376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2982960" y="3743280"/>
                <a:ext cx="3024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13200" y="3743280"/>
                <a:ext cx="28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041640" y="374328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051000" y="3743280"/>
                <a:ext cx="82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059280" y="374328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065400" y="3749760"/>
                <a:ext cx="12600" cy="14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078000" y="3763800"/>
                <a:ext cx="208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098880" y="3773520"/>
                <a:ext cx="1728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116160" y="3787920"/>
                <a:ext cx="176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133800" y="3797280"/>
                <a:ext cx="140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3147840" y="3800520"/>
                <a:ext cx="648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154320" y="3808440"/>
                <a:ext cx="144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168720" y="3811680"/>
                <a:ext cx="39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3208320" y="3803760"/>
                <a:ext cx="111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3219480" y="380016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3228840" y="3796920"/>
                <a:ext cx="111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3240000" y="3787920"/>
                <a:ext cx="972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3249720" y="3780000"/>
                <a:ext cx="79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3257640" y="377352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3267000" y="3763440"/>
                <a:ext cx="6480" cy="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3273480" y="3758760"/>
                <a:ext cx="468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3278160" y="374328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3278160" y="3735360"/>
                <a:ext cx="324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3281400" y="3722400"/>
                <a:ext cx="324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3284640" y="371124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3284640" y="3643200"/>
                <a:ext cx="3240" cy="68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 flipV="1">
                <a:off x="3284280" y="3584160"/>
                <a:ext cx="32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 flipV="1">
                <a:off x="3281040" y="3526920"/>
                <a:ext cx="324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 flipV="1">
                <a:off x="3277800" y="3468240"/>
                <a:ext cx="32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 flipV="1">
                <a:off x="3266640" y="3411000"/>
                <a:ext cx="1116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 flipH="1" flipV="1">
              <a:off x="3260520" y="3355920"/>
              <a:ext cx="612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 flipV="1">
              <a:off x="3257280" y="3352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 flipV="1">
              <a:off x="2941560" y="3273480"/>
              <a:ext cx="316080" cy="79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 flipV="1">
              <a:off x="2928600" y="32698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2903040" y="327024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2894040" y="32702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2879640" y="3273480"/>
              <a:ext cx="14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2873160" y="32734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2863440" y="3276720"/>
              <a:ext cx="97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2852280" y="3281400"/>
              <a:ext cx="111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2843280" y="3290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2831760" y="3297240"/>
              <a:ext cx="111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2828520" y="330840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2822400" y="3321000"/>
              <a:ext cx="64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2819520" y="3328920"/>
              <a:ext cx="28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2814480" y="3346560"/>
              <a:ext cx="504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2811600" y="335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11600" y="3367080"/>
              <a:ext cx="14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811600" y="3379680"/>
              <a:ext cx="28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814480" y="338616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814480" y="3394080"/>
              <a:ext cx="79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822400" y="3411360"/>
              <a:ext cx="32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825640" y="3424320"/>
              <a:ext cx="32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28880" y="3441600"/>
              <a:ext cx="1764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846520" y="3468600"/>
              <a:ext cx="126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859120" y="3495600"/>
              <a:ext cx="4680" cy="2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863800" y="351648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2863440" y="3537000"/>
              <a:ext cx="324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2858760" y="3560760"/>
              <a:ext cx="4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2852640" y="3581280"/>
              <a:ext cx="64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43280" y="3598920"/>
              <a:ext cx="93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2814480" y="3619440"/>
              <a:ext cx="2880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2787120" y="3649680"/>
              <a:ext cx="270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2760840" y="3675240"/>
              <a:ext cx="266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2739960" y="3691080"/>
              <a:ext cx="208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2671560" y="3701880"/>
              <a:ext cx="680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2612880" y="37148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 flipV="1">
              <a:off x="2568240" y="3704760"/>
              <a:ext cx="442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 flipV="1">
              <a:off x="2541240" y="3684240"/>
              <a:ext cx="2700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 flipV="1">
              <a:off x="2520720" y="3657240"/>
              <a:ext cx="205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 flipV="1">
              <a:off x="2509560" y="3625920"/>
              <a:ext cx="11160" cy="31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2509920" y="35920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2509920" y="3554280"/>
              <a:ext cx="792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517840" y="3554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Evaluating Information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format of the source present the information in an attractive and clear w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e there special visual features to aid understanding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990720" y="19051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189080" y="19810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9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hecklist for Evaluating a 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3886200" y="2133720"/>
            <a:ext cx="18255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31964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084560" y="22096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2102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3005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052720" y="1138320"/>
            <a:ext cx="6494400" cy="4992480"/>
          </a:xfrm>
          <a:custGeom>
            <a:avLst/>
            <a:gdLst/>
            <a:ahLst/>
            <a:rect l="l" t="t" r="r" b="b"/>
            <a:pathLst>
              <a:path w="2551" h="1856">
                <a:moveTo>
                  <a:pt x="0" y="1674"/>
                </a:moveTo>
                <a:lnTo>
                  <a:pt x="3" y="1713"/>
                </a:lnTo>
                <a:lnTo>
                  <a:pt x="11" y="1748"/>
                </a:lnTo>
                <a:lnTo>
                  <a:pt x="22" y="1779"/>
                </a:lnTo>
                <a:lnTo>
                  <a:pt x="41" y="1806"/>
                </a:lnTo>
                <a:lnTo>
                  <a:pt x="66" y="1825"/>
                </a:lnTo>
                <a:lnTo>
                  <a:pt x="96" y="1842"/>
                </a:lnTo>
                <a:lnTo>
                  <a:pt x="135" y="1853"/>
                </a:lnTo>
                <a:lnTo>
                  <a:pt x="182" y="1856"/>
                </a:lnTo>
                <a:lnTo>
                  <a:pt x="2366" y="1856"/>
                </a:lnTo>
                <a:lnTo>
                  <a:pt x="2413" y="1853"/>
                </a:lnTo>
                <a:lnTo>
                  <a:pt x="2452" y="1842"/>
                </a:lnTo>
                <a:lnTo>
                  <a:pt x="2482" y="1825"/>
                </a:lnTo>
                <a:lnTo>
                  <a:pt x="2510" y="1806"/>
                </a:lnTo>
                <a:lnTo>
                  <a:pt x="2526" y="1779"/>
                </a:lnTo>
                <a:lnTo>
                  <a:pt x="2540" y="1748"/>
                </a:lnTo>
                <a:lnTo>
                  <a:pt x="2548" y="1713"/>
                </a:lnTo>
                <a:lnTo>
                  <a:pt x="2551" y="1674"/>
                </a:lnTo>
                <a:lnTo>
                  <a:pt x="2551" y="185"/>
                </a:lnTo>
                <a:lnTo>
                  <a:pt x="2548" y="146"/>
                </a:lnTo>
                <a:lnTo>
                  <a:pt x="2540" y="110"/>
                </a:lnTo>
                <a:lnTo>
                  <a:pt x="2526" y="80"/>
                </a:lnTo>
                <a:lnTo>
                  <a:pt x="2510" y="52"/>
                </a:lnTo>
                <a:lnTo>
                  <a:pt x="2482" y="30"/>
                </a:lnTo>
                <a:lnTo>
                  <a:pt x="2452" y="14"/>
                </a:lnTo>
                <a:lnTo>
                  <a:pt x="2413" y="3"/>
                </a:lnTo>
                <a:lnTo>
                  <a:pt x="2366" y="0"/>
                </a:lnTo>
                <a:lnTo>
                  <a:pt x="182" y="0"/>
                </a:lnTo>
                <a:lnTo>
                  <a:pt x="135" y="3"/>
                </a:lnTo>
                <a:lnTo>
                  <a:pt x="96" y="14"/>
                </a:lnTo>
                <a:lnTo>
                  <a:pt x="66" y="30"/>
                </a:lnTo>
                <a:lnTo>
                  <a:pt x="41" y="52"/>
                </a:lnTo>
                <a:lnTo>
                  <a:pt x="22" y="80"/>
                </a:lnTo>
                <a:lnTo>
                  <a:pt x="11" y="110"/>
                </a:lnTo>
                <a:lnTo>
                  <a:pt x="3" y="146"/>
                </a:lnTo>
                <a:lnTo>
                  <a:pt x="0" y="185"/>
                </a:lnTo>
                <a:lnTo>
                  <a:pt x="0" y="167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467480" y="5857920"/>
            <a:ext cx="574920" cy="176040"/>
          </a:xfrm>
          <a:prstGeom prst="rect">
            <a:avLst/>
          </a:prstGeom>
          <a:solidFill>
            <a:srgbClr val="d8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298240" y="1773000"/>
            <a:ext cx="6072120" cy="39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274320" rIns="90000" tIns="46800" bIns="46800" anchor="t">
            <a:normAutofit/>
          </a:bodyPr>
          <a:p>
            <a:pPr marL="223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thor of the site is clearly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thor has appropriate credent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ublisher of the site is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te contains contac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putable group has rated the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54440" y="30481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228600" y="171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52" name="" descr=""/>
          <p:cNvPicPr/>
          <p:nvPr/>
        </p:nvPicPr>
        <p:blipFill>
          <a:blip r:embed="rId2"/>
          <a:srcRect l="0" t="2367" r="3127" b="87503"/>
          <a:stretch/>
        </p:blipFill>
        <p:spPr>
          <a:xfrm>
            <a:off x="2286000" y="1295280"/>
            <a:ext cx="60958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3:48:16Z</dcterms:created>
  <dc:creator>037763</dc:creator>
  <dc:description/>
  <dc:language>en-US</dc:language>
  <cp:lastModifiedBy>TDSB</cp:lastModifiedBy>
  <cp:lastPrinted>2005-11-15T13:38:51Z</cp:lastPrinted>
  <dcterms:modified xsi:type="dcterms:W3CDTF">2007-10-19T13:01:58Z</dcterms:modified>
  <cp:revision>9</cp:revision>
  <dc:subject/>
  <dc:title>PowerPoint Presentation</dc:title>
</cp:coreProperties>
</file>